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3.wmf" ContentType="image/x-wmf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9.png" ContentType="image/png"/>
  <Override PartName="/ppt/media/image5.png" ContentType="image/png"/>
  <Override PartName="/ppt/media/image13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32C-F49A-4739-A676-4BF46C19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ECE-B245-4AB1-B6AC-C9C75C1F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7D3-7F19-40DA-81D7-D794B152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979-9ECF-4EFD-AEB0-AC01B880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1E31-18F0-4A29-A844-C9E0581D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21AE-963A-4B4B-B7D6-C6F68B81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2D64-D443-4ADD-8401-BF19BD15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2332-3D4B-4A5E-8D9E-8ED0651B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B190-2EA8-4A84-8210-23DC6214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D38F-C7BF-4A40-814B-403587E0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1C6B-8799-4CAF-AEBF-51535306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1CD-0A4B-4F69-9147-1009CE91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C1A2-A35E-4C06-89EA-7FB8559A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7108-D36B-4C2D-BC08-6EE3FF40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92AC-99E6-459A-A553-E5C175F3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97C3-FB43-4807-B587-B731E06C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F890-0C81-49B4-9F2B-15155F19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D82-9F16-4103-8EB2-F7175A86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ABE-E27C-4C06-9433-5557E8DA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ABC-5B21-4A6C-B276-1187B581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A6B-6924-4E2B-8F0A-1209AF5C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998-6260-4AF8-86F1-5098F520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019-B550-4E4E-BC59-ED3931E9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99B1-B80A-4A35-B442-5661FE9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4AC8-ECE9-4FF4-92D6-7CA7BB3B3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9CCE-39E6-4E43-A2AE-6378FCD66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RINITE ALLERG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4952520"/>
            <a:ext cx="84582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Bookman Old Style"/>
              </a:rPr>
              <a:t>Azienda Policlinico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it-IT" sz="2800" spc="-1" strike="noStrike">
                <a:solidFill>
                  <a:srgbClr val="ffff00"/>
                </a:solidFill>
                <a:latin typeface="Bookman Old Style"/>
              </a:rPr>
              <a:t>Dipartimento di Pediatri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057400"/>
            <a:ext cx="8153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Times New Roman"/>
              </a:rPr>
              <a:t>Mario La Ros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Times New Roman"/>
              </a:rPr>
              <a:t>Salvatore Leonard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Times New Roman"/>
              </a:rPr>
              <a:t>Novella Rotol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Times New Roman"/>
              </a:rPr>
              <a:t>Concetta Sciut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24480" y="380880"/>
            <a:ext cx="1676520" cy="15242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533520"/>
            <a:ext cx="1676520" cy="1523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685800"/>
            <a:ext cx="1676160" cy="1523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7621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Bookman Old Style"/>
              </a:rPr>
              <a:t>Rhiniti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106668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Bookman Old Style"/>
              </a:rPr>
              <a:t>Asthma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144792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Bookman Old Style"/>
              </a:rPr>
              <a:t>BHR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1981080" y="152280"/>
            <a:ext cx="3047760" cy="2362320"/>
            <a:chOff x="1981080" y="152280"/>
            <a:chExt cx="3047760" cy="2362320"/>
          </a:xfrm>
        </p:grpSpPr>
        <p:sp>
          <p:nvSpPr>
            <p:cNvPr id="144" name=""/>
            <p:cNvSpPr/>
            <p:nvPr/>
          </p:nvSpPr>
          <p:spPr>
            <a:xfrm>
              <a:off x="1981080" y="152280"/>
              <a:ext cx="1676160" cy="15238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52680" y="152280"/>
              <a:ext cx="1676160" cy="15238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2840" y="990360"/>
              <a:ext cx="1676520" cy="152424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81080" y="533160"/>
              <a:ext cx="1752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ffff00"/>
                  </a:solidFill>
                  <a:latin typeface="Bookman Old Style"/>
                </a:rPr>
                <a:t>Rhinitis</a:t>
              </a:r>
              <a:endParaRPr b="0" lang="en-US" sz="2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1280" y="533160"/>
              <a:ext cx="1447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ffff00"/>
                  </a:solidFill>
                  <a:latin typeface="Bookman Old Style"/>
                </a:rPr>
                <a:t>Asthma</a:t>
              </a:r>
              <a:endParaRPr b="0" lang="en-US" sz="2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1440" y="167616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Bookman Old Style"/>
                </a:rPr>
                <a:t>BHR</a:t>
              </a:r>
              <a:endParaRPr b="0" lang="en-US" sz="2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505320" y="3352680"/>
            <a:ext cx="2438280" cy="2438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1" name="PE01561_" descr=""/>
          <p:cNvPicPr/>
          <p:nvPr/>
        </p:nvPicPr>
        <p:blipFill>
          <a:blip r:embed="rId3"/>
          <a:stretch/>
        </p:blipFill>
        <p:spPr>
          <a:xfrm>
            <a:off x="3733920" y="3817800"/>
            <a:ext cx="1981080" cy="1314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114800" y="342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Bookman Old Style"/>
              </a:rPr>
              <a:t>Allerg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105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Bookman Old Style"/>
              </a:rPr>
              <a:t>Disea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32004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Bookman Old Style"/>
              </a:rPr>
              <a:t>Patient educ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31845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Bookman Old Style"/>
              </a:rPr>
              <a:t>Allergen avoidan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501336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Bookman Old Style"/>
              </a:rPr>
              <a:t>Specific immunotherap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51814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Bookman Old Style"/>
              </a:rPr>
              <a:t>Medic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Bookman Old Style"/>
              </a:rPr>
              <a:t>Optimal treatmen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500000">
            <a:off x="2666520" y="3657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33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 rot="20100000">
            <a:off x="2666520" y="5029200"/>
            <a:ext cx="838440" cy="228960"/>
          </a:xfrm>
          <a:prstGeom prst="rightArrow">
            <a:avLst>
              <a:gd name="adj1" fmla="val 50000"/>
              <a:gd name="adj2" fmla="val 91549"/>
            </a:avLst>
          </a:prstGeom>
          <a:solidFill>
            <a:srgbClr val="ff33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2300000">
            <a:off x="5943600" y="5028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33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8943000">
            <a:off x="5790960" y="35805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33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57913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solidFill>
            <a:srgbClr val="ff33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867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DIAGNOS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4021200"/>
            <a:ext cx="883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AMNES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ESAM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TES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BIETTIVO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2895480"/>
            <a:ext cx="228600" cy="121932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ff00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rot="18007800">
            <a:off x="5389200" y="2255400"/>
            <a:ext cx="203400" cy="2297160"/>
          </a:xfrm>
          <a:prstGeom prst="downArrow">
            <a:avLst>
              <a:gd name="adj1" fmla="val 50000"/>
              <a:gd name="adj2" fmla="val 282345"/>
            </a:avLst>
          </a:prstGeom>
          <a:solidFill>
            <a:srgbClr val="ff00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rot="3615000">
            <a:off x="3408840" y="2229480"/>
            <a:ext cx="203040" cy="2297160"/>
          </a:xfrm>
          <a:prstGeom prst="downArrow">
            <a:avLst>
              <a:gd name="adj1" fmla="val 50000"/>
              <a:gd name="adj2" fmla="val 282846"/>
            </a:avLst>
          </a:prstGeom>
          <a:solidFill>
            <a:srgbClr val="ff00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25146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0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Bookman Old Style"/>
              </a:rPr>
              <a:t>RINITE ALLERGIC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752480"/>
            <a:ext cx="82296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Sintomi: entità , durata....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Fattori scatenanti: (stagionalità, ambiente..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Presenza di altri sintomi ( dermatite, asma,      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    </a:t>
            </a: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congiuntivite 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Familiarità per atop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Fumo di sigaretta, odori, freddo, pioggia, str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Terapia effettu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3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Esame obiettiv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905120"/>
            <a:ext cx="8762760" cy="42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STATO DELLA MUCOSA NASA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PRESENZA DI IPERTROFIA DEI TURBIN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POLIPOSI NASA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DEVIAZIONE DEL SETT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PIEGA NASALE TRASVERSA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OCCHIAI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6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ookman Old Style"/>
              </a:rPr>
              <a:t>TESTS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905120"/>
            <a:ext cx="883908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PRICK TES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IGE TOT   O   SPECIFICH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TEST DI PROVOCAZIONE NASALE SPECIFIC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FUNZIONALITA’ POLMONA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AUDIOMETR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RX    PARANASAL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CITOLOGIA NASA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9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TERAPI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ANTISTAMINIC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CORTICOSTEROID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CROMON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DECONGESTIONANT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I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2" name="Unictgif2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ookman Old Style"/>
              </a:rPr>
              <a:t>ANTISTAMINICI</a:t>
            </a: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354400"/>
            <a:ext cx="853416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RMACO D’ELEZIO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UPLICE VIA DI SOMMINISTRAZIO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IDUZIONE DEI SINTOM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FFETTI COLLATERALI :  GASTROINTESTINALI ,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SONNIA  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4864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SSOCIAZIONE ANTISTAMINICO- ANTILEUCOTRIENIC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6095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MELTZER EO : J ALLRGY CLIN IMMUNOL 2000; 105 :917-92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7" name="Unictgif2" descr=""/>
          <p:cNvPicPr/>
          <p:nvPr/>
        </p:nvPicPr>
        <p:blipFill>
          <a:blip r:embed="rId6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CORTICOSTEROIDI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Topic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828800"/>
            <a:ext cx="87631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Utilizzato soprattutto secondo necessità , ma è il farmaco di    elezione poiché riduce non solo del 50% la sintomatologia, ma netta   riduzione  degli eosinofil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Con le dosi raccomandate non si hanno effetti collaterali   sistemic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Sono possibili solo effetti locali quali bruciore, prurito epistassi</a:t>
            </a:r>
            <a:r>
              <a:rPr b="0" lang="it-IT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63244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Naclerio R: J Allergy Clin Imm 2000; 105: 732-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Unictgif2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DECONGESTIONANT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900080"/>
            <a:ext cx="8381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Bookman Old Style"/>
              </a:rPr>
              <a:t>Si utilizzano solo per brevi periodi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Bookman Old Style"/>
              </a:rPr>
              <a:t>    </a:t>
            </a:r>
            <a:r>
              <a:rPr b="1" lang="it-IT" sz="3200" spc="-1" strike="noStrike">
                <a:solidFill>
                  <a:srgbClr val="ffff00"/>
                </a:solidFill>
                <a:latin typeface="Bookman Old Style"/>
              </a:rPr>
              <a:t>(massimo 10 giorni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Bookman Old Style"/>
              </a:rPr>
              <a:t>Tachifilassi per effetto congestizio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Bookman Old Style"/>
              </a:rPr>
              <a:t>     </a:t>
            </a:r>
            <a:r>
              <a:rPr b="1" lang="it-IT" sz="32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1" lang="it-IT" sz="32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1" lang="it-IT" sz="32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1" lang="it-IT" sz="3200" spc="-1" strike="noStrike">
                <a:solidFill>
                  <a:srgbClr val="ffff00"/>
                </a:solidFill>
                <a:latin typeface="Bookman Old Style"/>
              </a:rPr>
              <a:t>paradosso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597384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Rinite medicamentos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800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6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DISODIOCROMOGLICA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817720"/>
            <a:ext cx="8534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Agisce stabilizzando le mastcellule e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inibisce il rilascio dei mediatori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Deve essere somministrato nella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profilassi e mai nelle crisi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9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RINITE ALLERGICA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Bookman Old Style"/>
              </a:rPr>
              <a:t>Definizio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981080"/>
            <a:ext cx="8534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Bookman Old Style"/>
              </a:rPr>
              <a:t>Ostruzione nasale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3600" spc="-1" strike="noStrike">
                <a:solidFill>
                  <a:srgbClr val="ffff00"/>
                </a:solidFill>
                <a:latin typeface="Bookman Old Style"/>
              </a:rPr>
              <a:t>con o senza ipersecrezione e starnuti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25780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RINITE ALLERGICA STAGIONAL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RINITE ALLERGICA PERENN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9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495680" y="3962520"/>
            <a:ext cx="685800" cy="1218960"/>
          </a:xfrm>
          <a:prstGeom prst="downArrow">
            <a:avLst>
              <a:gd name="adj1" fmla="val 50000"/>
              <a:gd name="adj2" fmla="val 44436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ratteristiche dei trattamenti farmacologic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99880" y="1755720"/>
          <a:ext cx="7966080" cy="4961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9880" y="1755720"/>
                    <a:ext cx="7966080" cy="49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Unictgif2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Bookman Old Style"/>
              </a:rPr>
              <a:t>ITS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2389320"/>
            <a:ext cx="883944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Bookman Old Style"/>
              </a:rPr>
              <a:t>RESISTENZA ALLA FARMACO TERAP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Bookman Old Style"/>
              </a:rPr>
              <a:t>PRECOCEMEN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Bookman Old Style"/>
              </a:rPr>
              <a:t>MODIFICA FAVOREVOLMENTE IL CORSO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it-IT" sz="2800" spc="-1" strike="noStrike">
                <a:solidFill>
                  <a:srgbClr val="ffff00"/>
                </a:solidFill>
                <a:latin typeface="Bookman Old Style"/>
              </a:rPr>
              <a:t>NATURALE DELLE MALATTIE ALLERGICH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52480" y="30492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MUNOTERAPIA SPECIFICA IN PAZIENTI CON ASMA E RINI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286000"/>
            <a:ext cx="25146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057400"/>
            <a:ext cx="29718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RINITE MODERAT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PIU’ CONGIUNTIVIT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1676520"/>
            <a:ext cx="31240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RINITE SEVER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PIU’ CONGIUNTIVIT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2971800"/>
            <a:ext cx="853416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3505320"/>
            <a:ext cx="464796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CONSIDERARE L’IMMUNOTERAP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4952880"/>
            <a:ext cx="22096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ASM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INTERMIRTTENT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4724280"/>
            <a:ext cx="213372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ASMA LIEV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PERSISTENT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4495680"/>
            <a:ext cx="2133360" cy="1219320"/>
          </a:xfrm>
          <a:prstGeom prst="rect">
            <a:avLst/>
          </a:prstGeom>
          <a:solidFill>
            <a:srgbClr val="ff66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ASM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PERSISTENT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MODERATO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4191120"/>
            <a:ext cx="2057400" cy="1523880"/>
          </a:xfrm>
          <a:prstGeom prst="rect">
            <a:avLst/>
          </a:prstGeom>
          <a:solidFill>
            <a:srgbClr val="ff00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867280"/>
            <a:ext cx="853416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ARMACOTERAP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6477120"/>
            <a:ext cx="44956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ONSIDERARE L’IMMUNOTERAP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2362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RINITE LIEV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296856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PROFILASSI ALLERGICA (QUANDO POSSIBIL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0280" y="44956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ASM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PERSISTENTE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GRAV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2" name="Unictgif2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33720" y="3049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INITE ALLERGICA STAGIONA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1676520"/>
            <a:ext cx="3733920" cy="7617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OSA FARE PER LA TERAPIA?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04812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Sintomi lievi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31240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o sintomi occasionali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962520"/>
            <a:ext cx="1828800" cy="12952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NTISTAMINIC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RALE O NASAL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(CROMONI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09480" y="3048120"/>
            <a:ext cx="228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962520"/>
            <a:ext cx="1981080" cy="1371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ccec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ORTICOSTEROID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ASAL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25146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ff00"/>
                </a:solidFill>
                <a:latin typeface="Times New Roman"/>
              </a:rPr>
              <a:t>Sintomi                      moderat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251460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ff00"/>
                </a:solidFill>
                <a:latin typeface="Times New Roman"/>
              </a:rPr>
              <a:t>O di lunga                  durat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58200" y="304812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3048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77120" y="2590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Sintomi severi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3962520"/>
            <a:ext cx="2290680" cy="13107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ORTICOSTEROID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ASAL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IU’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NTISTAMINIC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RALI/NASAL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077320" y="53341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571640" y="5638680"/>
            <a:ext cx="3505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638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563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Controllo inadeguato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6095880"/>
            <a:ext cx="632448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GGIUNGERE ALTRA TERAPIA SINTOMATIC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REVE RICORSO AGLI STEROIDI ORAL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ONSIDERARE L’IMMUNOTERAPI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4648320"/>
            <a:ext cx="1447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9200" y="396252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Controllo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inadeguato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46483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Controllo inadeguato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5480" y="2438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2438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24382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83808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0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851120" y="1754280"/>
          <a:ext cx="6280200" cy="474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1120" y="1754280"/>
                    <a:ext cx="628020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Unictgif2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981080" y="3808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INITE ALLERGICA PEREN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EI BAMBIN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1371600" y="380880"/>
          <a:ext cx="7543800" cy="608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80880"/>
                    <a:ext cx="754380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Unictgif2" descr=""/>
          <p:cNvPicPr/>
          <p:nvPr/>
        </p:nvPicPr>
        <p:blipFill>
          <a:blip r:embed="rId4"/>
          <a:stretch/>
        </p:blipFill>
        <p:spPr>
          <a:xfrm>
            <a:off x="76320" y="152280"/>
            <a:ext cx="1218960" cy="1209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CONCLUSIO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167652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 sintomi rappresentano solo la punta dell’iceberg mentre la realtà sommersa  consiste nello stato infiammatorio della mucosa che aumenta progressivamente per tutta la stagio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3657600"/>
            <a:ext cx="89154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l trattamento secondo necessità non è il più idone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a cura più razionale si basa su un trattamento a lungo termine  che abbia un importante effetto anti-infiammatori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1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Caratteristiche della rinite allergic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1880" y="1986120"/>
          <a:ext cx="7736040" cy="5541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880" y="1986120"/>
                    <a:ext cx="773604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Unictgif2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RINITE ALLERGICA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Epidemiolog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ETA’ GIOVANILE (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2°-3° DECADE DI VITA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MENO FREQUENTE NELLA 1° DECADE DI VIT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SESSO FEMMIN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50% FAMILIARITA’ PER ATOPI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7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Bookman Old Style"/>
              </a:rPr>
              <a:t>RINITE ALLERGICA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Bookman Old Style"/>
              </a:rPr>
              <a:t>Patogenes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1905120"/>
            <a:ext cx="8991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1° esposizio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ANTIGENE             SOGG.ATOPICO          SENSIBILIZZAZIONE</a:t>
            </a:r>
            <a:r>
              <a:rPr b="0" lang="it-IT" sz="2400" spc="-1" strike="noStrike">
                <a:solidFill>
                  <a:srgbClr val="ccec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2286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124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ccessive esposizion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ose nasale                Diminuzione motilità cilia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4876920"/>
            <a:ext cx="4648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Formazione di edem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Infiltrazione leucocitar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Eosinofil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2286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105160" y="4495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PATOGENES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981080"/>
            <a:ext cx="609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Bookman Old Style"/>
              </a:rPr>
              <a:t>Continua esposizione          Ipertrofia            </a:t>
            </a:r>
            <a:r>
              <a:rPr b="1" lang="en-US" sz="21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1" lang="en-US" sz="2100" spc="-1" strike="noStrike">
                <a:solidFill>
                  <a:srgbClr val="ffff00"/>
                </a:solidFill>
                <a:latin typeface="Bookman Old Style"/>
              </a:rPr>
              <a:t>all’allergene             sottomucosa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83000" y="1523880"/>
            <a:ext cx="2652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100" spc="-1" strike="noStrike">
                <a:solidFill>
                  <a:srgbClr val="ffff00"/>
                </a:solidFill>
                <a:latin typeface="Bookman Old Style"/>
              </a:rPr>
              <a:t>Assottigliamento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100" spc="-1" strike="noStrike">
                <a:solidFill>
                  <a:srgbClr val="ffff00"/>
                </a:solidFill>
                <a:latin typeface="Bookman Old Style"/>
              </a:rPr>
              <a:t>membrana basale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09880" y="2286000"/>
            <a:ext cx="976320" cy="257040"/>
          </a:xfrm>
          <a:prstGeom prst="rightArrow">
            <a:avLst>
              <a:gd name="adj1" fmla="val 50000"/>
              <a:gd name="adj2" fmla="val 949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9932000">
            <a:off x="5592600" y="1974600"/>
            <a:ext cx="698760" cy="247680"/>
          </a:xfrm>
          <a:prstGeom prst="rightArrow">
            <a:avLst>
              <a:gd name="adj1" fmla="val 50000"/>
              <a:gd name="adj2" fmla="val 705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068800">
            <a:off x="5579640" y="2373480"/>
            <a:ext cx="685800" cy="236520"/>
          </a:xfrm>
          <a:prstGeom prst="rightArrow">
            <a:avLst>
              <a:gd name="adj1" fmla="val 50000"/>
              <a:gd name="adj2" fmla="val 7248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2514600"/>
            <a:ext cx="2743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Bookman Old Style"/>
              </a:rPr>
              <a:t>Formazione di cellule schiumose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809880"/>
            <a:ext cx="640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Bookman Old Style"/>
              </a:rPr>
              <a:t>Reazione IgE mediata</a:t>
            </a:r>
            <a:r>
              <a:rPr b="1" lang="it-IT" sz="21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1" lang="it-IT" sz="2100" spc="-1" strike="noStrike">
                <a:solidFill>
                  <a:srgbClr val="ffff00"/>
                </a:solidFill>
                <a:latin typeface="Bookman Old Style"/>
              </a:rPr>
              <a:t>        mastociti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3886200"/>
            <a:ext cx="976320" cy="257040"/>
          </a:xfrm>
          <a:prstGeom prst="rightArrow">
            <a:avLst>
              <a:gd name="adj1" fmla="val 50000"/>
              <a:gd name="adj2" fmla="val 949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3809880"/>
            <a:ext cx="297180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2100" spc="-1" strike="noStrike">
                <a:solidFill>
                  <a:srgbClr val="ffff00"/>
                </a:solidFill>
                <a:latin typeface="Bookman Old Style"/>
              </a:rPr>
              <a:t>Istamina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2100" spc="-1" strike="noStrike">
                <a:solidFill>
                  <a:srgbClr val="ffff00"/>
                </a:solidFill>
                <a:latin typeface="Bookman Old Style"/>
              </a:rPr>
              <a:t>Chinina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Bookman Old Style"/>
              </a:rPr>
              <a:t>Leucotrieni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it-IT" sz="1900" spc="-1" strike="noStrike">
                <a:solidFill>
                  <a:srgbClr val="ffff00"/>
                </a:solidFill>
                <a:latin typeface="Bookman Old Style"/>
              </a:rPr>
              <a:t>LTC4, LTCD4, LTE4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60958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Bookman Old Style"/>
              </a:rPr>
              <a:t>“ </a:t>
            </a:r>
            <a:r>
              <a:rPr b="1" lang="it-IT" sz="2100" spc="-1" strike="noStrike">
                <a:solidFill>
                  <a:srgbClr val="ffff00"/>
                </a:solidFill>
                <a:latin typeface="Bookman Old Style"/>
              </a:rPr>
              <a:t>Effetto Priming “</a:t>
            </a: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8" name="Unictgif2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SINTOM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433520"/>
            <a:ext cx="8839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624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Ostruzione nasa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624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Rinorre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624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Starnuti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624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Prurito, arrossamento e irritazione congiuntiv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624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Asm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624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Sinusit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1" name="Unictgif2" descr=""/>
          <p:cNvPicPr/>
          <p:nvPr/>
        </p:nvPicPr>
        <p:blipFill>
          <a:blip r:embed="rId8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Bookman Old Style"/>
              </a:rPr>
              <a:t>RINITE E AS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620720"/>
            <a:ext cx="87631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RAPPORTO VIE AEREE SUPERIORI E INFERIOR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iflesso naso-bronchia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pirazione ora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pirazione polmonare di materiale nasa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 pazienti con rinite allergica e asma il test di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vocazione nasale determina aumento della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attività bronchia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RINITE E AS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75248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ff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Infiammazione nasa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Attivazione endoteli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Attivazione cc infiammatorie circolan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Arrivo cellule nel tratto bronchia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Infiammazio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066680" y="2285280"/>
            <a:ext cx="609840" cy="304920"/>
          </a:xfrm>
          <a:custGeom>
            <a:avLst/>
            <a:gdLst>
              <a:gd name="textAreaLeft" fmla="*/ 0 w 609840"/>
              <a:gd name="textAreaRight" fmla="*/ 610200 w 60984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09680" y="2894760"/>
            <a:ext cx="609840" cy="304920"/>
          </a:xfrm>
          <a:custGeom>
            <a:avLst/>
            <a:gdLst>
              <a:gd name="textAreaLeft" fmla="*/ 0 w 609840"/>
              <a:gd name="textAreaRight" fmla="*/ 610200 w 60984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429000" y="3428280"/>
            <a:ext cx="609480" cy="304920"/>
          </a:xfrm>
          <a:custGeom>
            <a:avLst/>
            <a:gdLst>
              <a:gd name="textAreaLeft" fmla="*/ 0 w 609480"/>
              <a:gd name="textAreaRight" fmla="*/ 609840 w 609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19720" y="3962520"/>
            <a:ext cx="609480" cy="304560"/>
          </a:xfrm>
          <a:custGeom>
            <a:avLst/>
            <a:gdLst>
              <a:gd name="textAreaLeft" fmla="*/ 0 w 609480"/>
              <a:gd name="textAreaRight" fmla="*/ 609840 w 609480"/>
              <a:gd name="textAreaTop" fmla="*/ 360 h 304560"/>
              <a:gd name="textAreaBottom" fmla="*/ 305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800600"/>
            <a:ext cx="7619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ff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Sostanze nel naso ad azione spasmogen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Polmone ( per contiguità 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Ostruzione bronchia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600200" y="5334120"/>
            <a:ext cx="609480" cy="304560"/>
          </a:xfrm>
          <a:custGeom>
            <a:avLst/>
            <a:gdLst>
              <a:gd name="textAreaLeft" fmla="*/ 0 w 609480"/>
              <a:gd name="textAreaRight" fmla="*/ 609840 w 609480"/>
              <a:gd name="textAreaTop" fmla="*/ 360 h 304560"/>
              <a:gd name="textAreaBottom" fmla="*/ 305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895480" y="5866560"/>
            <a:ext cx="609840" cy="304920"/>
          </a:xfrm>
          <a:custGeom>
            <a:avLst/>
            <a:gdLst>
              <a:gd name="textAreaLeft" fmla="*/ 0 w 609840"/>
              <a:gd name="textAreaRight" fmla="*/ 610200 w 60984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4612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Togias A. (Allergy 1999; 54: 94-105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10:01:02Z</dcterms:created>
  <dc:creator>Dott.ssa Novella Rotolo</dc:creator>
  <dc:description>con la cortese collaborazione del dott. Giacomo Tornambene</dc:description>
  <dc:language>en-US</dc:language>
  <cp:lastModifiedBy>dott. Giacomo Tornambene</cp:lastModifiedBy>
  <cp:lastPrinted>2001-10-24T11:02:27Z</cp:lastPrinted>
  <dcterms:modified xsi:type="dcterms:W3CDTF">2001-11-09T00:19:27Z</dcterms:modified>
  <cp:revision>47</cp:revision>
  <dc:subject/>
  <dc:title>RINITE ALLERGICA</dc:title>
</cp:coreProperties>
</file>