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2B4D-D968-4317-934E-82160329EF3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792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4760" y="870588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1440" y="870588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792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792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4760" y="870588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1440" y="870588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792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792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4760" y="8705880"/>
            <a:ext cx="297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549360"/>
                <a:tab algn="l" pos="1098720"/>
                <a:tab algn="l" pos="1647720"/>
                <a:tab algn="l" pos="2197080"/>
                <a:tab algn="l" pos="2746440"/>
                <a:tab algn="l" pos="3295800"/>
                <a:tab algn="l" pos="3844800"/>
                <a:tab algn="l" pos="4394160"/>
                <a:tab algn="l" pos="4943520"/>
                <a:tab algn="l" pos="5492880"/>
                <a:tab algn="l" pos="6041880"/>
                <a:tab algn="l" pos="6591240"/>
                <a:tab algn="l" pos="7140600"/>
                <a:tab algn="l" pos="7689960"/>
                <a:tab algn="l" pos="8238960"/>
                <a:tab algn="l" pos="8788320"/>
                <a:tab algn="l" pos="9337680"/>
                <a:tab algn="l" pos="9887040"/>
                <a:tab algn="l" pos="10436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870588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-1440" y="7920"/>
            <a:ext cx="297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7920"/>
            <a:ext cx="2973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4760" y="8707320"/>
            <a:ext cx="2973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440" y="8707320"/>
            <a:ext cx="29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7920"/>
            <a:ext cx="2971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5000" cy="32065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2960" y="4347720"/>
            <a:ext cx="503064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1B1-A3C7-4783-BD3E-0308AE17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6AF-A9B1-4319-AEDE-D13B3C2B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458-9353-4D22-928C-4A062C88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2E9-0F71-41A5-A693-94572032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1FC-6840-4C38-B491-79EAF3EE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663-C4E9-4332-BF4A-411F2EA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A6F-0238-4E2D-8F4B-EBB37748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944-857B-4CDC-95D2-BEA1C016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990-023D-4597-80E5-3EC0522D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877-0D3A-43EA-BCD7-301DA01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7C9-AF9A-4A50-B783-1C530D3B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F8B-27AF-45C8-84DF-2E3E7C8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5F35-57D9-4781-9F90-85808207C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52760" cy="345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5053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imes New Roman"/>
              </a:rPr>
              <a:t>Le infezioni respiratorie ricorrenti: un approccio integr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257800"/>
            <a:ext cx="838188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rio La Rosa,  Dipartimento di Pediatr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O Broncopneumologia, Allergologia e Fibrosi Cistica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Cat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772400" y="5562720"/>
            <a:ext cx="105876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294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63800" y="2932200"/>
          <a:ext cx="682776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2932200"/>
                    <a:ext cx="682776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09480" y="1295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Numeri di episodi </a:t>
            </a:r>
            <a:br>
              <a:rPr sz="3200"/>
            </a:b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per avviare l’iter diagno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596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Conseguenze delle  IR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371600"/>
            <a:ext cx="7696440" cy="37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cc0066"/>
                </a:solidFill>
                <a:latin typeface="Times New Roman"/>
              </a:rPr>
              <a:t>regolare uso di antibio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non previene la comparsa di nuove infez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non protegge da attacchi vi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sviluppo di resistenze batte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rovoca sensibilizzazioni allergiche agli antibio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effetti collat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costi +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181480"/>
            <a:ext cx="7924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Diminuita qualità di vita (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assenza scolastica, ridotto sviluppo del linguaggio,  disturbi cognitivi e psicologi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267080"/>
            <a:ext cx="792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Utilizzo di terapie sintomatiche incapaci di modificare la storia    naturale della malat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26720" y="304560"/>
            <a:ext cx="6953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Emocromo con formula leucoc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Dosaggio delle immunoglobuline sie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rotidogramma elettrofor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Rx dei seni paranas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Test del sud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rick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Tampone faring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2193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Indagini di 1° live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Intradermoreazione secondo Manto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Sottopopolazoioni linfocita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Rx To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Prove di funzionalità respir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pHme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Clearance mucocili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905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ndagini di 2° liv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480" y="894960"/>
            <a:ext cx="6953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Immunodeficienze prim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Fibrosi Ci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Sindrome delle ciglia immo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Anomalie anatomiche delle vie ae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Deficit di </a:t>
            </a:r>
            <a:r>
              <a:rPr b="0" lang="it-IT" sz="28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1 antitrips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Ipertrofia delle adeno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905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Diagnosi differenz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6240" y="2409840"/>
          <a:ext cx="736740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409840"/>
                    <a:ext cx="73674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33400" y="1101600"/>
            <a:ext cx="5677200" cy="5521320"/>
          </a:xfrm>
          <a:custGeom>
            <a:avLst/>
            <a:gdLst>
              <a:gd name="textAreaLeft" fmla="*/ 1296000 w 5677200"/>
              <a:gd name="textAreaRight" fmla="*/ 4381200 w 5677200"/>
              <a:gd name="textAreaTop" fmla="*/ 1260360 h 5521320"/>
              <a:gd name="textAreaBottom" fmla="*/ 4260960 h 552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967120" y="2171880"/>
          <a:ext cx="3506760" cy="32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7120" y="2171880"/>
                    <a:ext cx="350676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02960" y="1327320"/>
            <a:ext cx="24660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hrombocy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1760" y="892080"/>
            <a:ext cx="31867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humoral i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6760" y="1895400"/>
            <a:ext cx="211464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monocyte / macrophage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69120" y="3575160"/>
            <a:ext cx="17715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8360" y="5708520"/>
            <a:ext cx="25938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rgan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06800" y="6242040"/>
            <a:ext cx="29750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ommensal flo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" y="4336920"/>
            <a:ext cx="363024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mucous membra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iliary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360" y="2616120"/>
            <a:ext cx="23410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granulocy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92560" y="54000"/>
            <a:ext cx="615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4000" spc="-1" strike="noStrike">
                <a:solidFill>
                  <a:srgbClr val="fafd00"/>
                </a:solidFill>
                <a:latin typeface="Arial"/>
              </a:rPr>
              <a:t>Normal defense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421080" y="76320"/>
            <a:ext cx="2166840" cy="67053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360" y="219240"/>
            <a:ext cx="3314880" cy="71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KIN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N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RAL VENOUS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MMAYA RESERVO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LADDER CATH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HEMO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ADIO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UNDERLYING MALIGN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TI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TIBI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2760" y="463680"/>
            <a:ext cx="3316320" cy="71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OUS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LIA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UL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CYTE/MACRO- PHA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SAL FL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ORAL I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56000" y="2440080"/>
            <a:ext cx="213048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Arial"/>
              </a:rPr>
              <a:t>Factors influencing the human defense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953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14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cc"/>
                </a:solidFill>
                <a:latin typeface="Times New Roman"/>
              </a:rPr>
              <a:t>N.ro superiore a quello att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2057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Anamn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2895480"/>
            <a:ext cx="3352680" cy="459720"/>
          </a:xfrm>
          <a:prstGeom prst="rect">
            <a:avLst/>
          </a:prstGeom>
          <a:solidFill>
            <a:srgbClr val="f32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spet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olog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895480"/>
            <a:ext cx="990720" cy="459720"/>
          </a:xfrm>
          <a:prstGeom prst="rect">
            <a:avLst/>
          </a:prstGeom>
          <a:solidFill>
            <a:srgbClr val="f32a0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ff31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d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800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dividuare ed eliminare fat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53341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RR regredisc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RR persist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400800"/>
            <a:ext cx="3124080" cy="459720"/>
          </a:xfrm>
          <a:prstGeom prst="rect">
            <a:avLst/>
          </a:prstGeom>
          <a:solidFill>
            <a:srgbClr val="f32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2a0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a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00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6095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Altre ind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937000">
            <a:off x="1333440" y="48384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230800">
            <a:off x="5410080" y="426672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600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96252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d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6095880"/>
            <a:ext cx="1219320" cy="398880"/>
          </a:xfrm>
          <a:prstGeom prst="rect">
            <a:avLst/>
          </a:prstGeom>
          <a:solidFill>
            <a:srgbClr val="f32a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n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644000">
            <a:off x="6324120" y="43434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9644000">
            <a:off x="2895120" y="4800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5053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4290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54100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5334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57150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212200">
            <a:off x="2438280" y="236196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2108600">
            <a:off x="5257440" y="23619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Quale approccio terapeut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01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66"/>
                </a:solidFill>
                <a:latin typeface="Times New Roman"/>
              </a:rPr>
              <a:t>Bambino che si amma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- più di 6 volte al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- più di una volta al m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- nei mesi compresi tra Settembre ed Ap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523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Defini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95480" y="152280"/>
            <a:ext cx="69530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Vacc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ff00"/>
                </a:solidFill>
                <a:latin typeface="Times New Roman"/>
              </a:rPr>
              <a:t>Princi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uso 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organismi morti (colera-rabb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organismi attenuati (Sabin - tuberculosis - rubel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subunità vacciniche contenenti antigeni protettivi specifici (Hepatitis B - N . meningitid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tossine (tetano - difter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0666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biet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fornire un efficace risposta immun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adeguato livello di anticorpi e/o linfociti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primed population delle cellule del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che possono rapidamente duplicarsi al contatto con gli Anti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1676520"/>
            <a:ext cx="472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Immunizzazione at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3124080"/>
            <a:ext cx="6629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accino per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accino per Pneumococ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accino per Haemophi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30481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Proteoglicani di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Attivazione dei macrofagi e granulociti neutrof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stimolo delle cellule NK (azione antivira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Attivazione dei linfociti T 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828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33cc"/>
                </a:solidFill>
                <a:latin typeface="Times New Roman"/>
              </a:rPr>
              <a:t>Immunostimolazione aspecif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Vacci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6200" y="1980720"/>
            <a:ext cx="7369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Uso degli adiuvanti</a:t>
            </a:r>
            <a:br>
              <a:rPr sz="3200"/>
            </a:b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Obiettivo : potenziare  la risposta                    immun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Stimolazion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risposta immunitaria aspeci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risposta immunitaria speci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cc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28 lavori clinici pubbli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1500"/>
              </a:spcBef>
              <a:buClr>
                <a:srgbClr val="cc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14.213 pazienti bambini ed ad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1500"/>
              </a:spcBef>
              <a:buClr>
                <a:srgbClr val="cc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9 studi randomizzati ed in doppio cieco vs placebo, 3 studi randomizzati vs placebo, 16 studi in aperto su ampia cas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1500"/>
              </a:spcBef>
              <a:buClr>
                <a:srgbClr val="cc0066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end points comuni: numero di infezioni e cicli di antibiotic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240" indent="-37296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riduzione dell’incidenza di riacutizzazioni p&lt;0.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240" indent="-37296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riduzione della sintomatologia cli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240" indent="-37296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aumento dei parametri immunologici (IgA,IgG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fociti 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15328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-analisi degli studi clin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733960" y="6567480"/>
            <a:ext cx="3214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8160" y="6566040"/>
            <a:ext cx="1162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oyl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Meta-analisi: risulta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33960" y="6567480"/>
            <a:ext cx="3214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8160" y="6566040"/>
            <a:ext cx="1162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oyl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522440"/>
          <a:ext cx="925200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22440"/>
                    <a:ext cx="92520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La  nostra visione dei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ermi</a:t>
            </a:r>
            <a:r>
              <a:rPr b="1" lang="en-US" sz="5400" spc="-1" strike="noStrike">
                <a:solidFill>
                  <a:srgbClr val="008000"/>
                </a:solidFill>
                <a:latin typeface="Times New Roman"/>
              </a:rPr>
              <a:t>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ti i batteri sono brutti e cattiv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 c’ è problema....  Abbiamo gli antibiotici...Ed anche gli antibatterici domest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 uccideremo tutt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Slide1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colonizzazione batterica del col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1440" y="2133720"/>
            <a:ext cx="799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76680" y="990720"/>
            <a:ext cx="3319200" cy="17524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-11 miliardi/gram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981080"/>
            <a:ext cx="7924680" cy="923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brutt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acillus Bacterioides, Bifidobacterium,Clostridium, Eubacte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3505320"/>
            <a:ext cx="7991280" cy="138564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cattiv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lostridium,Peptostreptococcus,Bacteri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 producono ammonio,composti fenolici, am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840" y="5410080"/>
            <a:ext cx="7991280" cy="12942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buon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Bifidobacterium, Eubacterium, Lactobaci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Producono ac grassi a catena corta,sono generalmente saccaroliti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7024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Batteri bu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440" y="2743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I “batteri lattici” possono essere considerati batteri "buoni" in quanto sono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coinvolti positivamente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 in diversi processi produttivi riguardanti soprattutto il settore agro-alimentare e quello dietetico-farmaceutico. Hanno forma bastoncellare o coccoide, sono microaerofili, anaerobi facoltativi o anaerobi obbligati.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Fermentano gli zuccheri semplici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 (glucosio, lattosio, ect.), dando origine ad acido lattico,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acidificando quindi l’ambiente in cui si sono sviluppa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Eziolo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981080"/>
          <a:ext cx="9078840" cy="781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078840" cy="781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eccanismo competi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I lattobacilli rappresentano una parte importante della flora intestinale anche nell'adulto e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la loro presenza nella giusta proporzione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, è determinante per </a:t>
            </a: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proteggere l'organismo da vari disturbi intestinali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ub1f2" descr=""/>
          <p:cNvPicPr/>
          <p:nvPr/>
        </p:nvPicPr>
        <p:blipFill>
          <a:blip r:embed="rId1"/>
          <a:stretch/>
        </p:blipFill>
        <p:spPr>
          <a:xfrm>
            <a:off x="685800" y="2909880"/>
            <a:ext cx="42829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228600"/>
            <a:ext cx="7086600" cy="107568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i funzioni della flora intesti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219320"/>
            <a:ext cx="7467480" cy="239148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etabol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ermentazione dei residui non digeriti della dieta e del muco endog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cupero dell’energia degli acidi grassi a catena c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duzione di vit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ssorbimento di 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809880"/>
            <a:ext cx="7391520" cy="15570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ro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rollo della proliferazione e differenziazione delle cel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viluppo ed omeostasi del sistema immu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562720"/>
            <a:ext cx="7467480" cy="76896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tto barriera:protezione contro i pato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0800"/>
            <a:ext cx="777240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© The McGraw-Hill Companies, Inc. Permission required for reproduction or displa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022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Utilità della antibiotico-profilassi in pediat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8954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fezioni vie urin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Fibrosi c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mmunodefici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n concomitanza a procedure chirur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La tera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438280"/>
            <a:ext cx="7162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Rimuovere ( se possibile) i fattori predispon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Identificare la ca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Riconoscere gli agenti etiologici più prob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Ripristinare la normale ecologia intest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Correggere le situazioni di base preesistenti (anatomiche e/o biologi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Vaccini specifici ed aspeci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mici della conoscen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133720"/>
            <a:ext cx="4038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Ide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Pres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Corporativ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Avi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Stupid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Inte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Iper special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66"/>
                </a:solidFill>
                <a:latin typeface="Times New Roman"/>
              </a:rPr>
              <a:t>Eccessiva fiducia nel buon s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133720"/>
            <a:ext cx="426708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radizionalismo conser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Eccessivo amore per il nuo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gno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pigri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Dist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Stanch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Credu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Pensiero ma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3360" y="1752480"/>
          <a:ext cx="8162640" cy="49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752480"/>
                    <a:ext cx="816264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8088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Normalizzazione dello sviluppo delle IR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3962520"/>
            <a:ext cx="7696080" cy="0"/>
          </a:xfrm>
          <a:prstGeom prst="line">
            <a:avLst/>
          </a:prstGeom>
          <a:ln w="19080">
            <a:solidFill>
              <a:srgbClr val="f32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505320"/>
            <a:ext cx="19814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3505320"/>
            <a:ext cx="228600" cy="2590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6095880"/>
            <a:ext cx="5331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1280" y="5181480"/>
            <a:ext cx="152640" cy="9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5181480"/>
            <a:ext cx="228600" cy="9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962520" y="4267080"/>
            <a:ext cx="685800" cy="1828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4267080"/>
            <a:ext cx="609480" cy="17528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257800" y="3504960"/>
            <a:ext cx="1371600" cy="2514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35053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590920"/>
            <a:ext cx="1905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Condi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immunolo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22400" y="990720"/>
            <a:ext cx="3453120" cy="3458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406520" y="304920"/>
            <a:ext cx="2109960" cy="1143000"/>
          </a:xfrm>
          <a:prstGeom prst="wedgeRoundRectCallout">
            <a:avLst>
              <a:gd name="adj1" fmla="val -43518"/>
              <a:gd name="adj2" fmla="val 67361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44560" y="380880"/>
            <a:ext cx="2602080" cy="1447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ircolo viz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48360" y="685800"/>
            <a:ext cx="2743200" cy="9907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78520" y="762120"/>
            <a:ext cx="2954520" cy="609480"/>
          </a:xfrm>
          <a:prstGeom prst="wedgeRoundRectCallout">
            <a:avLst>
              <a:gd name="adj1" fmla="val -44495"/>
              <a:gd name="adj2" fmla="val 1625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34040" y="685800"/>
            <a:ext cx="2743200" cy="990720"/>
          </a:xfrm>
          <a:prstGeom prst="wedgeRectCallout">
            <a:avLst>
              <a:gd name="adj1" fmla="val -50055"/>
              <a:gd name="adj2" fmla="val 9038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32240" y="5562720"/>
            <a:ext cx="1687320" cy="838080"/>
          </a:xfrm>
          <a:prstGeom prst="smileyFace">
            <a:avLst>
              <a:gd name="adj" fmla="val -46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48360" y="1371600"/>
            <a:ext cx="985680" cy="685800"/>
          </a:xfrm>
          <a:prstGeom prst="leftArrow">
            <a:avLst>
              <a:gd name="adj1" fmla="val 50000"/>
              <a:gd name="adj2" fmla="val 359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5029200"/>
            <a:ext cx="2532240" cy="762120"/>
          </a:xfrm>
          <a:prstGeom prst="rightArrow">
            <a:avLst>
              <a:gd name="adj1" fmla="val 50000"/>
              <a:gd name="adj2" fmla="val 830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strategia terapeutica integ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105876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Caratteristiche immunolog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numerico e funzionale dei linfociti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di produzione di cito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di IgG ed 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della chemiotassi, fagocitosi ed attività dei neutrof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Deficit di attività dei 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attori ambientali</a:t>
            </a:r>
            <a:br>
              <a:rPr sz="36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(fondamental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4114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ocializzazione preco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sposizione al fumo pas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it-IT" sz="3600" spc="-1" strike="noStrike">
                <a:solidFill>
                  <a:srgbClr val="ff33cc"/>
                </a:solidFill>
                <a:latin typeface="Times New Roman"/>
              </a:rPr>
              <a:t>Fattori ambientali</a:t>
            </a:r>
            <a:br>
              <a:rPr sz="3600"/>
            </a:br>
            <a:r>
              <a:rPr b="0" lang="it-IT" sz="3600" spc="-1" strike="noStrike">
                <a:solidFill>
                  <a:srgbClr val="ff33cc"/>
                </a:solidFill>
                <a:latin typeface="Times New Roman"/>
              </a:rPr>
              <a:t>(possibili cofattori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Inquinamento ambi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Micro-inquinamento dome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Basso livello socio-econo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Elevato numero di conviv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Deficit nutri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Times New Roman"/>
              </a:rPr>
              <a:t>Condizioni di disagio psic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3360" y="1752480"/>
          <a:ext cx="8162640" cy="49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1752480"/>
                    <a:ext cx="816264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0880" y="457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Normalizzazione dello sviluppo delle IR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962520"/>
            <a:ext cx="7696080" cy="0"/>
          </a:xfrm>
          <a:prstGeom prst="line">
            <a:avLst/>
          </a:prstGeom>
          <a:ln w="19080">
            <a:solidFill>
              <a:srgbClr val="f32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505320"/>
            <a:ext cx="19814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3505320"/>
            <a:ext cx="228600" cy="2590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6095880"/>
            <a:ext cx="5331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581280" y="5181480"/>
            <a:ext cx="152640" cy="9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5181480"/>
            <a:ext cx="228600" cy="914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962520" y="4267080"/>
            <a:ext cx="685800" cy="18288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267080"/>
            <a:ext cx="609480" cy="17528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57800" y="3504960"/>
            <a:ext cx="1371600" cy="2514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35053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590920"/>
            <a:ext cx="190512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Condi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immunolo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Infezioni delle Alte Vie Respiratori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Faring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inu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Otite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Laring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1ff31"/>
                </a:solidFill>
                <a:latin typeface="Times New Roman"/>
              </a:rPr>
              <a:t>Infezioni respiratorie ricorrent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Infezioni delle Basse Vie Respiratorie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Trache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Tracheo-bronc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Broncopolmo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Polmo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66"/>
                </a:solidFill>
                <a:latin typeface="Times New Roman"/>
              </a:rPr>
              <a:t>Pleu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5:12:42Z</dcterms:created>
  <dc:creator>mlarosa</dc:creator>
  <dc:description/>
  <dc:language>en-US</dc:language>
  <cp:lastModifiedBy>mlarosa</cp:lastModifiedBy>
  <dcterms:modified xsi:type="dcterms:W3CDTF">2004-10-27T07:41:32Z</dcterms:modified>
  <cp:revision>19</cp:revision>
  <dc:subject/>
  <dc:title>Nessun titolo diapositiva</dc:title>
</cp:coreProperties>
</file>