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A19-5EDD-4D97-BCC5-60C3108B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E29-FCF4-47C2-95B8-EA0D8B08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3BF-4E36-4F96-A4C5-4A337863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042-CAC6-461B-99B4-A0A7D624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DAC-A202-4F7C-ACE5-37010305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DB8-B721-4721-A9E3-DCA7708B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763-3095-45AD-B911-220E9096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D43-D12A-4596-BCE7-5A7887B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C54-095F-4058-A190-1EE1C884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728-D755-4776-82D2-D1D686C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398-2FA4-4EED-A689-21A9266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A86-379D-4CE8-B3D4-62879F9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4BAA-176F-4C4C-AEC0-D9735CE15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2929a9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Verdana"/>
              </a:rPr>
              <a:t>ESPERIENZA CLINICA,</a:t>
            </a:r>
            <a:br>
              <a:rPr sz="4400"/>
            </a:br>
            <a:r>
              <a:rPr b="0" lang="it-IT" sz="4400" spc="-1" strike="noStrike">
                <a:solidFill>
                  <a:srgbClr val="cc0000"/>
                </a:solidFill>
                <a:latin typeface="Verdana"/>
              </a:rPr>
              <a:t>COMPLIANCE E</a:t>
            </a:r>
            <a:br>
              <a:rPr sz="4400"/>
            </a:br>
            <a:r>
              <a:rPr b="0" lang="it-IT" sz="4400" spc="-1" strike="noStrike">
                <a:solidFill>
                  <a:srgbClr val="cc0000"/>
                </a:solidFill>
                <a:latin typeface="Verdana"/>
              </a:rPr>
              <a:t>QUALITA’ DI VI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2133360"/>
          </a:xfrm>
          <a:prstGeom prst="rect">
            <a:avLst/>
          </a:prstGeom>
          <a:noFill/>
          <a:ln cap="rnd" w="2232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ario La R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ipartimento di Pediatria, Cattedra di Pediatria Preventiva e Sociale, Università degli Studi di Cat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ella V (a) - Caratteristiche dell’asma nelle varie 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9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 Prima infanz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agnosi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fferenziale molto estesa (escludere le malformazioni conge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siderare il wheezing “fisiolog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Età presc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levata possibilità di presentazione ati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 virus sono gli agenti scatenanti più com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fficile differenziare le presentazioni atipiche dalle bronchiti ricorr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6171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 Età sc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requente presenza di manifestazioni aller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intomi spesso associati all’eserc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siderare l’interferenza della malattia con le attività scola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tà abbastanza facile da trat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Adolesc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spressione clinica molto vari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endenza a negare i sin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carsa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rattamento diffic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levata mort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5720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ella V (b) - Caratteristiche dell’asma nelle varie 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VI - Frequenza relativa delle varie malattie in funzione dell’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it-IT" sz="1400" spc="-1" strike="noStrike" baseline="30000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INFANZIA</a:t>
            </a:r>
            <a:r>
              <a:rPr b="0" lang="it-IT" sz="1400" spc="-1" strike="noStrike">
                <a:solidFill>
                  <a:srgbClr val="cc0000"/>
                </a:solidFill>
                <a:latin typeface="Times New Roman"/>
              </a:rPr>
              <a:t>         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it-IT" sz="1400" spc="-1" strike="noStrike" baseline="30000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-3</a:t>
            </a:r>
            <a:r>
              <a:rPr b="1" lang="it-IT" sz="1400" spc="-1" strike="noStrike" baseline="30000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INFANZIA</a:t>
            </a:r>
            <a:r>
              <a:rPr b="0" lang="it-IT" sz="14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ADOLESC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nomalie congenit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+++                        ++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ibrosi cistica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     +++                        ++               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Bronchiolite obliterant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+++                         ++              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indromi da aspirazioni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++                           +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eflusso gastro-esofageo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++                           +                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scinesia ciliar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++                          ++               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rpi estranei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      ++                         +++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2481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it-IT" sz="1400" spc="-1" strike="noStrike" baseline="30000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INFANZIA           2</a:t>
            </a:r>
            <a:r>
              <a:rPr b="1" lang="it-IT" sz="1400" spc="-1" strike="noStrike" baseline="30000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-3</a:t>
            </a:r>
            <a:r>
              <a:rPr b="1" lang="it-IT" sz="1400" spc="-1" strike="noStrike" baseline="30000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it-IT" sz="1400" spc="-1" strike="noStrike">
                <a:solidFill>
                  <a:srgbClr val="cc0000"/>
                </a:solidFill>
                <a:latin typeface="Times New Roman"/>
              </a:rPr>
              <a:t>INFANZIA     ADOLESC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tosse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++                     ++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splasia broncopolmonar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++                      +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asse mediastiniche/polmonari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+                      ++                      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indrome da iperventilazion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-                        +                       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sfunzione corde vocali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-                        +                       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Tosse psicogena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-                        +                        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olasso della mitral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                             -                        -                         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09120" y="6858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VI (b) - Frequenza relativa delle varie malattie in funzione dell’e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“ </a:t>
            </a:r>
            <a:r>
              <a:rPr b="0" lang="it-IT" sz="3600" spc="-1" strike="noStrike">
                <a:solidFill>
                  <a:srgbClr val="ffff66"/>
                </a:solidFill>
                <a:latin typeface="Times New Roman"/>
              </a:rPr>
              <a:t>Uso di steroidi ed esacerbazioni</a:t>
            </a: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Le linee guida internazionali raccomandano l’introduzione  di una </a:t>
            </a:r>
            <a:r>
              <a:rPr b="0" lang="it-IT" sz="2600" spc="-1" strike="noStrike">
                <a:solidFill>
                  <a:srgbClr val="ffff00"/>
                </a:solidFill>
                <a:latin typeface="Times New Roman"/>
              </a:rPr>
              <a:t>terapia anti-infiammatoria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preventiva nelle forme di asma moderato in caso di necessità da parte del paziente assumere </a:t>
            </a:r>
            <a:r>
              <a:rPr b="0" lang="it-IT" sz="2600" spc="-1" strike="noStrike">
                <a:solidFill>
                  <a:srgbClr val="ffff00"/>
                </a:solidFill>
                <a:latin typeface="Times New Roman"/>
              </a:rPr>
              <a:t>beta-agonisti inalatori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più di tre volte alla settimana per alleviare i sintomi </a:t>
            </a:r>
            <a:r>
              <a:rPr b="0" lang="it-IT" sz="2600" spc="-1" strike="noStrike" baseline="30000">
                <a:solidFill>
                  <a:srgbClr val="ffffff"/>
                </a:solidFill>
                <a:latin typeface="Times New Roman"/>
              </a:rPr>
              <a:t>(1,2)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: l</a:t>
            </a:r>
            <a:r>
              <a:rPr b="0" lang="it-IT" sz="2600" spc="-1" strike="noStrike">
                <a:solidFill>
                  <a:srgbClr val="ffff00"/>
                </a:solidFill>
                <a:latin typeface="Times New Roman"/>
              </a:rPr>
              <a:t>’aderenza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a tale trattamento è cruciale, dal momento che esiste una </a:t>
            </a:r>
            <a:r>
              <a:rPr b="0" lang="it-IT" sz="2600" spc="-1" strike="noStrike">
                <a:solidFill>
                  <a:srgbClr val="ffff00"/>
                </a:solidFill>
                <a:latin typeface="Times New Roman"/>
              </a:rPr>
              <a:t>diretta correlazione 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tra </a:t>
            </a:r>
            <a:r>
              <a:rPr b="0" lang="it-IT" sz="2600" spc="-1" strike="noStrike">
                <a:solidFill>
                  <a:srgbClr val="ffff00"/>
                </a:solidFill>
                <a:latin typeface="Times New Roman"/>
              </a:rPr>
              <a:t>irregolare assunzione di corticosteroidi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ed </a:t>
            </a:r>
            <a:r>
              <a:rPr b="0" lang="it-IT" sz="2600" spc="-1" strike="noStrike">
                <a:solidFill>
                  <a:srgbClr val="ffff00"/>
                </a:solidFill>
                <a:latin typeface="Times New Roman"/>
              </a:rPr>
              <a:t>esacerbazione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 dell’asma</a:t>
            </a:r>
            <a:r>
              <a:rPr b="0" lang="it-IT" sz="2600" spc="-1" strike="noStrike" baseline="30000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865480"/>
            <a:ext cx="34290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(1) NHBL/WHO, 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(2) BRITISH THORACIC SOCIETY,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(3) MILGROM  H.,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6171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ndagine sull’educazione del paziente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Nel 1999 è stata svolta un indagine (Aire-Asthma insights under reality in Europe, Italia, Inghilterra, Francia, Germania, Olanda, Spagna e Svezia) con l’obiettivo di evidenziare le lacune esistenti tra le linee guida e la realtà attuale del trattamento dei pazienti con a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60% dei pazienti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non possiede un piano terapeutico scritt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per l’autogestione dell’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l 76% dei pazienti non è stato mostrato, durante l’ultimo anno,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ome utilizzare l’inalatore/nebulizz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38% dei pazienti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non sa che l’infiammazion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è una condizione sottostante all’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47% dei pazienti crede che possano essere curati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soltanto in sintomi dell’asm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e non la malattia ste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324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99"/>
                </a:solidFill>
                <a:latin typeface="Times New Roman"/>
              </a:rPr>
              <a:t>“ </a:t>
            </a:r>
            <a:r>
              <a:rPr b="0" lang="it-IT" sz="4400" spc="-1" strike="noStrike">
                <a:solidFill>
                  <a:srgbClr val="ffff99"/>
                </a:solidFill>
                <a:latin typeface="Times New Roman"/>
              </a:rPr>
              <a:t>The simpler, the bett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carsi livelli di compliance potrebbero essere spiegati dal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carattere cronico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polimedicamentoso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ella terapia antiasmatica secondo il consueto assioma per cui “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he simpler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(treatment regimen)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h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better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(compliance),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he shorter the better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6001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(1) Griffith S, 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9432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“ </a:t>
            </a: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Regola dei Terzi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portata del problema della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mancata complianc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è stata espressa con l’ausilio della “regola dei terzi”, ovvero un 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erzo dei pazienti osserva il trattamento antiasmatico,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un terzo lo osserva in modo parziale e un terzo manca di osservarlo del tut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01956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(1) Bradley C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6075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“ </a:t>
            </a:r>
            <a:r>
              <a:rPr b="0" lang="it-IT" sz="3600" spc="-1" strike="noStrike">
                <a:solidFill>
                  <a:srgbClr val="ffff66"/>
                </a:solidFill>
                <a:latin typeface="Times New Roman"/>
              </a:rPr>
              <a:t>Numero delle dosi e complianc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0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terapia inalatori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ricorda inoltre ogni giorno ai pazienti di soffrire di una malattia cronica, è decisamente “appariscente” e spesso viene condotta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rregolarment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per il disaggio creato dalla sua esecuzione in pubblico. In tale ottica regimi posologici comprendenti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due assunzioni/di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sono più tollerati, dal momento che prendere il farmaco al mattino e prima di coricarsi risulta meno problema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01956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Nac,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60195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Aderenza alle prescrizioni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grado in cui il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omportament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di una persona (in termini di assunzione di farmaci, cambiamento di stile di vita,ecc.)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oincid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con le prescrizioni del medic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Ader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ollaborazion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tra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medic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paziente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ratterizzata da un buon grado di condivisione delle scelte terapeutiche e dell’interiorizzazione delle prescrizioni mediche da parte del paz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7909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Haynes, 19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60195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973840"/>
            <a:ext cx="28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Meichenbaum e Turk, 1987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I (a) - Elementi anamnestici da indagare nel sospetto di 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atura dei sint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ratteristiche dei sintom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tà di comparsa, frequenza, gravità, tipo (perenni/stagionali,continui/parossistici), variazioni circadi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Decorso dei sintom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odalità di insorgenza, progressione, risoluzione, fattori (ambientali, infettivi, irritanti, allergici, climatici, attività fisica, emozionali, farmaci, cibi, etc.) in grado di scatenare o aggravare i sin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Times New Roman"/>
              </a:rPr>
              <a:t>Aderenza alle prescrizione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12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Costituisce il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punto cruciale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 del processo terapeu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E’ il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filtro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 attraverso il quale le prescrizioni del medico devono passare per tradursi in terapi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E’ il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terreno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 sul quale si disputa il confronto fra la teoria e la pratica della medicin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601956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Aderenza alle prescrizioni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Entrare in un programma di trattamento e portarlo avanti con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continuit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Rispettare gli appuntamenti per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le visite di cont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Assumere i farmaci prescritti in modo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corret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Attuare appropriati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cambiamenti 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nello stile di vi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Gestire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correttamente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 i regimi terapeutici domicilia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Evitare i comportamenti </a:t>
            </a:r>
            <a:r>
              <a:rPr b="0" lang="it-IT" sz="3000" spc="-1" strike="noStrike">
                <a:solidFill>
                  <a:srgbClr val="ffff00"/>
                </a:solidFill>
                <a:latin typeface="Times New Roman"/>
              </a:rPr>
              <a:t>a rischio</a:t>
            </a: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 per la sal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61956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Meichenbaum e Turk, 1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6171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Aderenza alle prescrizioni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mancata aderenza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può dirsi facilitata dalle seguenti condiz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1) Presenza di malattia cron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2) Fasi asintomatiche di patologie già riconosci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3) Assenza di rischi immediati o a breve term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4) Terapie che hanno la prevenzione come obiettivo prima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Times New Roman"/>
              </a:rPr>
              <a:t>5) Complessità/lunga durata per regime terapeut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17184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Meichenbaum e Turk, 1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6171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I (b) – Elementi anamnestici da indagare nel sospetto di 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388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nterferenza dei sintomi con la frequenza scolastica, l’attività fisica e il son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recedenti terapie effettuate e risposta cli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oria familiare e personale di malattie allergiche (asma, rinite, ecze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toria ambientale (abitazione, fumo, animali domesti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6171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II - Caratteristiche cliniche indicative per la diagnosi di 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10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pisodi ricorrenti di wheezing, tosse, respiro corto, oppressione torac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osse secca, soprattutto notturna o nel primo mat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intomi scatenati dall’esercizio fisico, clima freddo, infezioni virali, allerg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intomi che migliorano dopo trattamento con broncodilat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alattie atopiche (rinite, eczema) assoc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III (a) - Caratteristiche indicative per una diagnosi alternativa all’asma: </a:t>
            </a: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la 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intomi ad esordio neonat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Prematurità, pregressa ventilazione meccan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Tosse/wheezing durante l’aliment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Frequente rigurgito, vomito postprandi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Tosse/soffocamento” ad esordio improvvi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teatorr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Malattie nella famiglia o nella comun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Dolore toracico, ansia,cefalea, parestes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Wheezing in/espirato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intomi respiratori cronici dopo infezioni delle vie ae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Infezioni ricorren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Dolore toracico con lo sforz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Malformazioni congenite (polmone,vie aeree, cardiovascolari, mediasti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Displasia broncopolmon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indrome da inal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Reflusso gastro-esofag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Inalazione di corpo estran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87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Fibrosi cist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Pertosse, tubercolos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indrome da iper-ventil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Disfunzione delle corde voca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Bronchiolite obliter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Immunodeficienza, discinesia cili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Prolasso della mitr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III (b) - Caratteristiche indicative per una diagnosi alternativa all’asma: </a:t>
            </a: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la 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3809880" cy="525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Crescita scarsa, stato nutrizionale car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trid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Soffi cardiaci, cardiomegal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Clubb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Linfoadenopatia cervic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Reperti obiettivi toracici foca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Otite, sinusite, etc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257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Fibrosi cistica, immunodeficienz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Tracheomalacia, anomalie vascola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Malattie cardia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Fibrosi cistica, bronchiectas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Masse mediastiniche o polmona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Corpo estraneo, bronchiectas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imes New Roman"/>
              </a:rPr>
              <a:t>Discinesia cili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ab. III (c) - Caratteristiche indicative per una diagnosi alternativa all’asma: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l’esame f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III (d) - Caratteristiche indicative per una diagnosi alternativa all’asma: </a:t>
            </a: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labor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200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on reversibilità dell’ostruzione bronch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est di provocazione bronchiale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Reperti radiografici polmonari focali o persist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00800" y="6171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www.mariolarosa 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a9"/>
            </a:gs>
            <a:gs pos="50000">
              <a:srgbClr val="000099"/>
            </a:gs>
            <a:gs pos="100000">
              <a:srgbClr val="2929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Tab. IV - Presentazioni cliniche dell’asma in età pedia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486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Asma classico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Tosse asma-equiva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Asma indotto dall’esercizio fi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Asma con ipersecrezione bronch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Atelectasie ricorrenti/persist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</a:rPr>
              <a:t>Asma episodico g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755720"/>
            <a:ext cx="3581280" cy="14346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Episodi ricorrenti (o sintomi persistenti) caratterizzati da wheezing, tosse e difficoltà respira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986040"/>
            <a:ext cx="3581280" cy="176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Tosse isolata, ricorrente/persistente, secca, notturna, dopo sforzo o dopo esposizione ad allergeni o ad inquina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670480"/>
            <a:ext cx="3581280" cy="1099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Sibilo e/o tosse e/o costrizione toracica durante o subito dopo l’esercizio f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5238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737160"/>
            <a:ext cx="3581280" cy="1099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Tosse grassa o catarro bronchiale (particolarmente comune in età prescola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4699080"/>
            <a:ext cx="3657600" cy="14346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Spesso interpretate come polmonite; considerevole sovrapposizione con la forma preced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22096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31240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4191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533412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63244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5310360"/>
            <a:ext cx="3657600" cy="14346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imes New Roman"/>
              </a:rPr>
              <a:t>Episodi infrequenti, ma spesso molto gravi e con pericolo di vita. Sorprendente benessere tra gli episodi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7T09:08:33Z</dcterms:created>
  <dc:creator>Fournier Pierrel Pharma Spa</dc:creator>
  <dc:description/>
  <dc:language>en-US</dc:language>
  <cp:lastModifiedBy>franky</cp:lastModifiedBy>
  <dcterms:modified xsi:type="dcterms:W3CDTF">2001-05-27T17:43:58Z</dcterms:modified>
  <cp:revision>28</cp:revision>
  <dc:subject/>
  <dc:title>Tabella I Elementi anamnestici da indagare nel sospetto di asma</dc:title>
</cp:coreProperties>
</file>