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8F9E-DEAC-47A6-A8A1-997E9E07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8DE1-D323-4904-9A15-C4D94C8C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D6A-43DC-4654-9C00-9753F70F1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2E7-2200-4846-A05F-9A663331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7BCEC-7BE2-48CB-A97E-40F97173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FA95-1434-4543-B421-D858977DB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4D6F-CC30-43AC-B3DF-C946C47D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C01E-9471-4803-9E35-F5B811B4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C44DE-1346-4D58-BF24-BC15D1AD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D0AB-12EA-436B-962F-E242A370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948B-0FDA-4518-AE6D-F1B043F3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A519-C9EF-4AB1-9765-37FE761D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9AAE-0B3C-4D67-BEF4-907E7F8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41BF-4613-4828-BF86-02CD85841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6C76-5E09-4CA3-ABEE-D855FE6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B640-3EEA-4ED5-8AC0-363CD531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90D6-8BCB-490C-A4FD-6CB9831C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C76-0193-4015-BF85-45095AB5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3ED2-44AD-4842-8839-8B44C916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5B05-BBAD-4610-B45C-BF03077A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E387-F19E-4191-A38A-759673958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1640-2155-411A-A661-5EEBDFCF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CCA-3B7F-4823-9D4A-98A8EB84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FBAD-D682-44F3-9087-53DBD903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0885-964B-4E63-B746-2B0A3E7BBA9E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50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99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53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99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9E2-7D04-4987-9411-7E3831781405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cccc"/>
                </a:solidFill>
                <a:latin typeface="Univers"/>
              </a:rPr>
              <a:t>Management of Asthma</a:t>
            </a:r>
            <a:endParaRPr b="0" lang="en-US" sz="53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Univers"/>
            </a:endParaRPr>
          </a:p>
        </p:txBody>
      </p:sp>
    </p:spTree>
  </p:cSld>
  <p:transition spd="slow"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trigge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xposure to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obacco smok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ndoor allergens (domestic mites in bedding, carpets, stuffed furniture, cat, cockroac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hemical irrita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trigge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voidance of these triggers should be </a:t>
            </a:r>
            <a:r>
              <a:rPr b="0" i="1" lang="en-US" sz="3600" spc="-1" strike="noStrike">
                <a:solidFill>
                  <a:srgbClr val="dddddd"/>
                </a:solidFill>
                <a:latin typeface="Univers"/>
              </a:rPr>
              <a:t>strongly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encouraged in infants with FH of asthma or atopy (familial tendency for allergic reaction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obacco smoke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ndoor allergen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hemical irrita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 acute symptom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yspne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wheezing (especially upon expiration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bsent, if severe obstru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flaring of nostril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nterrupted talk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gitation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	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hyperinfl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hronic or recurring c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diagnosi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pisodic breathlessnes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wheez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hest tightnes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ug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diagnosi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sthma is the likely diagnosis if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occur at night or in early morning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pisodes recur following one or more trigg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f of symptoms occurs with a bronchodila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Objective measure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ypically, asthmatics have poor recognition of their symptoms and poor perception of their sever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se of peak flow meters provides direct assessment of airflow limitation, variability and reversibil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ssential for accurate diagnosis and monitoring of thera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Peak flow mete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mall, portable, convenient, cheap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easure peak expiratory flow (PEF)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he fastest rate at which air can move through the airways during a forced expiration starting with fully inflated lung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rrelates well with FEV1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Use of patient’s PEF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mpare to predicted PEF value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based on height, race, sex, and ag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easure response to drug thera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valuate variability, by measuring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in am (usually lowest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12 hours later (usually highest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Disease assessment 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based on PEF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patient’s PEF is lower than predicted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&gt; 15% increase in PEF 15 minutes after inhalation of a short acting </a:t>
            </a:r>
            <a:r>
              <a:rPr b="0" i="1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 agonis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&gt; 10% PEF variability (AM:PM)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&gt; 20% PEF variability (AM:PM) if taking bronchodilator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&gt; 15% decrease in PEF after 6 minutes of exercise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Goals of managemen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inimal or no symptom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inimal asthma episodes / attack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 emergency visits to MD or hospit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inimal need for as needed 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 limitations on physical activit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early normal lung func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inimal or no side effects from medic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Guidelin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http://www.nhlbi.nih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gov/guidelines/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sthma/asthgdln.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htm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02" name="Lunganim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08320" cy="3909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Treatment op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ver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short-acting </a:t>
            </a:r>
            <a:r>
              <a:rPr b="0" i="1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 agonis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anticholinergic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systemic steroid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ler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inhaled steroid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mast cell stabilizer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long-acting </a:t>
            </a:r>
            <a:r>
              <a:rPr b="0" i="1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 agonis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methylxanthine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lvl="1" marL="623880" indent="-239760">
              <a:lnSpc>
                <a:spcPct val="8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systemic steroids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Reliev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short-acting </a:t>
            </a:r>
            <a:r>
              <a:rPr b="0" lang="en-US" sz="4400" spc="-1" strike="noStrike">
                <a:solidFill>
                  <a:srgbClr val="00cccc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-25000">
                <a:solidFill>
                  <a:srgbClr val="00cccc"/>
                </a:solidFill>
                <a:latin typeface="Univers"/>
              </a:rPr>
              <a:t>2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 agoni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DI with a spacer or nebulizer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onset in 5 minutes, lasts 3-8 hou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qually effectiv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ablets / syrup available for pediatric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onset in 30 minutes, lasts 4-8 h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ide effects are bothersome, but transien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Reliev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nticholinergic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pratropium bromid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t indicated for asthma, but does provide bronchodil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may provide added benefit to </a:t>
            </a:r>
            <a:r>
              <a:rPr b="0" i="1" lang="en-US" sz="30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 agonist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few side effec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adults  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Univers"/>
              </a:rPr>
              <a:t>Am J Med 1999;107:363-370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10 studies; 1453 adults in 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uring the first 90 minutes, supplementary ipratropium showed a pooled effect "...equivalent to a 10%...increase in PEF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ata available from 5 reports showed that ipratropium "...reduced admission rates significantly"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adults  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Univers"/>
              </a:rPr>
              <a:t>Am J Med 1999;107:363-370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searchers concluded:  addition of ipratropium to beta-agonist treatment "...offers a statistically significant, albeit modest, improvement in pulmonary function, as well as a reduction in the rate of hospital admissions."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children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Univers"/>
              </a:rPr>
              <a:t>NEJM1998;339:1030-5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andomized, double-blind, placebo-controlled study in 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434 children (2 to18 yo)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cute exacerbation of moderate to severe asthma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children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Univers"/>
              </a:rPr>
              <a:t>NEJM1998;339:1030-5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ll children received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ebulized albuterol (2.5 - 5 mg per dose every 20 min x 3, then prn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rednisone (2 mg/kg) with 2nd dos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reatment group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500 mcg (2.5 mL) ipratropium with the 2nd and 3rd doses of albutero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 group: 2.5 mL of 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children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hospitalization r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overal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pratropium = 59 of 215 (27.4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 = 80 of 219 (36.5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Univers"/>
              </a:rPr>
              <a:t>p = 0.05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children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hospitalization rat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f moderate dx (50-70% predicte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pratropium: 8 of 79 (10.1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: 9 of 84 (10.7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f severe dx (&lt;50% predicte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pratropium 51 of 136  (37.5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 = 71 of 135 (52.6%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 = 0.0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pratropium in children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Univers"/>
              </a:rPr>
              <a:t>NEJM1998;339:1030-5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clusions: among children with a severe exacerbation of asthma, the addition of ipratropium bromide to albuterol and corticosteroid therapy significantly decreases the hospitalization ra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Outline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pidemiolog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athophysiolog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iagnosi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harmacothera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isease management recommenda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Reliev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systemic steroi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rednisone or prednisolone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2 mg/kg/d (maximum of 60 mg/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plit daily doses??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V = P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generally continue for 5 day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imultaneously initiate inhaled steroi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 need to taper systemic steroid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inhaled steroi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Univers"/>
              </a:rPr>
              <a:t>must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be scheduled ATC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takes 4 to 5 days to see benefi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inimal systemic adverse effec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dosing based on LD, MD, and H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ast cell stabiliz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romolyn or nedocromi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Univers"/>
              </a:rPr>
              <a:t>must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be scheduled ATC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st useful in patients with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xercise induc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ssociated allergi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few side effects (cough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long-acting </a:t>
            </a:r>
            <a:r>
              <a:rPr b="0" lang="en-US" sz="4400" spc="-1" strike="noStrike">
                <a:solidFill>
                  <a:srgbClr val="00cccc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-25000">
                <a:solidFill>
                  <a:srgbClr val="00cccc"/>
                </a:solidFill>
                <a:latin typeface="Univers"/>
              </a:rPr>
              <a:t>2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 agonis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almeterol or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lbuterol extended release table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Univers"/>
              </a:rPr>
              <a:t>must 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be scheduled ATC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ethylxanthin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ustained release theophyllin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umerous adverse effects and interac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systemic steroi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2 mg/kg/d (max 60 mg/d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umerous adverse effec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ddddd"/>
                </a:solidFill>
                <a:latin typeface="Univers"/>
              </a:rPr>
              <a:t>including growth retardation</a:t>
            </a:r>
            <a:endParaRPr b="0" lang="en-US" sz="3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Controllers: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leukotriene modulator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ntelukast, zafirlukast, zileut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nknown place in therap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ay decrease need for MD or HD inhaled steroids in select patient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anagement plan for asthm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lassify the severity of the illnes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dentify the appropriate regimen that will maintain control of the illnes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view classification and management plan every 1 to 6 month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gain control as quickly as possible, then adjus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cut thruBlk="true"/>
      </p:transition>
    </mc:Choice>
    <mc:Fallback>
      <p:transition spd="slow">
        <p:cut thruBlk="true"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ild intermittent dise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&lt; 1 / week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cturnal symptoms &lt; 2 / month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&gt; 80% predict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variability &lt; 20%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ver: short-acting 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 PR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ler: non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plit dir="out" orient="horz"/>
      </p:transition>
    </mc:Choice>
    <mc:Fallback>
      <p:transition spd="slow">
        <p:split dir="out" orient="horz"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ild persistent dise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&gt; 1 / week (but not daily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may affect activ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cturnal symptoms &gt; 2 / month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&gt; 80% predict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variability = 20% - 30%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ver: short-acting </a:t>
            </a:r>
            <a:r>
              <a:rPr b="0" i="1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 PR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ler: LD inhaled steroid or mast cell stabilize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ffects 14 to 15 million America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5 million children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st common chronic disease of childhoo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Moderate persistent dise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dai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mptoms affect activ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nocturnal symptoms &gt; 1 / week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quire short-acting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 dail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60% - 80% predict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variability &gt; 30%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ver: short-acting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 PR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ler: MD inhaled steroid </a:t>
            </a:r>
            <a:r>
              <a:rPr b="0" i="1" lang="en-US" sz="3200" spc="-1" strike="noStrike">
                <a:solidFill>
                  <a:srgbClr val="dddddd"/>
                </a:solidFill>
                <a:latin typeface="Univers"/>
              </a:rPr>
              <a:t>plus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long-acting bronchodila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Severe persistent diseas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inuous symptom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frequent exacerba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frequent nocturnal symptom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hysical activities limited by asthm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&lt; 60% predicted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PEF variability &gt; 30%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reliever: short-acting </a:t>
            </a:r>
            <a:r>
              <a:rPr b="0" lang="en-US" sz="3200" spc="-1" strike="noStrike">
                <a:solidFill>
                  <a:srgbClr val="dddddd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dddddd"/>
                </a:solidFill>
                <a:latin typeface="Univers"/>
              </a:rPr>
              <a:t>2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agonist PR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ontroller: HD inhaled steroid </a:t>
            </a:r>
            <a:r>
              <a:rPr b="0" i="1" lang="en-US" sz="3200" spc="-1" strike="noStrike">
                <a:solidFill>
                  <a:srgbClr val="dddddd"/>
                </a:solidFill>
                <a:latin typeface="Univers"/>
              </a:rPr>
              <a:t>plus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long-acting bronchodilator </a:t>
            </a:r>
            <a:r>
              <a:rPr b="0" i="1" lang="en-US" sz="3200" spc="-1" strike="noStrike">
                <a:solidFill>
                  <a:srgbClr val="dddddd"/>
                </a:solidFill>
                <a:latin typeface="Univers"/>
              </a:rPr>
              <a:t>plus 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ystemic steroid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Patient educ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se of MDI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se of spac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se of nebuliz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se of peak flow met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voidance of trigge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ction pla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560" y="11426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Univers"/>
              </a:rPr>
              <a:t>Comments??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ddddd"/>
                </a:solidFill>
                <a:latin typeface="Univers"/>
              </a:rPr>
              <a:t>Questions??</a:t>
            </a:r>
            <a:endParaRPr b="0" lang="en-US" sz="4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247968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annual statist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re than100 million days of restricted activity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re than 470,000 hospitalizat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more than 5,000 die from asthm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6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highest rate is among blacks  aged 15 to 24 year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definition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 chronic inflammatory disorder of the airways associated with recurrent episodes of wheezing, breathlessness and cough, variable airflow obstruction and bronchial hyperresponsiveness.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definition</a:t>
            </a: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	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“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</a:t>
            </a:r>
            <a:r>
              <a:rPr b="0" lang="en-US" sz="3200" spc="-1" strike="noStrike">
                <a:solidFill>
                  <a:srgbClr val="ff9933"/>
                </a:solidFill>
                <a:latin typeface="Univers"/>
              </a:rPr>
              <a:t> 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chronic inflammatory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 disorder of the airways associated with 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recurrent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episodes of: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	</a:t>
            </a: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wheezing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breathlessness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cough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,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variable airflow obstruction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, and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	</a:t>
            </a:r>
            <a:r>
              <a:rPr b="0" i="1" lang="en-US" sz="3200" spc="-1" strike="noStrike">
                <a:solidFill>
                  <a:srgbClr val="ffff66"/>
                </a:solidFill>
                <a:latin typeface="Univers"/>
              </a:rPr>
              <a:t>bronchial hyperresponsiveness</a:t>
            </a:r>
            <a:r>
              <a:rPr b="0" lang="en-US" sz="3200" spc="-1" strike="noStrike">
                <a:solidFill>
                  <a:srgbClr val="ffff66"/>
                </a:solidFill>
                <a:latin typeface="Univers"/>
              </a:rPr>
              <a:t>.”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pathophysiolo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chronic inflammation makes the airways  hypersensitive to certain trigger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allergens, chemicals, smoke, cold, exercise, food additives, aspirin, extreme emotional expression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slow"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Univers"/>
              </a:rPr>
              <a:t>Asthma: pathophysiolog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upon exposure to these stimuli, airways: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swell, constrict, fill with mucus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become hyperresponsive to stimul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Univers"/>
              </a:rPr>
              <a:t>in most, airflow limitation is reversible, either spontaneously or with medicatio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6T18:10:56Z</dcterms:created>
  <dc:creator>Eileen Holland</dc:creator>
  <dc:description/>
  <dc:language>en-US</dc:language>
  <cp:lastModifiedBy>m</cp:lastModifiedBy>
  <dcterms:modified xsi:type="dcterms:W3CDTF">2004-03-07T21:32:31Z</dcterms:modified>
  <cp:revision>17</cp:revision>
  <dc:subject/>
  <dc:title>Management of Asthma</dc:title>
</cp:coreProperties>
</file>