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28.png" ContentType="image/pn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1FB8-DF94-4937-930E-DB41415A3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4E32-EDD8-452A-8326-6CFCD18F0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1298-2B20-48E9-B6FF-CADE532C5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8426-1697-4FE8-BFE2-DF9941D3D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6C89-C278-4B30-8039-AA7B999DA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919F-FF17-47E9-BEC4-2853B6B54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6DA3-DED4-4068-828E-C129C2784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2F4D-F6AD-4891-B305-46AC27384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3052-75E3-4D88-A4A2-E7FDB71BD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C3E1-6DD9-436B-970D-E34E7491F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FA95-306B-4F4A-AFCF-ACD433BA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49D0-7507-47F0-BFB4-19D1B5DD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5F8C0-96B2-45B9-9494-E3CB1E3CA0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" descr=""/>
          <p:cNvPicPr/>
          <p:nvPr/>
        </p:nvPicPr>
        <p:blipFill>
          <a:blip r:embed="rId1"/>
          <a:stretch/>
        </p:blipFill>
        <p:spPr>
          <a:xfrm>
            <a:off x="1066680" y="457200"/>
            <a:ext cx="7239240" cy="5410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MARIOLAROSA.I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8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5495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MARIOLAROSA.I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10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7924680" cy="5029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MARIOLAROSA.I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11" descr=""/>
          <p:cNvPicPr/>
          <p:nvPr/>
        </p:nvPicPr>
        <p:blipFill>
          <a:blip r:embed="rId1"/>
          <a:stretch/>
        </p:blipFill>
        <p:spPr>
          <a:xfrm>
            <a:off x="6705720" y="228600"/>
            <a:ext cx="2209680" cy="5715000"/>
          </a:xfrm>
          <a:prstGeom prst="rect">
            <a:avLst/>
          </a:prstGeom>
          <a:ln w="0">
            <a:noFill/>
          </a:ln>
        </p:spPr>
      </p:pic>
      <p:pic>
        <p:nvPicPr>
          <p:cNvPr id="54" name="14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5943600" cy="5638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MARIOLAROSA.I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5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8487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MARIOLAROSA.I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6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8305920" cy="5257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MARIOLAROSA.I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9" descr=""/>
          <p:cNvPicPr/>
          <p:nvPr/>
        </p:nvPicPr>
        <p:blipFill>
          <a:blip r:embed="rId1"/>
          <a:stretch/>
        </p:blipFill>
        <p:spPr>
          <a:xfrm>
            <a:off x="-171360" y="-228600"/>
            <a:ext cx="9486720" cy="7315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MARIOLAROSA.I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13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162560" cy="5029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MARIOLAROSA.I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4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705800" cy="5257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MARIOLAROSA.I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10" descr=""/>
          <p:cNvPicPr/>
          <p:nvPr/>
        </p:nvPicPr>
        <p:blipFill>
          <a:blip r:embed="rId1"/>
          <a:stretch/>
        </p:blipFill>
        <p:spPr>
          <a:xfrm>
            <a:off x="1219320" y="609480"/>
            <a:ext cx="6933960" cy="5181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MARIOLAROSA.I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6" descr=""/>
          <p:cNvPicPr/>
          <p:nvPr/>
        </p:nvPicPr>
        <p:blipFill>
          <a:blip r:embed="rId1"/>
          <a:stretch/>
        </p:blipFill>
        <p:spPr>
          <a:xfrm>
            <a:off x="1371600" y="533520"/>
            <a:ext cx="69343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MARIOLAROSA.I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2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077320" cy="556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MARIOLAROSA.I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2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7696080" cy="5410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MARIOLAROSA.I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533520" y="990720"/>
            <a:ext cx="8153280" cy="4091040"/>
            <a:chOff x="533520" y="990720"/>
            <a:chExt cx="8153280" cy="4091040"/>
          </a:xfrm>
        </p:grpSpPr>
        <p:graphicFrame>
          <p:nvGraphicFramePr>
            <p:cNvPr id="64" name=""/>
            <p:cNvGraphicFramePr/>
            <p:nvPr/>
          </p:nvGraphicFramePr>
          <p:xfrm>
            <a:off x="533520" y="990720"/>
            <a:ext cx="8153280" cy="4091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520" y="990720"/>
                      <a:ext cx="8153280" cy="409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2598120" y="3244680"/>
              <a:ext cx="102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6a6b84"/>
                  </a:solidFill>
                  <a:latin typeface="Arial"/>
                </a:rPr>
                <a:t>Ventma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971760" y="320364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6a6b84"/>
                  </a:solidFill>
                  <a:latin typeface="Arial"/>
                </a:rPr>
                <a:t>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782760" y="396252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6a6b84"/>
                  </a:solidFill>
                  <a:latin typeface="Arial"/>
                </a:rPr>
                <a:t>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MARIOLAROSA.I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609480" y="200160"/>
          <a:ext cx="7925040" cy="597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00160"/>
                    <a:ext cx="7925040" cy="59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MARIOLAROSA.I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1" descr=""/>
          <p:cNvPicPr/>
          <p:nvPr/>
        </p:nvPicPr>
        <p:blipFill>
          <a:blip r:embed="rId1"/>
          <a:stretch/>
        </p:blipFill>
        <p:spPr>
          <a:xfrm>
            <a:off x="914400" y="380880"/>
            <a:ext cx="7467480" cy="5791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MARIOLAROSA.I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3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467480" cy="4311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MARIOLAROSA.I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15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7315200" cy="5639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MARIOLAROSA.I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7" descr=""/>
          <p:cNvPicPr/>
          <p:nvPr/>
        </p:nvPicPr>
        <p:blipFill>
          <a:blip r:embed="rId1"/>
          <a:stretch/>
        </p:blipFill>
        <p:spPr>
          <a:xfrm>
            <a:off x="2514600" y="380880"/>
            <a:ext cx="4343400" cy="5867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MARIOLAROSA.I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14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0292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981080" y="0"/>
            <a:ext cx="5486400" cy="642600"/>
          </a:xfrm>
          <a:prstGeom prst="rect">
            <a:avLst/>
          </a:prstGeom>
          <a:solidFill>
            <a:srgbClr val="fcfdc6"/>
          </a:solidFill>
          <a:ln cap="sq"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Le diapositive “La terapia inalatoria” sono disponibili sul sito internet www.mariolarosa.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MARIOLAROSA.I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old%20nebulizer" descr=""/>
          <p:cNvPicPr/>
          <p:nvPr/>
        </p:nvPicPr>
        <p:blipFill>
          <a:blip r:embed="rId1"/>
          <a:stretch/>
        </p:blipFill>
        <p:spPr>
          <a:xfrm>
            <a:off x="1066680" y="147600"/>
            <a:ext cx="7010640" cy="6037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MARIOLAROSA.I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7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8001000" cy="5562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MARIOLAROSA.I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3" descr=""/>
          <p:cNvPicPr/>
          <p:nvPr/>
        </p:nvPicPr>
        <p:blipFill>
          <a:blip r:embed="rId1"/>
          <a:stretch/>
        </p:blipFill>
        <p:spPr>
          <a:xfrm>
            <a:off x="2514600" y="533520"/>
            <a:ext cx="3962520" cy="5562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MARIOLAROSA.I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4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495920" cy="6248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MARIOLAROSA.I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13" descr=""/>
          <p:cNvPicPr/>
          <p:nvPr/>
        </p:nvPicPr>
        <p:blipFill>
          <a:blip r:embed="rId1"/>
          <a:stretch/>
        </p:blipFill>
        <p:spPr>
          <a:xfrm>
            <a:off x="762120" y="666720"/>
            <a:ext cx="7619760" cy="5524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MARIOLAROSA.I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9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010640" cy="5791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MARIOLAROSA.I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8" descr=""/>
          <p:cNvPicPr/>
          <p:nvPr/>
        </p:nvPicPr>
        <p:blipFill>
          <a:blip r:embed="rId1"/>
          <a:stretch/>
        </p:blipFill>
        <p:spPr>
          <a:xfrm>
            <a:off x="762120" y="1252440"/>
            <a:ext cx="7619760" cy="4353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MARIOLAROSA.I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11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8001000" cy="5334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MARIOLAROSA.I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9T18:58:41Z</dcterms:created>
  <dc:creator>www.mariolarosa.it</dc:creator>
  <dc:description/>
  <dc:language>en-US</dc:language>
  <cp:lastModifiedBy>franky</cp:lastModifiedBy>
  <dcterms:modified xsi:type="dcterms:W3CDTF">2003-01-15T23:03:38Z</dcterms:modified>
  <cp:revision>20</cp:revision>
  <dc:subject/>
  <dc:title>Nessun titolo diapositiva</dc:title>
</cp:coreProperties>
</file>