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904-AF9C-4A33-99B2-BC25E00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052-24C1-4F3A-BF9A-2628EEE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DB6-5132-4464-9C1A-DB74F7E8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3A9-1CD2-4455-BE9D-C777DA0C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A98-87C9-4ADD-88E4-911343B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FD7-A154-47BC-9367-4B4C2A1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C5A-6D97-44C3-BFF5-20F70B85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4EA-837E-49B2-A068-CDB4A86C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D40-FC5C-4D3F-A79A-89B7EF7A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913-91AA-49FC-8197-805B901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0A5-5E46-4995-BF69-35CD90B2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59F-3888-4AEA-9739-9D08DC21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5602-8754-455E-BF71-A3445DF653B3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 infezioni dell’apparato respiratorio:la terapia farmacolog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3886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Mario La Ros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Dipartimento di Pediatria, Università degli Studi Di Catani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orrento2001,V Congresso SIMR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3" name="catania%20notte2" descr=""/>
          <p:cNvPicPr/>
          <p:nvPr/>
        </p:nvPicPr>
        <p:blipFill>
          <a:blip r:embed="rId1"/>
          <a:stretch/>
        </p:blipFill>
        <p:spPr>
          <a:xfrm>
            <a:off x="4648320" y="3809880"/>
            <a:ext cx="4286160" cy="2810160"/>
          </a:xfrm>
          <a:prstGeom prst="rect">
            <a:avLst/>
          </a:prstGeom>
          <a:ln w="0">
            <a:noFill/>
          </a:ln>
        </p:spPr>
      </p:pic>
      <p:pic>
        <p:nvPicPr>
          <p:cNvPr id="44" name="Unictgif2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990360" cy="98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Valutazioni diagnostiche suggeri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mocrom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mocultur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ubercolin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Agglutinine a fredd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Radiografia torace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aggiunta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: in bambini &lt;a 20 settimane, afebbrili culture per Clamidiae e/o ricerca anticorpi monoclonali, o colorazioni Giemsa/Elisa dello scraping congiuntivale.( Steele e coll 1999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lore diagnostico di alcune indagini microbiologich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600200"/>
          <a:ext cx="8672400" cy="46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7240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Fattori Epidemiologic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10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RSV e HIB sono più comuni in autunno ed in invern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Lo S.Pneumonie mostra meno fluttuazioni stagional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Le CAP da Mycoplasma non mostrano fluttuazioni annuali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imes New Roman"/>
              </a:rPr>
              <a:t>a dx 3 anni di ricoveri per CAP 1996-2000 Dipartimento Pediatria Catania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00" name="EPIDEMIOLOGIA%20pac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0520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Anamnesi Patologica Remo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4 bambini ricoverati consecutivamente per PAC nel triennio 1996-2000 . Dipartimento di Pediatria Università di Catani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04" name="aNAMNESI%20pATO%20PROSSIMA%20NOSTRI%20PAZIENTI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82752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Tos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4 bambini ricoverati consecutivamente per PAC nel triennio 1996-2000 . Dipartimento di Pediatria Università di Catani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08" name="TOSSE%20AL%20RICOVERO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0080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 : Clin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FEBBRE 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4 bambini ricoverati consecutivamente per PAC nel triennio 1996-2000 . Dipartimento di Pediatria Università di Catani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12" name="FEBBRE%20AL%20MOMENTO%20DEL%20RICOVERO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487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94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Ranto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4 bambini ricoverati consecutivamente per PAC nel triennio 1996-2000 . Dipartimento di Pediatria Università di Catani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16" name="POSITIV%20REPERTOASCULTATORIO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191120" cy="4343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PAC: Fattori che condizionano la scelta della terapia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Età del paziente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namnesi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Presentazione clinic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Epidemiologi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Resistenze nel territori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Quadro radiologic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Dati culturali disponibili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linee guida ID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2" name="idsaLINEEGUIDA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809040" cy="397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RTI : antibiotici ora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Times New Roman"/>
              </a:rPr>
              <a:t>La gran parte dei pazienti ricoverati in ospedale con LRTI vengono trattati con antibiotici endovenosi per qualsivoglia infezione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Times New Roman"/>
              </a:rPr>
              <a:t>In pazienti non immunocompromessi (o con infezioni non gravi) amoxi-clavulanico è egualmente efficace di una cefalosporina di terza generazione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Times New Roman"/>
              </a:rPr>
              <a:t>Il trattamento orale è più facile,costa meno e diminuisce i giorni di degenza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L’uso rutinario di antibiotici parenterali in questi pazienti non può essere giustificato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94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ff"/>
                </a:solidFill>
                <a:latin typeface="Times New Roman"/>
              </a:rPr>
              <a:t>Chan e coll BMJ 1995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INIZIONE: INFEZIONI DELLE BASSE VIE AERE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6" name="foto%20alte%20vie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32484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6172200"/>
            <a:ext cx="2521080" cy="40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antibiotici ora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i antibiotici orali coprono le forme lieve o moderate di PAC in pediatri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La terapia parenterale deve essere riservata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ai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onat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d ai pazienti con PAC che hanno richiesto ricovero ospedaliero per</a:t>
            </a: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56272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ff"/>
                </a:solidFill>
                <a:latin typeface="Times New Roman"/>
              </a:rPr>
              <a:t>A Practical guide for diagnosis and treatment of Pediatric Pneumonia, Can Med Assoc J 1997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733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aspetto “settico”               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mancata risposta al trattament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distress respiratorio   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ospite immuno-compromess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7339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Times New Roman"/>
              </a:rPr>
              <a:t>disidratazione, vomit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Times New Roman"/>
              </a:rPr>
              <a:t>mancata complianc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Times New Roman"/>
              </a:rPr>
              <a:t>necessità di O2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00"/>
                </a:solidFill>
                <a:latin typeface="Times New Roman"/>
              </a:rPr>
              <a:t>PAC :Terapia Antibiotica Ambulatoriale di Prima Linea </a:t>
            </a:r>
            <a:r>
              <a:rPr b="0" lang="it-IT" sz="3600" spc="-1" strike="noStrike">
                <a:solidFill>
                  <a:srgbClr val="ffcc00"/>
                </a:solidFill>
                <a:latin typeface="Times New Roman"/>
              </a:rPr>
              <a:t>(adulti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5" name="FRANCESI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50120" y="636264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Laurichesse e coll 1998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00"/>
                </a:solidFill>
                <a:latin typeface="Times New Roman"/>
              </a:rPr>
              <a:t>PAC:Terapia Antibiotica in 164 Bambini Ricoverat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9" name="terapie%20antibiotiche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5027400" cy="4203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7712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286000"/>
            <a:ext cx="243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4 Bambini Ricoverati. Dip. Pediatria, </a:t>
            </a:r>
            <a:br>
              <a:rPr sz="2800"/>
            </a:b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Catania 1996-2000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00"/>
                </a:solidFill>
                <a:latin typeface="Times New Roman"/>
              </a:rPr>
              <a:t>PAC: Terapia Antibiotica Ospedaliera di Seconda Line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antibiotici%202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7712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438280"/>
            <a:ext cx="289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4 Bambini Ricoverati. Dip. Pediatria, </a:t>
            </a:r>
            <a:br>
              <a:rPr sz="2800"/>
            </a:b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Catania 1996-2000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ione Satellitare Eruzione dell’Etna Luglio 200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Sicily_A2001203_0953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8" name="Unictgif2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5486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Le presenti diapositive sono disponibili nel sito www.mariolarosa.it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971800"/>
            <a:ext cx="196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Grazie per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l’attenzion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olmoniti Acquisite in Comunità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inizi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Infezione del  parenchima polmonare con  reperti ascoltatori tipici (rantoli) ed infiltrati radiologici in pazienti ospedalizzati per meno di 14 giorni.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IDSA Guidelines, Bartlet e coll.)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Infezione acuta,con febbre elevata ed improvvisa (&gt;38.5), rantoli locali e/o un quadro radiologico compatibile con un’infezione polmonare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Laurichesse e coll) 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incidenza e fattori di risch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30-45 per mille  sotto i 5 ann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-20 per mille fra i 5 ed i 9 ann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6-12 per mille sopra i 9 anni ed in adolescent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58128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Prematurità, malnutrizione, basso livello socioeconomico, fumo passivo, frequenza all’asilo nido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Malattie di base (cardio-polmonari, immunitarie, sistema nervoso)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00"/>
                </a:solidFill>
                <a:latin typeface="Times New Roman"/>
              </a:rPr>
              <a:t>PAC: agenti etiologic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Non identificabili nel 40-60% dei casi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l miglior indice predittore è costituito dall’età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43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1-3 mes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sindrome pneumonitica, afebbrile: Clamidyae tracomatis. RSV, Bordetella, altri virus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276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1-24 mes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CAP lieve moderata: RSV, altri virus, S. Pneumonie, Hib, Clamidiae tracomatis, Mycoplasma pneumonie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0384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2-5 ann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virus, S. Pneumoniae, Hib, M. pneumoniae, Clamidia Pneum.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5720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6-18 ann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M.Pneumoniae, S. Pneumonie, C. Pneumoniae, Hib, Adenovirus, altri virus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Taj Jadvji Can Med Assoc J 1997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69960" y="345960"/>
            <a:ext cx="76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      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Etiologia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64" name="etiologia%20virale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6840" y="358920"/>
            <a:ext cx="931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3700" spc="-1" strike="noStrike">
                <a:solidFill>
                  <a:srgbClr val="ffff66"/>
                </a:solidFill>
                <a:latin typeface="Tahoma"/>
              </a:rPr>
              <a:t>     </a:t>
            </a:r>
            <a:endParaRPr b="0" lang="en-US" sz="37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2320"/>
            <a:ext cx="93949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                   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                        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Età  (anni)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Times New Roman"/>
              </a:rPr>
              <a:t>Diagnosi                  2- 4 (%)            5 - 7 (%)</a:t>
            </a:r>
            <a:r>
              <a:rPr b="1" i="1" lang="it-IT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it-IT" sz="2000" spc="-1" strike="noStrike">
                <a:solidFill>
                  <a:srgbClr val="ffff66"/>
                </a:solidFill>
                <a:latin typeface="Times New Roman"/>
              </a:rPr>
              <a:t>              &gt;7 (%)              Totale (%)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Bronchite acuta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 14/62 (22.5)   10/34 (29.4)        12/17 (70.5)     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36/113 (31.8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Respiro Sibilante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 12/53 (22.6)      5/15 (33.3)         7/14 (50.0)      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24/82 (29.2)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Polmonite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43/209 (20.5)   56/123 (45.5)       51/86 (59.3)     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150/418 (35.8)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Totale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              67/324 (21.3)   71/172 (41.3)      70/117 (59.8)      210/613 (34.3)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600" y="227160"/>
            <a:ext cx="171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17520"/>
            <a:ext cx="85168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ncidenza di Infezione Acuta da 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M. pneumoniae</a:t>
            </a: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 in Bambini Affetti da Infezioni delle Vie Aeree Inferiori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(PCR e/o sierologia)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71440" y="2610000"/>
            <a:ext cx="15840" cy="15840"/>
          </a:xfrm>
          <a:prstGeom prst="line">
            <a:avLst/>
          </a:prstGeom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6160" y="3500280"/>
            <a:ext cx="15840" cy="0"/>
          </a:xfrm>
          <a:prstGeom prst="line">
            <a:avLst/>
          </a:prstGeom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78120" y="3108240"/>
            <a:ext cx="6946920" cy="0"/>
          </a:xfrm>
          <a:prstGeom prst="line">
            <a:avLst/>
          </a:prstGeom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87680"/>
            <a:ext cx="883296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38520"/>
            <a:ext cx="877428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778360"/>
            <a:ext cx="891072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280" y="6060960"/>
            <a:ext cx="2843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it-IT" sz="1500" spc="-1" strike="noStrike">
                <a:solidFill>
                  <a:srgbClr val="ffccff"/>
                </a:solidFill>
                <a:latin typeface="Times New Roman"/>
              </a:rPr>
              <a:t>Principi et al.,</a:t>
            </a:r>
            <a:r>
              <a:rPr b="0" i="1" lang="it-IT" sz="1500" spc="-1" strike="noStrike">
                <a:solidFill>
                  <a:srgbClr val="ffccff"/>
                </a:solidFill>
                <a:latin typeface="Times New Roman"/>
              </a:rPr>
              <a:t> Clin Infect Dis </a:t>
            </a:r>
            <a:r>
              <a:rPr b="0" lang="it-IT" sz="1500" spc="-1" strike="noStrike">
                <a:solidFill>
                  <a:srgbClr val="ffccff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Clin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zio improvvis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ebbre &gt; 38.5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chipne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pnea, rientramenti intercostali, uso muscoli accessor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ss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ntoli ( non udibili se il paziente è disidratato o nella fase iniziale della malattia)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n sibil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Tachipnea e suggestiva di CAP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50 atti respir. /min lattanti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40 atti respir./ min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da 1 anno in poi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49528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Times New Roman"/>
              </a:rPr>
              <a:t>The WHO Young Infants Study Group.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Times New Roman"/>
              </a:rPr>
              <a:t>Ped Infect.Dis. J. 1999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Radiolog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Infezioni Pneumococciche: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la tipica presentazione è l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0" i="1" lang="it-IT" sz="2800" spc="-1" strike="noStrike">
                <a:solidFill>
                  <a:srgbClr val="ffccff"/>
                </a:solidFill>
                <a:latin typeface="Times New Roman"/>
              </a:rPr>
              <a:t>Consolidazione lobar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Infezioni virali: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le tipiche presentazioni sono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0" i="1" lang="it-IT" sz="2800" spc="-1" strike="noStrike">
                <a:solidFill>
                  <a:srgbClr val="ffccff"/>
                </a:solidFill>
                <a:latin typeface="Times New Roman"/>
              </a:rPr>
              <a:t>Infiltrati interstiziali, bronco-alveolari bilaterali, peribronchial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029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ff"/>
                </a:solidFill>
                <a:latin typeface="Times New Roman"/>
              </a:rPr>
              <a:t>Nelson Pediat.Infect.Dis.J .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9:02:07Z</dcterms:created>
  <dc:creator>www.mariolarosa.it</dc:creator>
  <dc:description/>
  <dc:language>en-US</dc:language>
  <cp:lastModifiedBy>www.mariolarosa.it</cp:lastModifiedBy>
  <dcterms:modified xsi:type="dcterms:W3CDTF">2001-09-09T16:04:10Z</dcterms:modified>
  <cp:revision>61</cp:revision>
  <dc:subject/>
  <dc:title>Le infezioni dell’apparato respiratorio:la terapia farmacologica</dc:title>
</cp:coreProperties>
</file>