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wmf" ContentType="image/x-wmf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EEA4-DB85-4DC2-9311-977CF5EE7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BD88-ACDE-4799-B1D7-8D04615F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F2DA-6FE4-4534-B269-4F9B33617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16AE-FC43-4F25-A8EE-E09618A9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E455-1DB4-446C-9E84-96357CBB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75BD-7B05-4D21-BB66-0691A2F1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DC26-8E18-4145-BA20-0012B5FF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1C63-809C-4B02-9B19-AB134CE1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31F8-0CDA-468A-BA67-F898D2E7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DF75-9479-436E-BEA3-2818A812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AE6F-01E2-44D2-A137-7C7E1E88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5FC4-A10C-4F0E-9B39-A7C6A08A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c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c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c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3B30-644A-4341-A84B-15654DEA125D}" type="slidenum">
              <a:rPr b="0" lang="it-IT" sz="1400" spc="-1" strike="noStrike">
                <a:solidFill>
                  <a:srgbClr val="ff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e infezioni dell’apparato respiratorio: la scelta terapeutic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4191120"/>
            <a:ext cx="3886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Mario La Rosa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Dipartimento di Pediatria, Università degli Studi Di Catania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pic>
        <p:nvPicPr>
          <p:cNvPr id="43" name="Unictgif2" descr=""/>
          <p:cNvPicPr/>
          <p:nvPr/>
        </p:nvPicPr>
        <p:blipFill>
          <a:blip r:embed="rId1"/>
          <a:stretch/>
        </p:blipFill>
        <p:spPr>
          <a:xfrm>
            <a:off x="1905120" y="3124080"/>
            <a:ext cx="990360" cy="982800"/>
          </a:xfrm>
          <a:prstGeom prst="rect">
            <a:avLst/>
          </a:prstGeom>
          <a:ln w="0">
            <a:noFill/>
          </a:ln>
        </p:spPr>
      </p:pic>
      <p:pic>
        <p:nvPicPr>
          <p:cNvPr id="44" name="CANADAIR" descr=""/>
          <p:cNvPicPr/>
          <p:nvPr/>
        </p:nvPicPr>
        <p:blipFill>
          <a:blip r:embed="rId2"/>
          <a:stretch/>
        </p:blipFill>
        <p:spPr>
          <a:xfrm>
            <a:off x="4876920" y="2590920"/>
            <a:ext cx="4022640" cy="4095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AC: Clinic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izio improvviso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ebbre &gt; 38.5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chipnea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spnea, rientramenti intercostali, uso muscoli accessori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osse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antoli ( non udibili se il paziente è disidratato o nella fase iniziale della malattia) 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on sibili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Tachipnea e suggestiva di CAP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50 atti respir. /min lattanti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40 atti respir./ min 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da 1 anno in poi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64612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4952880"/>
            <a:ext cx="373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eaeaea"/>
                </a:solidFill>
                <a:latin typeface="Times New Roman"/>
              </a:rPr>
              <a:t>The WHO Young Infants Study Group.</a:t>
            </a:r>
            <a:endParaRPr b="0" lang="en-US" sz="16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eaeaea"/>
                </a:solidFill>
                <a:latin typeface="Times New Roman"/>
              </a:rPr>
              <a:t>Ped Infect.Dis. J. 1999</a:t>
            </a:r>
            <a:endParaRPr b="0" lang="en-US" sz="16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AC: Radiolog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imes New Roman"/>
              </a:rPr>
              <a:t>Infezioni Pneumococciche:</a:t>
            </a:r>
            <a:r>
              <a:rPr b="1" lang="it-IT" sz="2800" spc="-1" strike="noStrike">
                <a:solidFill>
                  <a:srgbClr val="ff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ff"/>
                </a:solidFill>
                <a:latin typeface="Times New Roman"/>
              </a:rPr>
              <a:t>   </a:t>
            </a:r>
            <a:r>
              <a:rPr b="1" lang="it-IT" sz="2800" spc="-1" strike="noStrike">
                <a:solidFill>
                  <a:srgbClr val="ffccff"/>
                </a:solidFill>
                <a:latin typeface="Times New Roman"/>
              </a:rPr>
              <a:t>la tipica presentazione è la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ff"/>
                </a:solidFill>
                <a:latin typeface="Times New Roman"/>
              </a:rPr>
              <a:t>  </a:t>
            </a:r>
            <a:r>
              <a:rPr b="0" i="1" lang="it-IT" sz="2800" spc="-1" strike="noStrike">
                <a:solidFill>
                  <a:srgbClr val="ffccff"/>
                </a:solidFill>
                <a:latin typeface="Times New Roman"/>
              </a:rPr>
              <a:t>Consolidazione lobare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imes New Roman"/>
              </a:rPr>
              <a:t>Infezioni virali: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ff"/>
                </a:solidFill>
                <a:latin typeface="Times New Roman"/>
              </a:rPr>
              <a:t>    </a:t>
            </a:r>
            <a:r>
              <a:rPr b="1" lang="it-IT" sz="2800" spc="-1" strike="noStrike">
                <a:solidFill>
                  <a:srgbClr val="ffccff"/>
                </a:solidFill>
                <a:latin typeface="Times New Roman"/>
              </a:rPr>
              <a:t>le tipiche presentazioni sono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ff"/>
                </a:solidFill>
                <a:latin typeface="Times New Roman"/>
              </a:rPr>
              <a:t>    </a:t>
            </a:r>
            <a:r>
              <a:rPr b="0" i="1" lang="it-IT" sz="2800" spc="-1" strike="noStrike">
                <a:solidFill>
                  <a:srgbClr val="ffccff"/>
                </a:solidFill>
                <a:latin typeface="Times New Roman"/>
              </a:rPr>
              <a:t>Infiltrati interstiziali, bronco-alveolari bilaterali, peribronchiali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29400" y="64612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50292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ccff"/>
                </a:solidFill>
                <a:latin typeface="Times New Roman"/>
              </a:rPr>
              <a:t>Nelson Pediat.Infect.Dis.J .2000</a:t>
            </a:r>
            <a:endParaRPr b="0" lang="en-US" sz="18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AC: Radiolog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752480"/>
            <a:ext cx="8001000" cy="48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254 consecutive radiografie di bambini ricoverati sono state osservate e refertate separatamente da 3 differenti radiologi pediatri e confrontate con  VES, conta dei bianchi,  PCR e la ricerca di 10 virus e 7 batteri.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Un agente causale è stato ritenuto responsabile in215 (85%).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Molti bambini con polmoniti alveolari ,e specialmente quelli con infiltrati lobari, hanno evidenza di infezione batterica.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Gli infiltrati alveolari sono riscontrabili sia nelle forme virali che in quelle batteriche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ccff"/>
                </a:solidFill>
                <a:latin typeface="Times New Roman"/>
              </a:rPr>
              <a:t>Virkky e coll Thorax 2002</a:t>
            </a:r>
            <a:endParaRPr b="0" lang="en-US" sz="16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42600" y="646128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AC:Valutazioni diagnostiche suggerit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2133720"/>
            <a:ext cx="807696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203 bambini italiani ospedalizzati  per PAC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( studio policentrico)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Anticorpi  e PCR da aspirati nasofaringei per M. pneumoniae e C. pneumoniae erano studiati e correlati con la clinica, il laboratorio e la radiologia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Né la clinica, ne il laboratorio distinguevano le infezioni da M.Pneumoniae e C. pneumoniae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La radiologia aveva un valore limitato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Esposito e coll   Eur Respir J 2001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45480" y="6461280"/>
            <a:ext cx="219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AC:Valutazioni diagnostiche suggerit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Emocromo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Emocultura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Tubercolina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Agglutinine a freddo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Radiografia torace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 aggiunta</a:t>
            </a:r>
            <a:r>
              <a:rPr b="0" lang="en-US" sz="2000" spc="-1" strike="noStrike">
                <a:solidFill>
                  <a:srgbClr val="ffccff"/>
                </a:solidFill>
                <a:latin typeface="Times New Roman"/>
              </a:rPr>
              <a:t>: in bambini &lt;a 20 settimane, afebbrili culture per Clamidiae e/o ricerca anticorpi monoclonali, o colorazioni Giemsa/Elisa dello scraping congiuntivale.( Steele e coll 1999)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64612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Valore diagnostico di alcune indagini microbiologich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28600" y="1600200"/>
          <a:ext cx="8672400" cy="46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8672400" cy="46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6629400" y="64612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Nostra esperienza :164 bambini ricoverati consecutivamente per PAC nel triennio 1996-2000 ( studio retrospettivo) .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121932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ff"/>
                </a:solidFill>
                <a:latin typeface="Times New Roman"/>
              </a:rPr>
              <a:t>Epidemiologia, storia, clinica, radiologia, laboratorio ed outcame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42600" y="646128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AC: Fattori Epidemiologici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10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RSV e HIB sono più comuni in autunno ed in inverno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Lo S.Pneumonie mostra meno fluttuazioni stagionali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Le CAP da Mycoplasma non mostrano fluttuazioni annuali 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Times New Roman"/>
              </a:rPr>
              <a:t>a dx 3 anni di ricoveri per CAP 1996-2000 Dipartimento Pediatria Catania</a:t>
            </a:r>
            <a:endParaRPr b="0" lang="en-US" sz="1800" spc="-1" strike="noStrike">
              <a:solidFill>
                <a:srgbClr val="ffccff"/>
              </a:solidFill>
              <a:latin typeface="Times New Roman"/>
            </a:endParaRPr>
          </a:p>
        </p:txBody>
      </p:sp>
      <p:pic>
        <p:nvPicPr>
          <p:cNvPr id="127" name="EPIDEMIOLOGIA%20pac" descr=""/>
          <p:cNvPicPr/>
          <p:nvPr/>
        </p:nvPicPr>
        <p:blipFill>
          <a:blip r:embed="rId1"/>
          <a:stretch/>
        </p:blipFill>
        <p:spPr>
          <a:xfrm>
            <a:off x="4572000" y="1752480"/>
            <a:ext cx="3805200" cy="4114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629400" y="64612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PAC:Anamnesi Patologica Remota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09480" y="609480"/>
            <a:ext cx="7790040" cy="6019920"/>
            <a:chOff x="609480" y="609480"/>
            <a:chExt cx="7790040" cy="6019920"/>
          </a:xfrm>
        </p:grpSpPr>
        <p:pic>
          <p:nvPicPr>
            <p:cNvPr id="131" name="aNAMNESI%20pATO%20PROSSIMA%20NOSTRI%20PAZIENTI" descr=""/>
            <p:cNvPicPr/>
            <p:nvPr/>
          </p:nvPicPr>
          <p:blipFill>
            <a:blip r:embed="rId1"/>
            <a:stretch/>
          </p:blipFill>
          <p:spPr>
            <a:xfrm>
              <a:off x="609480" y="609480"/>
              <a:ext cx="7790040" cy="601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 txBox="1"/>
            <p:nvPr/>
          </p:nvSpPr>
          <p:spPr>
            <a:xfrm>
              <a:off x="609480" y="609480"/>
              <a:ext cx="7790040" cy="6019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ffcc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ff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AC: febbre e toss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4" name="TOSSE%20AL%20RICOVERO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4038480" cy="4724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400800" y="63244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  <p:pic>
        <p:nvPicPr>
          <p:cNvPr id="136" name="FEBBRE%20AL%20MOMENTO%20DEL%20RICOVERO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4057560" cy="4724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Times New Roman"/>
              </a:rPr>
              <a:t>Aumentata prevalenza degli S.pneumoniae resistenti negli USA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ff"/>
                </a:solidFill>
                <a:latin typeface="Times New Roman"/>
              </a:rPr>
              <a:t>    </a:t>
            </a:r>
            <a:r>
              <a:rPr b="0" lang="it-IT" sz="2800" spc="-1" strike="noStrike">
                <a:solidFill>
                  <a:srgbClr val="ffccff"/>
                </a:solidFill>
                <a:latin typeface="Times New Roman"/>
              </a:rPr>
              <a:t>Durante il 1998, 4013 casi di polmoniti riferibili allo S. pneumonie sono stati segnalati ( il 24% erano resistenti alla penicillina)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ccff"/>
                </a:solidFill>
                <a:latin typeface="Times New Roman"/>
              </a:rPr>
              <a:t>Whithney e coll N Engl J Med 2000</a:t>
            </a:r>
            <a:endParaRPr b="0" lang="en-US" sz="1800" spc="-1" strike="noStrike">
              <a:solidFill>
                <a:srgbClr val="ffccff"/>
              </a:solidFill>
              <a:latin typeface="Times New Roman"/>
            </a:endParaRPr>
          </a:p>
        </p:txBody>
      </p:sp>
      <p:pic>
        <p:nvPicPr>
          <p:cNvPr id="47" name="calendario" descr=""/>
          <p:cNvPicPr/>
          <p:nvPr/>
        </p:nvPicPr>
        <p:blipFill>
          <a:blip r:embed="rId1"/>
          <a:stretch/>
        </p:blipFill>
        <p:spPr>
          <a:xfrm>
            <a:off x="4648320" y="2030400"/>
            <a:ext cx="3809880" cy="4016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942600" y="646128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AC:Rantoli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8" name="POSITIV%20REPERTOASCULTATORIO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381880" cy="48006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400800" y="61722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AC: Microbiologia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1" name="microbiologia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010280" cy="49622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942600" y="646128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scelta terapeutic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2438280"/>
            <a:ext cx="7238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ff"/>
                </a:solidFill>
                <a:latin typeface="Times New Roman"/>
              </a:rPr>
              <a:t>90 adulti ospedalizzati per febbre ed opacità polmonare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ff"/>
                </a:solidFill>
                <a:latin typeface="Times New Roman"/>
              </a:rPr>
              <a:t>A random :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ff"/>
                </a:solidFill>
                <a:latin typeface="Times New Roman"/>
              </a:rPr>
              <a:t>-45 claritro (500 mg x2)per 14 giorni 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ff"/>
                </a:solidFill>
                <a:latin typeface="Times New Roman"/>
              </a:rPr>
              <a:t>- 45 claritro +cefuroxime (500mgx2) per 7 giorni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      </a:t>
            </a: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I due gruppi, monitorati per clinica, radiologia e laboratorio non mostrarono differenze nel tempo di risoluzione della CAP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491160"/>
            <a:ext cx="31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ccff"/>
                </a:solidFill>
                <a:latin typeface="Times New Roman"/>
              </a:rPr>
              <a:t>Rovira e coll Respiration 1999</a:t>
            </a:r>
            <a:endParaRPr b="0" lang="en-US" sz="18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42600" y="646128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cc00"/>
                </a:solidFill>
                <a:latin typeface="Times New Roman"/>
              </a:rPr>
              <a:t>Etiologia e trattamento delle PAC in bambini ambulatoriali. </a:t>
            </a: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ccff"/>
                </a:solidFill>
                <a:latin typeface="Times New Roman"/>
              </a:rPr>
              <a:t>168 bambini, 55% maschi, 63% &lt;i 5 anni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ccff"/>
                </a:solidFill>
                <a:latin typeface="Times New Roman"/>
              </a:rPr>
              <a:t>L’agente etiologico fu identificato in 73 (43%) ed attribuito a M.pneumonie in 7%, C. pneumoniae in 6%, S. pneumoniae in 27% e virus in 20%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Fu prescritto a random</a:t>
            </a:r>
            <a:r>
              <a:rPr b="0" lang="it-IT" sz="2400" spc="-1" strike="noStrike">
                <a:solidFill>
                  <a:srgbClr val="ffccff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ccff"/>
                </a:solidFill>
                <a:latin typeface="Times New Roman"/>
              </a:rPr>
              <a:t>   </a:t>
            </a:r>
            <a:r>
              <a:rPr b="0" lang="it-IT" sz="2400" spc="-1" strike="noStrike">
                <a:solidFill>
                  <a:srgbClr val="ffccff"/>
                </a:solidFill>
                <a:latin typeface="Times New Roman"/>
              </a:rPr>
              <a:t>1)azitro(10 mg/die) x 5  giorni  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ccff"/>
                </a:solidFill>
                <a:latin typeface="Times New Roman"/>
              </a:rPr>
              <a:t>   </a:t>
            </a:r>
            <a:r>
              <a:rPr b="0" lang="it-IT" sz="2400" spc="-1" strike="noStrike">
                <a:solidFill>
                  <a:srgbClr val="ffccff"/>
                </a:solidFill>
                <a:latin typeface="Times New Roman"/>
              </a:rPr>
              <a:t>2) amoxiclavulanico(40 mg/kg/die) per 10 giorni &lt; a 5 anni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ccff"/>
                </a:solidFill>
                <a:latin typeface="Times New Roman"/>
              </a:rPr>
              <a:t>   </a:t>
            </a:r>
            <a:r>
              <a:rPr b="0" lang="it-IT" sz="2400" spc="-1" strike="noStrike">
                <a:solidFill>
                  <a:srgbClr val="ffccff"/>
                </a:solidFill>
                <a:latin typeface="Times New Roman"/>
              </a:rPr>
              <a:t>3) eritromicina estolato (40 mg/kg/die)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Nessuna differenza nella risposta clinica in relazione al trattamento 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ccff"/>
                </a:solidFill>
                <a:latin typeface="Times New Roman"/>
              </a:rPr>
              <a:t>Pediatr Infect Dis J. Wubbel e coll. 1999</a:t>
            </a:r>
            <a:endParaRPr b="0" lang="en-US" sz="1600" spc="-1" strike="noStrike">
              <a:solidFill>
                <a:srgbClr val="ffcc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42600" y="646128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ffcc00"/>
                </a:solidFill>
                <a:uFillTx/>
                <a:latin typeface="Times New Roman"/>
              </a:rPr>
              <a:t>The American Thoracic Society</a:t>
            </a:r>
            <a:r>
              <a:rPr b="0" lang="it-IT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ccff"/>
                </a:solidFill>
                <a:latin typeface="Times New Roman"/>
              </a:rPr>
              <a:t>points out that clinical presentations of patients infected by the same pathogen often differ…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295280"/>
            <a:ext cx="7696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ff"/>
                </a:solidFill>
                <a:latin typeface="Times New Roman"/>
              </a:rPr>
              <a:t>…</a:t>
            </a:r>
            <a:r>
              <a:rPr b="1" lang="it-IT" sz="2400" spc="-1" strike="noStrike">
                <a:solidFill>
                  <a:srgbClr val="ffccff"/>
                </a:solidFill>
                <a:latin typeface="Times New Roman"/>
              </a:rPr>
              <a:t>attempts to clinch a diagnosis by culturing an organism often fail..so an empiric approach is reccomend (1993)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48280" y="296244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411480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2666880"/>
            <a:ext cx="7391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ffcc00"/>
                </a:solidFill>
                <a:uFillTx/>
                <a:latin typeface="Times New Roman"/>
              </a:rPr>
              <a:t>The Infectious Diseases Society of America</a:t>
            </a:r>
            <a:r>
              <a:rPr b="1" lang="it-IT" sz="2400" spc="-1" strike="noStrike">
                <a:solidFill>
                  <a:srgbClr val="ffccff"/>
                </a:solidFill>
                <a:latin typeface="Times New Roman"/>
              </a:rPr>
              <a:t>, in contrast, enphasize the use of sputum Gram’s stain and culture in all patients, whenever possible….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44956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ff"/>
                </a:solidFill>
                <a:latin typeface="Times New Roman"/>
              </a:rPr>
              <a:t>…</a:t>
            </a:r>
            <a:r>
              <a:rPr b="1" lang="it-IT" sz="2400" spc="-1" strike="noStrike">
                <a:solidFill>
                  <a:srgbClr val="ffccff"/>
                </a:solidFill>
                <a:latin typeface="Times New Roman"/>
              </a:rPr>
              <a:t>.Macrolides, doxycilline, and fluoroqinolones are suggested for primary empiric therapy in immunocompetent adults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57913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ff"/>
                </a:solidFill>
                <a:latin typeface="Times New Roman"/>
              </a:rPr>
              <a:t>Alternatives:amoxicillin/clavulanate or second-generation cephalosporin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42600" y="646128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AC: linee guida IDS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59" name="idsaLINEEGUIDA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809040" cy="397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400800" y="61722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00"/>
                </a:solidFill>
                <a:latin typeface="Times New Roman"/>
              </a:rPr>
              <a:t>PAC :Terapia Antibiotica Ambulatoriale di Prima Linea </a:t>
            </a:r>
            <a:r>
              <a:rPr b="0" lang="it-IT" sz="3600" spc="-1" strike="noStrike">
                <a:solidFill>
                  <a:srgbClr val="ffcc00"/>
                </a:solidFill>
                <a:latin typeface="Times New Roman"/>
              </a:rPr>
              <a:t>(adulti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62" name="FRANCESI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010640" cy="4114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050120" y="636264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ccff"/>
                </a:solidFill>
                <a:latin typeface="Times New Roman"/>
              </a:rPr>
              <a:t>Laurichesse e coll 1998</a:t>
            </a:r>
            <a:endParaRPr b="0" lang="en-US" sz="18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61722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RTI : antibiotici orali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ff"/>
                </a:solidFill>
                <a:latin typeface="Times New Roman"/>
              </a:rPr>
              <a:t>La gran parte dei pazienti ricoverati in ospedale con LRTI vengono trattati con antibiotici endovenosi per qualsivoglia infezione</a:t>
            </a:r>
            <a:endParaRPr b="0" lang="en-US" sz="26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ff"/>
                </a:solidFill>
                <a:latin typeface="Times New Roman"/>
              </a:rPr>
              <a:t>In pazienti non immunocompromessi (o con infezioni non gravi) amoxi-clavulanico è egualmente efficace di una cefalosporina di terza generazione</a:t>
            </a:r>
            <a:endParaRPr b="0" lang="en-US" sz="26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ff"/>
                </a:solidFill>
                <a:latin typeface="Times New Roman"/>
              </a:rPr>
              <a:t>Il trattamento orale è più facile,costa meno e diminuisce i giorni di degenza</a:t>
            </a:r>
            <a:endParaRPr b="0" lang="en-US" sz="26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L’uso rutinario di antibiotici parenterali in questi pazienti non può essere giustificato</a:t>
            </a:r>
            <a:endParaRPr b="0" lang="en-US" sz="26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00800" y="61722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594360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ccff"/>
                </a:solidFill>
                <a:latin typeface="Times New Roman"/>
              </a:rPr>
              <a:t>Chan e coll BMJ 1995</a:t>
            </a:r>
            <a:endParaRPr b="0" lang="en-US" sz="16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AC: antibiotici orali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li antibiotici orali coprono le forme lieve o moderate di PAC in pediatria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La terapia parenterale deve essere riservata</a:t>
            </a: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 ai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onat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ed ai pazienti con PAC che hanno richiesto ricovero ospedaliero per</a:t>
            </a: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00800" y="61722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5562720"/>
            <a:ext cx="495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ccff"/>
                </a:solidFill>
                <a:latin typeface="Times New Roman"/>
              </a:rPr>
              <a:t>A Practical guide for diagnosis and treatment of Pediatric Pneumonia, Can Med Assoc J 1997</a:t>
            </a:r>
            <a:endParaRPr b="0" lang="en-US" sz="16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37339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ffccff"/>
                </a:solidFill>
                <a:latin typeface="Times New Roman"/>
              </a:rPr>
              <a:t>aspetto “settico”                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ffccff"/>
                </a:solidFill>
                <a:latin typeface="Times New Roman"/>
              </a:rPr>
              <a:t>mancata risposta al trattamento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ccff"/>
                </a:solidFill>
                <a:latin typeface="Times New Roman"/>
              </a:rPr>
              <a:t>distress respiratorio    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ccff"/>
                </a:solidFill>
                <a:latin typeface="Times New Roman"/>
              </a:rPr>
              <a:t>ospite immuno-compromesso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62720" y="373392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ff"/>
                </a:solidFill>
                <a:latin typeface="Times New Roman"/>
              </a:rPr>
              <a:t>disidratazione, vomito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ff"/>
                </a:solidFill>
                <a:latin typeface="Times New Roman"/>
              </a:rPr>
              <a:t>mancata compliance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ff"/>
                </a:solidFill>
                <a:latin typeface="Times New Roman"/>
              </a:rPr>
              <a:t>necessità di O2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erapia empirica per presunta PA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2057400"/>
            <a:ext cx="88390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ETA’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Times New Roman"/>
              </a:rPr>
              <a:t>&lt;2 mesi</a:t>
            </a: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            Ampicillina+ ceftriaxonce o cefotaxime 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                           </a:t>
            </a: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(macrolide se &lt; 20 settimane e si sospetta una C. trachomatis)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2 mesi-5 anni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Lieve               Amoxicillina ( orale)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Grave              Ceftriaxone o cefotaxime ( aggiungere oxacillina o nafcillina 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                          </a:t>
            </a: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se sospettato Staphylococcus aureous)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Times New Roman"/>
              </a:rPr>
              <a:t>5-21 anni           </a:t>
            </a: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Macrolide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62485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ccff"/>
                </a:solidFill>
                <a:latin typeface="Times New Roman"/>
              </a:rPr>
              <a:t>Russel e coll. Infect Med 1999</a:t>
            </a:r>
            <a:endParaRPr b="0" lang="en-US" sz="18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42600" y="646128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olmoniti Acquisite in Comunità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efinizio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ccff"/>
                </a:solidFill>
                <a:latin typeface="Times New Roman"/>
              </a:rPr>
              <a:t>Infezione del  parenchima polmonare con  reperti ascoltatori tipici (rantoli) ed infiltrati radiologici in pazienti ospedalizzati per meno di 14 giorni. </a:t>
            </a:r>
            <a:r>
              <a:rPr b="0" lang="it-IT" sz="2400" spc="-1" strike="noStrike">
                <a:solidFill>
                  <a:srgbClr val="cc0000"/>
                </a:solidFill>
                <a:latin typeface="Times New Roman"/>
              </a:rPr>
              <a:t>(IDSA Guidelines 1999 , Bartlet e Mundy 1995.)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ccff"/>
                </a:solidFill>
                <a:latin typeface="Times New Roman"/>
              </a:rPr>
              <a:t>Infezione acuta,con febbre elevata ed improvvisa (&gt;38.5), rantoli locali e/o un quadro radiologico compatibile con un’infezione polmonare </a:t>
            </a:r>
            <a:r>
              <a:rPr b="0" lang="it-IT" sz="2400" spc="-1" strike="noStrike">
                <a:solidFill>
                  <a:srgbClr val="cc0000"/>
                </a:solidFill>
                <a:latin typeface="Times New Roman"/>
              </a:rPr>
              <a:t>(Laurichesse e coll 1998)  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Times New Roman"/>
              </a:rPr>
              <a:t>Malattia respiratoria con febbre, assenza di wheeze, e quadro radiologico compatibile</a:t>
            </a:r>
            <a:r>
              <a:rPr b="0" lang="it-IT" sz="2400" spc="-1" strike="noStrike">
                <a:solidFill>
                  <a:srgbClr val="cc0000"/>
                </a:solidFill>
                <a:latin typeface="Times New Roman"/>
              </a:rPr>
              <a:t>  (Clements e coll 2000,Drummon e coll 2000)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00800" y="61722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uggerimenti terapeutici (1)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60020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ff"/>
                </a:solidFill>
                <a:latin typeface="Times New Roman"/>
              </a:rPr>
              <a:t>Amoxicillina per 7-10 giorni per bambini dai 2 ai 5 anni                        il patogeno più frequentemente  sospettato è lo S. pneumoniae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0" y="2209680"/>
            <a:ext cx="1447920" cy="228600"/>
          </a:xfrm>
          <a:prstGeom prst="rightArrow">
            <a:avLst>
              <a:gd name="adj1" fmla="val 50000"/>
              <a:gd name="adj2" fmla="val 158346"/>
            </a:avLst>
          </a:prstGeom>
          <a:solidFill>
            <a:srgbClr val="ff33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320040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ff"/>
                </a:solidFill>
                <a:latin typeface="Times New Roman"/>
              </a:rPr>
              <a:t>Macrolide per 7-10 giorni in bambini superiori ai 5 anni                        i patogeni più frequentemente sospettati sono M. pneumoniae, C. pneumoniae, S. pneumonie sensibile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38280" y="3809880"/>
            <a:ext cx="1447920" cy="228600"/>
          </a:xfrm>
          <a:prstGeom prst="rightArrow">
            <a:avLst>
              <a:gd name="adj1" fmla="val 50000"/>
              <a:gd name="adj2" fmla="val 158346"/>
            </a:avLst>
          </a:prstGeom>
          <a:solidFill>
            <a:srgbClr val="ff33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624852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ccff"/>
                </a:solidFill>
                <a:latin typeface="Times New Roman"/>
              </a:rPr>
              <a:t>Evidenced-based clinical practice of cap in children, National Guideline Clearinghouse 2000</a:t>
            </a:r>
            <a:endParaRPr b="0" lang="en-US" sz="18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942600" y="646128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uggerimenti terapeutici (2)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-3240" y="6172200"/>
            <a:ext cx="52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ccff"/>
                </a:solidFill>
                <a:latin typeface="Times New Roman"/>
              </a:rPr>
              <a:t>Evidenced-based clinical practice of cap in children,</a:t>
            </a:r>
            <a:endParaRPr b="0" lang="en-US" sz="18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ccff"/>
                </a:solidFill>
                <a:latin typeface="Times New Roman"/>
              </a:rPr>
              <a:t>National Guideline Clearinghouse 2000</a:t>
            </a:r>
            <a:endParaRPr b="0" lang="en-US" sz="18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2286000"/>
            <a:ext cx="678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95280" y="1219320"/>
            <a:ext cx="678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ff"/>
                </a:solidFill>
                <a:latin typeface="Times New Roman"/>
              </a:rPr>
              <a:t>Le cefalosporine sono raccomandate in caso di ceppi resistenti alla penicellina od ai macrolidi ( solo il 5-10% degli S.pneumoniae sono resistenti alle cefalosporine</a:t>
            </a: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23880" y="281952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ff"/>
                </a:solidFill>
                <a:latin typeface="Times New Roman"/>
              </a:rPr>
              <a:t>Amoxicillina ad alte dosi o ceftriaxone parenterale in combinazione con un macrolide danno la più ampia copertura. Tale strategia è indicata per i pazienti con gravi CAP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441972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In generale la monoterapia è raccomandabile in attesa di giudicare la risposta all’antibiotico di prima linea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42600" y="646128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uggerimenti terapeutici (3)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6095880"/>
            <a:ext cx="7238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ccff"/>
                </a:solidFill>
                <a:latin typeface="Times New Roman"/>
              </a:rPr>
              <a:t>Evidenced-based clinical practice of cap in children,</a:t>
            </a:r>
            <a:endParaRPr b="0" lang="en-US" sz="18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ccff"/>
                </a:solidFill>
                <a:latin typeface="Times New Roman"/>
              </a:rPr>
              <a:t>National Guideline Clearinghouse 2000</a:t>
            </a:r>
            <a:endParaRPr b="0" lang="en-US" sz="18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47920" y="2362320"/>
            <a:ext cx="6476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ff"/>
                </a:solidFill>
                <a:latin typeface="Times New Roman"/>
              </a:rPr>
              <a:t>I pazienti che ricevono un trattamento con Azitromicina possono essere trattati solo per 5 giorni, grazie alla sua lunga emivita tissutale 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42600" y="646128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Times New Roman"/>
              </a:rPr>
              <a:t>PAC:Terapia antibiotica in 164 Bambini Ricoverati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98" name="terapie%20antibiotiche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8229600" cy="4724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477120" y="62485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-533520" y="205740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8686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Times New Roman"/>
              </a:rPr>
              <a:t>PAC: Terapia Antibiotica Ospedaliera di Seconda Linea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02" name="antibiotici%202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534160" cy="51814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477120" y="63244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PAC: Fattori che condizionano la scelta della terapia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Età del paziente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Anamnesi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Presentazione clinica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Epidemiologia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Resistenze nel territorio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Quadro radiologico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Dati culturali disponibili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61722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La conoscenza dei dati epidemiologici e dei dati sulle resistenze disponibili…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12952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assieme ad una approfondita anamnesi ed ad una accurata osservazione clinica…..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2120" y="4038480"/>
            <a:ext cx="769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66680" y="380988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236232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coadiuvati dai dati di laboratorio e radiologici…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31240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possono ridurre il costo e teoricamente ridurre lo sviluppo di resistenze….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8080" y="5029200"/>
            <a:ext cx="7925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42670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salvaguardando non solo il paziente ma l’intera comunità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</p:txBody>
      </p:sp>
      <p:pic>
        <p:nvPicPr>
          <p:cNvPr id="215" name="Peditra%20su%20nave%20US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6765840" cy="5486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I nemici della conoscenz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ccff"/>
                </a:solidFill>
                <a:latin typeface="Times New Roman"/>
              </a:rPr>
              <a:t>Ideologia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ccff"/>
                </a:solidFill>
                <a:latin typeface="Times New Roman"/>
              </a:rPr>
              <a:t>Presunzione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ccff"/>
                </a:solidFill>
                <a:latin typeface="Times New Roman"/>
              </a:rPr>
              <a:t>Corporativismo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ccff"/>
                </a:solidFill>
                <a:latin typeface="Times New Roman"/>
              </a:rPr>
              <a:t>Avidità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ccff"/>
                </a:solidFill>
                <a:latin typeface="Times New Roman"/>
              </a:rPr>
              <a:t>Stupidità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ccff"/>
                </a:solidFill>
                <a:latin typeface="Times New Roman"/>
              </a:rPr>
              <a:t>Interesse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ccff"/>
                </a:solidFill>
                <a:latin typeface="Times New Roman"/>
              </a:rPr>
              <a:t>Iper specializzazione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ccff"/>
                </a:solidFill>
                <a:latin typeface="Times New Roman"/>
              </a:rPr>
              <a:t>Eccessiva fiducia nel buon senso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2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Tradizionalismo conservativo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Eccessivo amore per il nuovo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Ignoranza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pigrizia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Distrazione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Stanchezza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Credulità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Pensiero magico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42600" y="646128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Visione Satellitare Eruzione dell’Etna Luglio 2001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21" name="Sicily_A2001203_0953" descr=""/>
          <p:cNvPicPr/>
          <p:nvPr/>
        </p:nvPicPr>
        <p:blipFill>
          <a:blip r:embed="rId1"/>
          <a:stretch/>
        </p:blipFill>
        <p:spPr>
          <a:xfrm>
            <a:off x="3657600" y="2133720"/>
            <a:ext cx="5105520" cy="3886200"/>
          </a:xfrm>
          <a:prstGeom prst="rect">
            <a:avLst/>
          </a:prstGeom>
          <a:ln w="0">
            <a:noFill/>
          </a:ln>
        </p:spPr>
      </p:pic>
      <p:pic>
        <p:nvPicPr>
          <p:cNvPr id="222" name="Unictgif2" descr=""/>
          <p:cNvPicPr/>
          <p:nvPr/>
        </p:nvPicPr>
        <p:blipFill>
          <a:blip r:embed="rId2"/>
          <a:stretch/>
        </p:blipFill>
        <p:spPr>
          <a:xfrm>
            <a:off x="914400" y="4343400"/>
            <a:ext cx="990720" cy="9828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0" y="548640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ccff"/>
                </a:solidFill>
                <a:latin typeface="Times New Roman"/>
              </a:rPr>
              <a:t>Le presenti diapositive sono disponibili nel sito www.mariolarosa.it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2971800"/>
            <a:ext cx="196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Grazie per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l’attenzione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AC: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ncidenza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e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fattori di rischi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30-45 per mille  sotto i 5 anni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16-20 per mille fra i 5 ed i 9 anni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6-12 per mille sopra i 9 anni ed in adolescenti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00800" y="61722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3581280"/>
            <a:ext cx="815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cc0000"/>
                </a:solidFill>
                <a:latin typeface="Times New Roman"/>
              </a:rPr>
              <a:t>Prematurità, malnutrizione, basso livello socioeconomico, fumo passivo, frequenza all’asilo nido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cc0000"/>
                </a:solidFill>
                <a:latin typeface="Times New Roman"/>
              </a:rPr>
              <a:t>Malattie di base (cardio-polmonari, immunitarie, sistema nervoso)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00"/>
                </a:solidFill>
                <a:latin typeface="Times New Roman"/>
              </a:rPr>
              <a:t>PAC: agenti etiologici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Non identificabili nel 40-60% dei casi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Il miglior indice predittore è costituito dall’età 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00800" y="61722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1-3 mesi</a:t>
            </a:r>
            <a:r>
              <a:rPr b="0" lang="it-IT" sz="2000" spc="-1" strike="noStrike">
                <a:solidFill>
                  <a:srgbClr val="ffccff"/>
                </a:solidFill>
                <a:latin typeface="Times New Roman"/>
              </a:rPr>
              <a:t>: sindrome pneumonitica, afebbrile: C.trachomatis. RSV, Bordetella, altri virus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276720"/>
            <a:ext cx="8001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1-24 mesi</a:t>
            </a:r>
            <a:r>
              <a:rPr b="0" lang="it-IT" sz="2000" spc="-1" strike="noStrike">
                <a:solidFill>
                  <a:srgbClr val="ffccff"/>
                </a:solidFill>
                <a:latin typeface="Times New Roman"/>
              </a:rPr>
              <a:t>: CAP lieve moderata: RSV, altri virus, </a:t>
            </a:r>
            <a:r>
              <a:rPr b="1" lang="it-IT" sz="2400" spc="-1" strike="noStrike" u="sng">
                <a:solidFill>
                  <a:srgbClr val="ffccff"/>
                </a:solidFill>
                <a:uFillTx/>
                <a:latin typeface="Times New Roman"/>
              </a:rPr>
              <a:t>S. pneumoniaee</a:t>
            </a:r>
            <a:r>
              <a:rPr b="0" lang="it-IT" sz="2000" spc="-1" strike="noStrike">
                <a:solidFill>
                  <a:srgbClr val="ffccff"/>
                </a:solidFill>
                <a:latin typeface="Times New Roman"/>
              </a:rPr>
              <a:t>, Hib, C. trachomatis, M.pneumoniae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40384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2-5 anni</a:t>
            </a:r>
            <a:r>
              <a:rPr b="0" lang="it-IT" sz="2000" spc="-1" strike="noStrike">
                <a:solidFill>
                  <a:srgbClr val="ffccff"/>
                </a:solidFill>
                <a:latin typeface="Times New Roman"/>
              </a:rPr>
              <a:t>: virus, </a:t>
            </a:r>
            <a:r>
              <a:rPr b="1" lang="it-IT" sz="2400" spc="-1" strike="noStrike" u="sng">
                <a:solidFill>
                  <a:srgbClr val="ffccff"/>
                </a:solidFill>
                <a:uFillTx/>
                <a:latin typeface="Times New Roman"/>
              </a:rPr>
              <a:t>S. pneumoniae</a:t>
            </a:r>
            <a:r>
              <a:rPr b="0" lang="it-IT" sz="2000" spc="-1" strike="noStrike">
                <a:solidFill>
                  <a:srgbClr val="ffccff"/>
                </a:solidFill>
                <a:latin typeface="Times New Roman"/>
              </a:rPr>
              <a:t>, Hib, M. pneumoniae, C.pneumoniae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4572000"/>
            <a:ext cx="8076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6-18 anni</a:t>
            </a:r>
            <a:r>
              <a:rPr b="0" lang="it-IT" sz="2000" spc="-1" strike="noStrike">
                <a:solidFill>
                  <a:srgbClr val="ffccff"/>
                </a:solidFill>
                <a:latin typeface="Times New Roman"/>
              </a:rPr>
              <a:t>: M.pneumoniae, </a:t>
            </a:r>
            <a:r>
              <a:rPr b="1" lang="it-IT" sz="2400" spc="-1" strike="noStrike" u="sng">
                <a:solidFill>
                  <a:srgbClr val="ffccff"/>
                </a:solidFill>
                <a:uFillTx/>
                <a:latin typeface="Times New Roman"/>
              </a:rPr>
              <a:t>S. pneumoniae</a:t>
            </a:r>
            <a:r>
              <a:rPr b="0" lang="it-IT" sz="2000" spc="-1" strike="noStrike">
                <a:solidFill>
                  <a:srgbClr val="ffccff"/>
                </a:solidFill>
                <a:latin typeface="Times New Roman"/>
              </a:rPr>
              <a:t>, C. pneumoniae, Hib, Adenovirus, altri virus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5638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ccff"/>
                </a:solidFill>
                <a:latin typeface="Times New Roman"/>
              </a:rPr>
              <a:t>Taj Jadvji Can Med Assoc J 1997</a:t>
            </a:r>
            <a:endParaRPr b="0" lang="en-US" sz="18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69960" y="345960"/>
            <a:ext cx="763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                       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AC: Etiologia</a:t>
            </a:r>
            <a:endParaRPr b="0" lang="en-US" sz="4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00800" y="61722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676520"/>
            <a:ext cx="89154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Età </a:t>
            </a: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    n.</a:t>
            </a: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       virus</a:t>
            </a: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   batteri</a:t>
            </a: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 mista          tutte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ff"/>
                </a:solidFill>
                <a:latin typeface="Times New Roman"/>
              </a:rPr>
              <a:t>  </a:t>
            </a:r>
            <a:r>
              <a:rPr b="1" lang="it-IT" sz="2800" spc="-1" strike="noStrike">
                <a:solidFill>
                  <a:srgbClr val="ffccff"/>
                </a:solidFill>
                <a:latin typeface="Times New Roman"/>
              </a:rPr>
              <a:t>&lt;2</a:t>
            </a:r>
            <a:r>
              <a:rPr b="1" lang="it-IT" sz="28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ffccff"/>
                </a:solidFill>
                <a:latin typeface="Times New Roman"/>
              </a:rPr>
              <a:t>    108          80               47</a:t>
            </a:r>
            <a:r>
              <a:rPr b="1" lang="it-IT" sz="28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ffccff"/>
                </a:solidFill>
                <a:latin typeface="Times New Roman"/>
              </a:rPr>
              <a:t>   34               23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ff"/>
                </a:solidFill>
                <a:latin typeface="Times New Roman"/>
              </a:rPr>
              <a:t>  </a:t>
            </a:r>
            <a:r>
              <a:rPr b="1" lang="it-IT" sz="2800" spc="-1" strike="noStrike">
                <a:solidFill>
                  <a:srgbClr val="ffccff"/>
                </a:solidFill>
                <a:latin typeface="Times New Roman"/>
              </a:rPr>
              <a:t>2-5</a:t>
            </a:r>
            <a:r>
              <a:rPr b="1" lang="it-IT" sz="28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ffccff"/>
                </a:solidFill>
                <a:latin typeface="Times New Roman"/>
              </a:rPr>
              <a:t>      84          58</a:t>
            </a:r>
            <a:r>
              <a:rPr b="1" lang="it-IT" sz="28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ffccff"/>
                </a:solidFill>
                <a:latin typeface="Times New Roman"/>
              </a:rPr>
              <a:t>         56           33              81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ff"/>
                </a:solidFill>
                <a:latin typeface="Times New Roman"/>
              </a:rPr>
              <a:t>  </a:t>
            </a:r>
            <a:r>
              <a:rPr b="1" lang="it-IT" sz="2800" spc="-1" strike="noStrike">
                <a:solidFill>
                  <a:srgbClr val="ffccff"/>
                </a:solidFill>
                <a:latin typeface="Times New Roman"/>
              </a:rPr>
              <a:t>&gt;5</a:t>
            </a:r>
            <a:r>
              <a:rPr b="1" lang="it-IT" sz="28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ffccff"/>
                </a:solidFill>
                <a:latin typeface="Times New Roman"/>
              </a:rPr>
              <a:t>      62</a:t>
            </a:r>
            <a:r>
              <a:rPr b="1" lang="it-IT" sz="28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ffccff"/>
                </a:solidFill>
                <a:latin typeface="Times New Roman"/>
              </a:rPr>
              <a:t>          37</a:t>
            </a:r>
            <a:r>
              <a:rPr b="1" lang="it-IT" sz="28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ffccff"/>
                </a:solidFill>
                <a:latin typeface="Times New Roman"/>
              </a:rPr>
              <a:t>         58           19</a:t>
            </a:r>
            <a:r>
              <a:rPr b="1" lang="it-IT" sz="28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ffccff"/>
                </a:solidFill>
                <a:latin typeface="Times New Roman"/>
              </a:rPr>
              <a:t> 76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ff"/>
                </a:solidFill>
                <a:latin typeface="Times New Roman"/>
              </a:rPr>
              <a:t>  </a:t>
            </a:r>
            <a:r>
              <a:rPr b="1" lang="it-IT" sz="2800" spc="-1" strike="noStrike">
                <a:solidFill>
                  <a:srgbClr val="ffccff"/>
                </a:solidFill>
                <a:latin typeface="Times New Roman"/>
              </a:rPr>
              <a:t>Tot       254</a:t>
            </a:r>
            <a:r>
              <a:rPr b="1" lang="it-IT" sz="28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ffccff"/>
                </a:solidFill>
                <a:latin typeface="Times New Roman"/>
              </a:rPr>
              <a:t>62</a:t>
            </a:r>
            <a:r>
              <a:rPr b="1" lang="it-IT" sz="28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ffccff"/>
                </a:solidFill>
                <a:latin typeface="Times New Roman"/>
              </a:rPr>
              <a:t>         53</a:t>
            </a:r>
            <a:r>
              <a:rPr b="1" lang="it-IT" sz="28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ffccff"/>
                </a:solidFill>
                <a:latin typeface="Times New Roman"/>
              </a:rPr>
              <a:t>    30</a:t>
            </a:r>
            <a:r>
              <a:rPr b="1" lang="it-IT" sz="28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ffccff"/>
                </a:solidFill>
                <a:latin typeface="Times New Roman"/>
              </a:rPr>
              <a:t> 85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4911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ccff"/>
                </a:solidFill>
                <a:latin typeface="Times New Roman"/>
              </a:rPr>
              <a:t>Nelson, Pediatr Inf Dis 2000</a:t>
            </a:r>
            <a:endParaRPr b="0" lang="en-US" sz="18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2209680"/>
            <a:ext cx="8305920" cy="0"/>
          </a:xfrm>
          <a:prstGeom prst="line">
            <a:avLst/>
          </a:prstGeom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267080"/>
            <a:ext cx="8458200" cy="0"/>
          </a:xfrm>
          <a:prstGeom prst="line">
            <a:avLst/>
          </a:prstGeom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Times New Roman"/>
              </a:rPr>
              <a:t>Incidenza di episodi ricorrenti in bambini con wheezing in differenti gruppi di età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362320"/>
            <a:ext cx="8686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438280"/>
            <a:ext cx="8077320" cy="52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ETA’</a:t>
            </a: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         INFETTI    §</a:t>
            </a: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NON INFETTI</a:t>
            </a: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§              P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2-4</a:t>
            </a: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         8/8 (100%)</a:t>
            </a: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9/32 (28.1%)</a:t>
            </a: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0.003*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&gt;5</a:t>
            </a: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         12/16 ( 75%)</a:t>
            </a: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2/5 (13.3%)</a:t>
            </a: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0.002°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ccff"/>
                </a:solidFill>
                <a:latin typeface="Times New Roman"/>
              </a:rPr>
              <a:t>*Fisher’s exact test</a:t>
            </a:r>
            <a:endParaRPr b="0" lang="en-US" sz="18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ccff"/>
                </a:solidFill>
                <a:latin typeface="Times New Roman"/>
              </a:rPr>
              <a:t>°Chi-sqaured test</a:t>
            </a:r>
            <a:endParaRPr b="0" lang="en-US" sz="18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ccff"/>
                </a:solidFill>
                <a:latin typeface="Times New Roman"/>
              </a:rPr>
              <a:t>§Con M. pneumoniae e/o C. Pneumoniae</a:t>
            </a:r>
            <a:endParaRPr b="0" lang="en-US" sz="18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ccff"/>
                </a:solidFill>
                <a:latin typeface="Times New Roman"/>
              </a:rPr>
              <a:t>Esposito e coll  Eur Resp J 2000</a:t>
            </a:r>
            <a:endParaRPr b="0" lang="en-US" sz="16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895480"/>
            <a:ext cx="7315200" cy="0"/>
          </a:xfrm>
          <a:prstGeom prst="line">
            <a:avLst/>
          </a:prstGeom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2438280"/>
            <a:ext cx="7391520" cy="0"/>
          </a:xfrm>
          <a:prstGeom prst="line">
            <a:avLst/>
          </a:prstGeom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8000" y="6286680"/>
            <a:ext cx="33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ccff"/>
                </a:solidFill>
                <a:latin typeface="Times New Roman"/>
              </a:rPr>
              <a:t>Esposito e coll Eur Respir J 2000</a:t>
            </a:r>
            <a:endParaRPr b="0" lang="en-US" sz="18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42600" y="646128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6840" y="358920"/>
            <a:ext cx="931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it-IT" sz="3700" spc="-1" strike="noStrike">
                <a:solidFill>
                  <a:srgbClr val="ffff66"/>
                </a:solidFill>
                <a:latin typeface="Tahoma"/>
              </a:rPr>
              <a:t>     </a:t>
            </a:r>
            <a:endParaRPr b="0" lang="en-US" sz="37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822320"/>
            <a:ext cx="939492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 marL="326880" indent="-326880">
              <a:lnSpc>
                <a:spcPct val="95000"/>
              </a:lnSpc>
              <a:spcBef>
                <a:spcPts val="624"/>
              </a:spcBef>
              <a:spcAft>
                <a:spcPts val="499"/>
              </a:spcAft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                                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 marL="326880" indent="-326880">
              <a:lnSpc>
                <a:spcPct val="95000"/>
              </a:lnSpc>
              <a:spcBef>
                <a:spcPts val="624"/>
              </a:spcBef>
              <a:spcAft>
                <a:spcPts val="499"/>
              </a:spcAft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                                               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 marL="326880" indent="-326880">
              <a:lnSpc>
                <a:spcPct val="95000"/>
              </a:lnSpc>
              <a:spcBef>
                <a:spcPts val="624"/>
              </a:spcBef>
              <a:spcAft>
                <a:spcPts val="499"/>
              </a:spcAft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                                                  </a:t>
            </a: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Età  (anni)</a:t>
            </a: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ffcc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 marL="326880" indent="-326880">
              <a:lnSpc>
                <a:spcPct val="95000"/>
              </a:lnSpc>
              <a:spcBef>
                <a:spcPts val="624"/>
              </a:spcBef>
              <a:spcAft>
                <a:spcPts val="499"/>
              </a:spcAft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it-IT" sz="2000" spc="-1" strike="noStrike">
                <a:solidFill>
                  <a:srgbClr val="ffff66"/>
                </a:solidFill>
                <a:latin typeface="Times New Roman"/>
              </a:rPr>
              <a:t>Diagnosi                  2- 4 (%)            5 - 7 (%)</a:t>
            </a:r>
            <a:r>
              <a:rPr b="1" i="1" lang="it-IT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i="1" lang="it-IT" sz="2000" spc="-1" strike="noStrike">
                <a:solidFill>
                  <a:srgbClr val="ffff66"/>
                </a:solidFill>
                <a:latin typeface="Times New Roman"/>
              </a:rPr>
              <a:t>              &gt;7 (%)              Totale (%) 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 marL="326880" indent="-326880">
              <a:lnSpc>
                <a:spcPct val="95000"/>
              </a:lnSpc>
              <a:spcBef>
                <a:spcPts val="624"/>
              </a:spcBef>
              <a:spcAft>
                <a:spcPts val="499"/>
              </a:spcAft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 marL="326880" indent="-326880">
              <a:lnSpc>
                <a:spcPct val="95000"/>
              </a:lnSpc>
              <a:spcBef>
                <a:spcPts val="624"/>
              </a:spcBef>
              <a:spcAft>
                <a:spcPts val="499"/>
              </a:spcAft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it-IT" sz="2000" spc="-1" strike="noStrike">
                <a:solidFill>
                  <a:srgbClr val="ffccff"/>
                </a:solidFill>
                <a:latin typeface="Times New Roman"/>
              </a:rPr>
              <a:t>Bronchite acuta</a:t>
            </a:r>
            <a:r>
              <a:rPr b="0" lang="it-IT" sz="20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ffccff"/>
                </a:solidFill>
                <a:latin typeface="Times New Roman"/>
              </a:rPr>
              <a:t>  14/62 (22.5)   10/34 (29.4)        12/17 (70.5)      </a:t>
            </a: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36/113 (31.8)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 marL="326880" indent="-326880">
              <a:lnSpc>
                <a:spcPct val="95000"/>
              </a:lnSpc>
              <a:spcBef>
                <a:spcPts val="624"/>
              </a:spcBef>
              <a:spcAft>
                <a:spcPts val="499"/>
              </a:spcAft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it-IT" sz="2000" spc="-1" strike="noStrike">
                <a:solidFill>
                  <a:srgbClr val="ffccff"/>
                </a:solidFill>
                <a:latin typeface="Times New Roman"/>
              </a:rPr>
              <a:t>Respiro Sibilante</a:t>
            </a:r>
            <a:r>
              <a:rPr b="0" lang="it-IT" sz="20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ffccff"/>
                </a:solidFill>
                <a:latin typeface="Times New Roman"/>
              </a:rPr>
              <a:t>  12/53 (22.6)      5/15 (33.3)         7/14 (50.0)       </a:t>
            </a: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24/82 (29.2)  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 marL="326880" indent="-326880">
              <a:lnSpc>
                <a:spcPct val="95000"/>
              </a:lnSpc>
              <a:spcBef>
                <a:spcPts val="624"/>
              </a:spcBef>
              <a:spcAft>
                <a:spcPts val="499"/>
              </a:spcAft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it-IT" sz="2000" spc="-1" strike="noStrike">
                <a:solidFill>
                  <a:srgbClr val="ffccff"/>
                </a:solidFill>
                <a:latin typeface="Times New Roman"/>
              </a:rPr>
              <a:t>Polmonite</a:t>
            </a:r>
            <a:r>
              <a:rPr b="0" lang="it-IT" sz="20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ffccff"/>
                </a:solidFill>
                <a:latin typeface="Times New Roman"/>
              </a:rPr>
              <a:t>43/209 (20.5)   56/123 (45.5)       51/86 (59.3)      </a:t>
            </a: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150/418 (35.8)</a:t>
            </a:r>
            <a:r>
              <a:rPr b="0" lang="it-IT" sz="2000" spc="-1" strike="noStrike">
                <a:solidFill>
                  <a:srgbClr val="ff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 marL="326880" indent="-326880">
              <a:lnSpc>
                <a:spcPct val="95000"/>
              </a:lnSpc>
              <a:spcBef>
                <a:spcPts val="624"/>
              </a:spcBef>
              <a:spcAft>
                <a:spcPts val="499"/>
              </a:spcAft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Totale </a:t>
            </a: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               67/324 (21.3)   71/172 (41.3)      70/117 (59.8)      210/613 (34.3)</a:t>
            </a:r>
            <a:r>
              <a:rPr b="0" lang="it-IT" sz="2000" spc="-1" strike="noStrike">
                <a:solidFill>
                  <a:srgbClr val="ff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 marL="326880" indent="-326880">
              <a:lnSpc>
                <a:spcPct val="95000"/>
              </a:lnSpc>
              <a:spcBef>
                <a:spcPts val="624"/>
              </a:spcBef>
              <a:spcAft>
                <a:spcPts val="499"/>
              </a:spcAft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3600" y="227160"/>
            <a:ext cx="1713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920" y="317520"/>
            <a:ext cx="8516880" cy="10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Incidenza di Infezione Acuta da </a:t>
            </a:r>
            <a:r>
              <a:rPr b="1" i="1" lang="en-US" sz="2400" spc="-1" strike="noStrike">
                <a:solidFill>
                  <a:srgbClr val="ffff66"/>
                </a:solidFill>
                <a:latin typeface="Tahoma"/>
              </a:rPr>
              <a:t>M. pneumoniae</a:t>
            </a: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  in Bambini Affetti da Infezioni delle Vie Aeree Inferiori </a:t>
            </a: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(PCR e/o sierologia)</a:t>
            </a:r>
            <a:endParaRPr b="0" lang="en-US" sz="18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71440" y="2610000"/>
            <a:ext cx="15840" cy="15840"/>
          </a:xfrm>
          <a:prstGeom prst="line">
            <a:avLst/>
          </a:prstGeom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146160" y="3500280"/>
            <a:ext cx="15840" cy="0"/>
          </a:xfrm>
          <a:prstGeom prst="line">
            <a:avLst/>
          </a:prstGeom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78120" y="3108240"/>
            <a:ext cx="6946920" cy="0"/>
          </a:xfrm>
          <a:prstGeom prst="line">
            <a:avLst/>
          </a:prstGeom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587680"/>
            <a:ext cx="8832960" cy="0"/>
          </a:xfrm>
          <a:prstGeom prst="line">
            <a:avLst/>
          </a:prstGeom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638520"/>
            <a:ext cx="8774280" cy="0"/>
          </a:xfrm>
          <a:prstGeom prst="line">
            <a:avLst/>
          </a:prstGeom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778360"/>
            <a:ext cx="8910720" cy="0"/>
          </a:xfrm>
          <a:prstGeom prst="line">
            <a:avLst/>
          </a:prstGeom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9280" y="6060960"/>
            <a:ext cx="28436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it-IT" sz="1500" spc="-1" strike="noStrike">
                <a:solidFill>
                  <a:srgbClr val="ffccff"/>
                </a:solidFill>
                <a:latin typeface="Times New Roman"/>
              </a:rPr>
              <a:t>Principi et al.,</a:t>
            </a:r>
            <a:r>
              <a:rPr b="0" i="1" lang="it-IT" sz="1500" spc="-1" strike="noStrike">
                <a:solidFill>
                  <a:srgbClr val="ffccff"/>
                </a:solidFill>
                <a:latin typeface="Times New Roman"/>
              </a:rPr>
              <a:t> Clin Infect Dis </a:t>
            </a:r>
            <a:r>
              <a:rPr b="0" lang="it-IT" sz="1500" spc="-1" strike="noStrike">
                <a:solidFill>
                  <a:srgbClr val="ffccff"/>
                </a:solidFill>
                <a:latin typeface="Times New Roman"/>
              </a:rPr>
              <a:t>2000</a:t>
            </a:r>
            <a:endParaRPr b="0" lang="en-US" sz="15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942600" y="646128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Times New Roman"/>
              </a:rPr>
              <a:t>Mycoplasma pneumoniae: risultati di uno studio molecolare in pazienti con infezioni respiratorie acut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2362320"/>
            <a:ext cx="8153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2362320"/>
            <a:ext cx="7696440" cy="29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Times New Roman"/>
              </a:rPr>
              <a:t>Studiati dal medico di base con PCR in 1172  olandesi con  ARI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Times New Roman"/>
              </a:rPr>
              <a:t>39 pazienti (3.3%) furono riscontrati positivi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Times New Roman"/>
              </a:rPr>
              <a:t>In 79 familiari la percentuale di positività era in 12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ccff"/>
                </a:solidFill>
                <a:latin typeface="Times New Roman"/>
              </a:rPr>
              <a:t>( 15%)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Times New Roman"/>
              </a:rPr>
              <a:t>Nove dei 12 familiari avevano meno di 16 anni  (positività del 44%)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   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Apparentemente i bambini sono il serbatoio</a:t>
            </a:r>
            <a:endParaRPr b="0" lang="en-US" sz="28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632448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ccff"/>
                </a:solidFill>
                <a:latin typeface="Times New Roman"/>
              </a:rPr>
              <a:t>Wendelien Dorigo-Zetsma  e coll J Inf Dis 2001</a:t>
            </a:r>
            <a:endParaRPr b="0" lang="en-US" sz="18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942600" y="646128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www.mariolarosa.it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9T09:02:07Z</dcterms:created>
  <dc:creator>www.mariolarosa.it</dc:creator>
  <dc:description/>
  <dc:language>en-US</dc:language>
  <cp:lastModifiedBy>m</cp:lastModifiedBy>
  <dcterms:modified xsi:type="dcterms:W3CDTF">2004-03-02T20:11:48Z</dcterms:modified>
  <cp:revision>99</cp:revision>
  <dc:subject/>
  <dc:title>Le infezioni dell’apparato respiratorio:la terapia farmacologica</dc:title>
</cp:coreProperties>
</file>