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25.jpeg" ContentType="image/jpeg"/>
  <Override PartName="/ppt/media/image5.wmf" ContentType="image/x-wmf"/>
  <Override PartName="/ppt/media/image4.wmf" ContentType="image/x-wmf"/>
  <Override PartName="/ppt/media/image13.jpeg" ContentType="image/jpeg"/>
  <Override PartName="/ppt/media/image26.png" ContentType="image/png"/>
  <Override PartName="/ppt/media/image22.wmf" ContentType="image/x-wmf"/>
  <Override PartName="/ppt/media/image21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4.wmf" ContentType="image/x-wmf"/>
  <Override PartName="/ppt/media/image23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CBA6-DA2C-4208-9FA9-63AD9D04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43EC-D02A-4220-B52C-D52C4F4F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C65-6824-4E0D-8915-29CDC91B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87CB-E76B-4BA1-B1AC-9928AA27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1381-F720-4749-A8EF-931ADBC9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2750-F209-43B8-86E3-AAE52B13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A599-AD81-4737-9411-0E0536BF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98D5-30CB-4832-8D03-C0A4C8E9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FC11-D22A-4DAE-BEC1-92B7F46C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700F-F6E3-46FC-B045-C454FA31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95CD-7870-4C0C-86FD-C1CAF6A2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DEC-AEDD-4095-BE68-C11FCA48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FCB7-CAC0-4A97-BD76-98426DB5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84D5-026C-4229-810F-7706D09B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E0D9-67A8-4BF7-A32B-5EE272F6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3AB7-0D9E-4307-A70E-D1A9892D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F3D9-7395-4EB0-920F-6AE251C2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B031-D430-4776-8973-B101381C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C3B1-84BB-4895-8680-87A041B2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CFEB-4502-4553-8219-248D92F6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595-474B-44CF-B5CE-24AF48E8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133F-BC3B-46CE-BF12-6B732869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438A-C7F6-482F-AC9C-FC7257E7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9572-5907-44BF-B1C6-8E8003A3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B788-A416-44B7-80EF-19B2B1C5DA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0000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0000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00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0000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48B3-C94A-4C6B-BD45-27C3CF8D768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ntibiotico Terapia delle Infezioni Respiratorie del Bambino. Linee Guida SIMRI. Parte 1: Alte Vie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ordinatore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Mario La Ros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</a:rPr>
              <a:t>Estensori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Giorgio Maria Amato , Palermo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Lucio Armenio, Bari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Giovanni Barberio, Messin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ntonio Boccazzi, Milano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Giuliano Baldini, Pis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ngelo Barbato, Padova,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Luigia Brunetti, Bari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chille Caputi, Messin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driano Corrias, Cagliari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Fernando De Benedictis, Perugi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lessandro Fiocchi, Milano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146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Luciana Indinnimeo, Rom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Giampiero Mazzaglia, Messin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Maurizio Miraglia Del Giudice,Napoli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Giuseppe Nicoletti, Catani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Giovanni Pajno, Messin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Massimo Pifferi, Pis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Maria Antonietta Toscano, Catani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</a:rPr>
              <a:t>Hanno partecipato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andro Angeloni ,Chieti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residente FIMP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gostino Serra, Catani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residente Società Italian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Infettivologia ORL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egni clinici della faringite streptococcica vs faringite non streptococcica (1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60360" y="1994040"/>
          <a:ext cx="8528040" cy="506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994040"/>
                    <a:ext cx="8528040" cy="50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egni clinici della faringite streptococcica vs faringite non streptococcica (2)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981080" y="2328840"/>
          <a:ext cx="6309000" cy="33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328840"/>
                    <a:ext cx="630900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QUESITO DIAGNOSTIC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l quesito diagnostico che ci si pone è quello di distinguere fra una faringite virale, ed una faringotonsillite streptococcic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olo il tampone faringeo permette una diagnosi certa di infezione streptococcic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a mancata conferma di un’etiologia streptococcica deve indirizzare il medico a non usare antibiotic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Diagnosi e Terapia della faringotonsillite acuta non complicata 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TABELLA%20LG" descr=""/>
          <p:cNvPicPr/>
          <p:nvPr/>
        </p:nvPicPr>
        <p:blipFill>
          <a:blip r:embed="rId1"/>
          <a:stretch/>
        </p:blipFill>
        <p:spPr>
          <a:xfrm>
            <a:off x="1252440" y="2035080"/>
            <a:ext cx="7772400" cy="4005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934320" y="6508800"/>
            <a:ext cx="2574720" cy="337320"/>
          </a:xfrm>
          <a:prstGeom prst="rect">
            <a:avLst/>
          </a:prstGeom>
          <a:solidFill>
            <a:srgbClr val="fcfdc6"/>
          </a:soli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4d4d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mariolarosa.i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Orientamenti terapeutici I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a penicillina e le aminopennicelline sono i farmaci che meglio rispondono al rapporto costo/beneficio, sia per la terapia della faingotonsillite streptococcica, che per la prevenzione della malattia reumatica ed universalmente riconosciuti come farmaci di 1° scelt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IV ITAL BRONCOPNEUMOL PEDIATR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a Rosa e coll 200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0" name="NGC4603STScI4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3962520" cy="222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Orientamenti Terapeutici II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a maggior parte degli antibiotici orali devono essere somministrati per 10 giorni per ottenere, se possibile, l’eradicazione dello S.Pyogene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centi studi riportano risultati identici con trattamenti di 7 o 5 giorn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3" name="100" descr=""/>
          <p:cNvPicPr/>
          <p:nvPr/>
        </p:nvPicPr>
        <p:blipFill>
          <a:blip r:embed="rId1"/>
          <a:stretch/>
        </p:blipFill>
        <p:spPr>
          <a:xfrm>
            <a:off x="6095880" y="3657600"/>
            <a:ext cx="2714760" cy="27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Orientamenti terapeutici III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efalosporine orali e macrolidi (azitromicina compresa) possono rappresentare una valida alternativa, anche con un ciclo terapeutico ridotto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6" name="mycn18STScI4" descr=""/>
          <p:cNvPicPr/>
          <p:nvPr/>
        </p:nvPicPr>
        <p:blipFill>
          <a:blip r:embed="rId1"/>
          <a:stretch/>
        </p:blipFill>
        <p:spPr>
          <a:xfrm>
            <a:off x="6553080" y="3733920"/>
            <a:ext cx="1905120" cy="271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25244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198" name="TABELLA1" descr=""/>
          <p:cNvPicPr/>
          <p:nvPr/>
        </p:nvPicPr>
        <p:blipFill>
          <a:blip r:embed="rId2"/>
          <a:stretch/>
        </p:blipFill>
        <p:spPr>
          <a:xfrm>
            <a:off x="1295280" y="318960"/>
            <a:ext cx="7848720" cy="61581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950160" y="6508800"/>
            <a:ext cx="2193840" cy="337320"/>
          </a:xfrm>
          <a:prstGeom prst="rect">
            <a:avLst/>
          </a:prstGeom>
          <a:solidFill>
            <a:srgbClr val="fcfdc6"/>
          </a:soli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4d4d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mariolarosa.i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erapia antibiotica per la faringotonsillite streptococcica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447920" y="1905120"/>
          <a:ext cx="7208640" cy="450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05120"/>
                    <a:ext cx="720864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Outcame della corretta prescrizione di un corretto antibiotico nella faringotonsillite streptococcica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5244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revenzione della febbre reumatic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revenzione delle complicanze suppurativ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isoluzioni di segni e sintomi delle malatti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revenzione dei contagi intrafamiliari ed intracomunitar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inimizzazione dei potenziali effetti collaterali di una terapia antimicrobic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73840" y="6508800"/>
            <a:ext cx="2270160" cy="337320"/>
          </a:xfrm>
          <a:prstGeom prst="rect">
            <a:avLst/>
          </a:prstGeom>
          <a:solidFill>
            <a:srgbClr val="fcfdc6"/>
          </a:soli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4d4d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mariolarosa.i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rattamenti Antibiotici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19320" y="1447920"/>
          <a:ext cx="747216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7472160" cy="5029200"/>
                  </a:xfrm>
                  <a:prstGeom prst="rect">
                    <a:avLst/>
                  </a:prstGeom>
                  <a:ln w="9360">
                    <a:solidFill>
                      <a:srgbClr val="00003e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797520" y="6477120"/>
            <a:ext cx="23464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3e"/>
            </a:solidFill>
            <a:miter/>
          </a:ln>
          <a:effectLst>
            <a:outerShdw dist="107932" dir="2700000" blurRad="0" rotWithShape="0">
              <a:srgbClr val="4d4d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mariolarosa.i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dicatori della Qualità della cura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ai la cultura od il test rapid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e il test è negativo fai la cultur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rescrivi un regime antibiotico ( penicillina o derivati) e per il tempo consigliato (10 giorni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Non ripetere la cultura  alla fine del trattament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Non fare culture ai convivent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Non fare profilassi a lungo termine per prevenire episodi ricorrenti di faringotonsillit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OTITE MEDIA ACUTA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uò esser definita come un’infiammazione a rapida insorgenza a carico dell’orecchio medio con associazione di opacizzazione della membrana timpanica accompagnata da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otalg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ebbr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rritabilità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otorre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729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 più comuni agenti patogeni dell’OMA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52440" y="16765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Times New Roman"/>
              </a:rPr>
              <a:t>Principali agenti eziologici dell’OM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ecff"/>
                </a:solidFill>
                <a:latin typeface="Times New Roman"/>
              </a:rPr>
              <a:t>Streptococcus pneumoniae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ecff"/>
                </a:solidFill>
                <a:latin typeface="Times New Roman"/>
              </a:rPr>
              <a:t>Haemophilus influenzae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ecff"/>
                </a:solidFill>
                <a:latin typeface="Times New Roman"/>
              </a:rPr>
              <a:t>Moraxella catarrhali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ecff"/>
                </a:solidFill>
                <a:latin typeface="Times New Roman"/>
              </a:rPr>
              <a:t>Streptococcus pyogen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ecff"/>
                </a:solidFill>
                <a:latin typeface="Times New Roman"/>
              </a:rPr>
              <a:t>Staphylococcus aureu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Times New Roman"/>
              </a:rPr>
              <a:t>Altri agenti eziologici di OM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Virus respiratorio sincinziale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Virus influenzali A e B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Virus parainfluenzali 1.2 e3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Adenoviru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Rhinoviru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ecff"/>
                </a:solidFill>
                <a:latin typeface="Times New Roman"/>
              </a:rPr>
              <a:t>Clamydua trachomati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ecff"/>
                </a:solidFill>
                <a:latin typeface="Times New Roman"/>
              </a:rPr>
              <a:t>Mycoplasma pneumoniae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ecff"/>
                </a:solidFill>
                <a:latin typeface="Times New Roman"/>
              </a:rPr>
              <a:t>Norcadia asteroid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1460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70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30-40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15-30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15-20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1-2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2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30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50160" y="6508800"/>
            <a:ext cx="2193840" cy="337320"/>
          </a:xfrm>
          <a:prstGeom prst="rect">
            <a:avLst/>
          </a:prstGeom>
          <a:solidFill>
            <a:srgbClr val="fcfdc6"/>
          </a:soli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4d4d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mariolarosa.i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it-IT" sz="3600" spc="-1" strike="noStrike">
                <a:solidFill>
                  <a:srgbClr val="ffffff"/>
                </a:solidFill>
                <a:latin typeface="Times New Roman"/>
              </a:rPr>
              <a:t>Sintomi di 363 bambini affetti da OMA </a:t>
            </a: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(Ruuskanen 1994)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00200" y="2133720"/>
          <a:ext cx="6999120" cy="363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699912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6950160" y="6508800"/>
            <a:ext cx="2193840" cy="337320"/>
          </a:xfrm>
          <a:prstGeom prst="rect">
            <a:avLst/>
          </a:prstGeom>
          <a:solidFill>
            <a:srgbClr val="fcfdc6"/>
          </a:soli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4d4d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mariolarosa.i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7295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Fattori di rischio per Otite Media Acuta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sposizione al fumo di tabacc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asso livello socioeconomic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toria familiare di atop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requenza di un asilo nid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lattamento artificiale o materno &lt; 4 mes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 episodio di OMA  prima dei 4 mesi di vit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amiliarità per OM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esso maschi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Diagnosi strumentale:otoscopia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mplice (morfologia, infiammazione, cicatrici, protrusioni, versamenti….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neumatica (posizione, traslucidità, mobilità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Orientamenti terapeutici ed esiti attesi nell’OMA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Nel 70-80% dei casi l’oma può andare incontro a risoluzione spontanea nell’arco di 72 ore (Browning 1990)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a terapia antibiotica precoc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-accorcia il decorso della malatti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-previene l’insorgenza di complicazioni (mastoiditi e meningiti) e l’ evoluzion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ell’ OMA in OM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Orientamenti terapeutici ed esiti attesi nell’OMA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e aminopenicelline sono i farmaci di prima scelta (Rosenfeld 1996) (amoxocillina, amoxoclavulanico)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)In Italia amoxi e amoxiclavulanico hanno riportato una sensibilità del 96% per S.Pneumonie e del 100% per altri microrganismi responsabili di OMA (Oss.Epidemiologico 1999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) Hanno grande capacità di diffusione nell’orecchio medi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3)Costi contenu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Diagnosi e trattamento OMA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28" name="oma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54848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5244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230" name="tabella%20lg" descr=""/>
          <p:cNvPicPr/>
          <p:nvPr/>
        </p:nvPicPr>
        <p:blipFill>
          <a:blip r:embed="rId2"/>
          <a:stretch/>
        </p:blipFill>
        <p:spPr>
          <a:xfrm>
            <a:off x="1295280" y="685800"/>
            <a:ext cx="7848720" cy="5410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797520" y="6508800"/>
            <a:ext cx="2346480" cy="337320"/>
          </a:xfrm>
          <a:prstGeom prst="rect">
            <a:avLst/>
          </a:prstGeom>
          <a:solidFill>
            <a:srgbClr val="fcfdc6"/>
          </a:soli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4d4d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mariolarosa.i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rescrizioni di differenti gruppi di antibiotici in bambini da parte di MMG e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pediatri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420920" y="1600200"/>
          <a:ext cx="734220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0920" y="1600200"/>
                    <a:ext cx="73422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721560" y="6508800"/>
            <a:ext cx="2422440" cy="337320"/>
          </a:xfrm>
          <a:prstGeom prst="rect">
            <a:avLst/>
          </a:prstGeom>
          <a:solidFill>
            <a:srgbClr val="fcfdc6"/>
          </a:soli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4d4d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mariolarosa.i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nsigli pratici per la terapia dell’OMA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rescrivi un antibiotico a tutti i bambini con OM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uoi decidere di aspettare 48-72 ore a tuo giudizio, se il caso lo consent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e decidi di aspettare fai una visita con esame otoscopico a 48-72 or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’antibiotico di 1</a:t>
            </a:r>
            <a:r>
              <a:rPr b="0" lang="en-US" sz="2800" spc="-1" strike="noStrike" baseline="30000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scelta è l’amoxicillina o amoxiclavulanico perché si concentra nell’orecchio medio e perché la gran parte dei patogeni responsabili sono ad esso sensibil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SINUSITE ACUTA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a sinusite acuta è un’infezione a carico dei seni paranasali della durata di 1-3 settimane che usualmente complica lo 0.5-10% di un’infezione virale delle alte vi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a distinzione fra una sinusite acuta ed un raffreddore comune rappresenta il primo passo per una diagnosi ed un trattamento corrett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viluppo dei seni paranasali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00200" y="2438280"/>
          <a:ext cx="6796080" cy="35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679608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7026120" y="6508800"/>
            <a:ext cx="2117880" cy="337320"/>
          </a:xfrm>
          <a:prstGeom prst="rect">
            <a:avLst/>
          </a:prstGeom>
          <a:solidFill>
            <a:srgbClr val="fcfdc6"/>
          </a:soli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4d4d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mariolarosa.i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Fattori predisponenti la sinusite acuta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Rinite allergic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Rinite vasomotori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Rinite occupazional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olipi nasali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Rinite medicamentos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mmunodeficienz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nomalie anatomich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2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ziologia delle sinusiti nei bambini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523880" y="1143000"/>
          <a:ext cx="713268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71326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6797520" y="6508800"/>
            <a:ext cx="2346480" cy="337320"/>
          </a:xfrm>
          <a:prstGeom prst="rect">
            <a:avLst/>
          </a:prstGeom>
          <a:solidFill>
            <a:srgbClr val="fcfdc6"/>
          </a:soli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4d4d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mariolarosa.i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tudi clinici per il trattamento antibatterico della sinusite acuta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tabella%20lg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7391520" cy="4419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950160" y="6508800"/>
            <a:ext cx="2193840" cy="337320"/>
          </a:xfrm>
          <a:prstGeom prst="rect">
            <a:avLst/>
          </a:prstGeom>
          <a:solidFill>
            <a:srgbClr val="fcfdc6"/>
          </a:soli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4d4d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mariolarosa.i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Antibiotici e loro dosaggio nella sinusite acuta batterica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209680" y="1981080"/>
          <a:ext cx="5693040" cy="43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81080"/>
                    <a:ext cx="569304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nsigli pratici per la terapia della sinusite acuta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14080" y="1447920"/>
            <a:ext cx="77295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sa un antibiotico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’amoxicillina o amoxi-clavulanico è l’antibiotico di 1</a:t>
            </a:r>
            <a:r>
              <a:rPr b="0" lang="en-US" sz="2800" spc="-1" strike="noStrike" baseline="30000">
                <a:solidFill>
                  <a:srgbClr val="ccec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celt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a durata della terapia deve essere di 10 giorni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 pazienti allergici alla penicillina o che non rispondono alla penicillina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vono essere trattati con un antibiotico di seconda scelt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ARERE MEDICO LEGAL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’esercizio della medicina , quale arte medica, è caratterizzato dalla più ampia creatività intesa come intuizione diagnostica….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……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ogni tipo di trattamento consigliato dall’esperienza clinica e da protocolli che ne derivano, va vagliato alla luce del caso specifico e non può essere imposto….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of Giuseppe LO Menzo, Medico Legale, Catan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ivista%20I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4494240" cy="586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Prescrizioni di antibiotici per via parenterale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066680" y="1905120"/>
          <a:ext cx="7772400" cy="403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777240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6797520" y="6508800"/>
            <a:ext cx="2346480" cy="337320"/>
          </a:xfrm>
          <a:prstGeom prst="rect">
            <a:avLst/>
          </a:prstGeom>
          <a:solidFill>
            <a:srgbClr val="fcfdc6"/>
          </a:soli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4d4d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mariolarosa.i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000066"/>
                </a:solidFill>
                <a:latin typeface="Times New Roman"/>
              </a:rPr>
              <a:t>QUESTE LINEE GUIDA SONO DISPONIBILI SUL SITO INTERNET  </a:t>
            </a:r>
            <a:r>
              <a:rPr b="0" i="1" lang="en-US" sz="3600" spc="-1" strike="noStrike" u="sng">
                <a:solidFill>
                  <a:srgbClr val="000066"/>
                </a:solidFill>
                <a:uFillTx/>
                <a:latin typeface="Times New Roman"/>
              </a:rPr>
              <a:t>WWW.MARIOLAROSA.IT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Marinello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44193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7295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Fattori che influenzano la validità delle Linee Guida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074600" y="1905120"/>
          <a:ext cx="7740720" cy="40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4600" y="1905120"/>
                    <a:ext cx="774072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6934320" y="6477120"/>
            <a:ext cx="22096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4d4d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mariolarosa.i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0" y="1981080"/>
          <a:ext cx="7772400" cy="403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777240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ziologia microbica della faringotonsillite acuta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Batteri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Streptococcus pyogen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Streptococchi, gruppi C, G e F anaerobi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Neisseria gonorrhoeae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Corynebacterium diphteriae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Arcanobacterium haemolyticum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Yersinia enterocolitic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Yersinia pesti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Francisella tularensis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Viru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Rhinoviru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Coronaviru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Adenoviru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Herpes simplex  1 e 2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Parainfluenza viru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146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Coxsackieviru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Epstein-Barr viru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Cytomegaloviru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Human Immunodeficiecy Viru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Influenza virus A e B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Micloplami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ecff"/>
                </a:solidFill>
                <a:latin typeface="Times New Roman"/>
              </a:rPr>
              <a:t>Mycoplasma pneumoniae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Clamidie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ecff"/>
                </a:solidFill>
                <a:latin typeface="Times New Roman"/>
              </a:rPr>
              <a:t>Chlamidya psittaci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6699ff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ecff"/>
                </a:solidFill>
                <a:latin typeface="Times New Roman"/>
              </a:rPr>
              <a:t>Chlamydia pnemonia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21560" y="6508800"/>
            <a:ext cx="2422440" cy="337320"/>
          </a:xfrm>
          <a:prstGeom prst="rect">
            <a:avLst/>
          </a:prstGeom>
          <a:solidFill>
            <a:srgbClr val="fcfdc6"/>
          </a:soli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4d4d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mariolarosa.i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 più comuni agenti etiologici della faringite acuta (1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371600" y="1600200"/>
          <a:ext cx="81802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8180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 più comuni agenti etiologici della faringite acuta (2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523880" y="1905120"/>
          <a:ext cx="6461280" cy="59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646128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 più comuni agenti etiologici della faringite acuta (3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52440" y="2019240"/>
          <a:ext cx="7772400" cy="403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440" y="2019240"/>
                    <a:ext cx="777240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08:36:20Z</dcterms:created>
  <dc:creator>Menarini s.r.l.</dc:creator>
  <dc:description/>
  <dc:language>en-US</dc:language>
  <cp:lastModifiedBy>franky</cp:lastModifiedBy>
  <dcterms:modified xsi:type="dcterms:W3CDTF">2000-09-03T19:17:05Z</dcterms:modified>
  <cp:revision>88</cp:revision>
  <dc:subject/>
  <dc:title>TRATTAMENTI ANTIBIOTICI (%)</dc:title>
</cp:coreProperties>
</file>