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wmf" ContentType="image/x-wmf"/>
  <Override PartName="/ppt/media/image10.gif" ContentType="image/gif"/>
  <Override PartName="/ppt/media/image9.gif" ContentType="image/gif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0FC2-D655-4D9E-A0B5-13B4D94B0CF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ing that since 1933,  We had to start looking for the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PV of WBC is 8-15%, despite the fact that WBC&gt;15000 are more common in bacterial infection. Much lower, the less prevalent the disease (meningiti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HIGH WBC DOES NOT = DISEASE!!!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BC predictive values may vary with the pathogens invol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x does not contribute to prediction of occult bacterem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st  occult bacteremias had fever for less than 24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oung boys with high fevers may be at higher ris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ISK of occult bacteremia increases with tempera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9-39,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9,5-39,9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,5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0-40,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,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40,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,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B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-9,9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-14,9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3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-19.9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2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10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%most sensitive and most accurate from R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1.5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,2%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N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C, temp and age are the only sgnificant after adjusment for confounding vari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nagement of febrile pediatric patient will remain a clinical situation that calls for an educated guess of a patient’s risk for bacteremia based on the available data at h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double standards of 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626-9447-4CEA-9893-F6D717A0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BF6-F1F2-4BF8-B277-B3803924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BE5-EE24-4048-9B73-193BB19B4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4F6B-A522-496B-A722-35D7EA95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BD7-9D26-42D9-90AD-CACB152C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46D6-7235-4E9D-8598-04918813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B4DE-1C24-4F18-AE94-C912C2CB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2A1-6715-4F00-9151-5F28705A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8EC-0115-4DB7-92A1-3672A2A7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4EA-19A1-43FD-BA70-EBF06FE5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C6E3-5EA9-4F71-95FF-1E8D6BB5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58A1-E84A-4BFD-8C1A-E12D1FCA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48C2-35E0-4182-BA40-D1079220D2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8487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Times New Roman"/>
              </a:rPr>
              <a:t>LA FEBB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0" y="152280"/>
            <a:ext cx="2093760" cy="3252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57200" y="4267080"/>
            <a:ext cx="8001000" cy="157212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ario La Ros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niversità degli Studi di Catania, Dipartimento di Pediatri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O Broncopneumologia, Allergologia e Fibrosi cisti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105876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ETIOPATOGENE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50292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febbre è provocata dall’azione di </a:t>
            </a:r>
            <a:r>
              <a:rPr b="0" lang="it-IT" sz="3200" spc="-1" strike="noStrike">
                <a:solidFill>
                  <a:srgbClr val="cc0000"/>
                </a:solidFill>
                <a:latin typeface="Times New Roman"/>
              </a:rPr>
              <a:t>sostanze pirogene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ovenienti 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batteri e virus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ecomposizione e riassorbimento di sostanze proteich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(es: sangue stravasato, prodotti di  tessuti neoplastici, sieri terapeutici,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di natura traumatica o emotiva o da intossicazione esogena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(ossido di 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he provoc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lterazione dei centri termoregol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5181480"/>
            <a:ext cx="1981080" cy="533520"/>
          </a:xfrm>
          <a:custGeom>
            <a:avLst/>
            <a:gdLst>
              <a:gd name="textAreaLeft" fmla="*/ 265320 w 1981080"/>
              <a:gd name="textAreaRight" fmla="*/ 1715760 w 198108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FISIOPATOLOGIA DELLA FEBB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784872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Infezioni, Infiammazioni, Tossine, Stress, Induttori var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pirogeni endogeni ed esogeni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Cellule immunitarie e connettival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CITOCHI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Il 1-alfa, Il 1-beta, Il-6, Inf alfa, Itf beta, Itf gamma, Il-11, TNF-alfa)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ORGANI CIRCUMVENTRICOLAR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Produzione 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PGE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Innalzamento della temperatura stabilita dall’</a:t>
            </a:r>
            <a:r>
              <a:rPr b="1" lang="it-IT" sz="1900" spc="-1" strike="noStrike">
                <a:solidFill>
                  <a:srgbClr val="000000"/>
                </a:solidFill>
                <a:latin typeface="Times New Roman"/>
              </a:rPr>
              <a:t>Ipotalam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it-IT" sz="1900" spc="-1" strike="noStrike">
                <a:solidFill>
                  <a:srgbClr val="000000"/>
                </a:solidFill>
                <a:latin typeface="Times New Roman"/>
              </a:rPr>
              <a:t>Reset ipotalamico, regione preottica dell'ipotalamo anteriore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Aumento termogenesi, Diminuizione termolis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it-IT" sz="1900" spc="-1" strike="noStrike">
                <a:solidFill>
                  <a:srgbClr val="cc0000"/>
                </a:solidFill>
                <a:latin typeface="Times New Roman"/>
              </a:rPr>
              <a:t>FEBBR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RILEVAZIONE TEMPERA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441972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ividui non febbricitan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olo per rilevare l’evenienza di rialzi termici)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tina e s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dividui febbricitant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periodi intervallati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gni 4 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ccetto la no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serv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uratezza cronologic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lla temperatura o per i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ipo di affezi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pidi febbrili ad es. malaria, processi suppurativi, cistiti, etc.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per sorvegli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zioni dell’organismo a sostanze terapeuti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.vacci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gni 2 o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oprattutto diur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TIPI DI FEBB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0988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bre Intermit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bre Contin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bre Remit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bre Sub-contin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bre Ricor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bre Ondul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209412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FEBBRE INTERMITT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ccessi febbrili separati da periodi di temperatura nor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cessi quotidiani, a giorni alterni “terzana”, separati da 2 gg di apiressia “quartana”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ep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sc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erit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nfezioni batte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l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FEBBRE CONTINU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391520" cy="38862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temperatura si mantiene costantemente al di sopra della norma con oscillazioni non superiori a 0.5°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olmon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Sesta malatt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Tifo (nel periodo del fastig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FEBBRE REMITT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9718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a temperatura si abbassa quotidianament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enza raggiungere valori normal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mantenendosi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 oscillazioni di oltre 1°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fezioni batte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fezioni vir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febbre%20continua%20remittente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FEBBRE SUBCONTINU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12408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ratterizzata da forti remissioni irregolari alternate con elevazioni termiche notevoli (39.5°-40°-41°C) della durata di 24-48 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Perniciosa mala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TEMPERATURA CUTAN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32004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 temperatura corporea viene mantenuta costante ad opera dei centri termoregolatori situati nella regione ipotalamica ,comunque varino le condizioni della temperatura ambientale, attraverso un meccanismo di dilatazione dei capillari cutanei e secrezione sudora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FEBBRE RICORR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ratterizzata da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eriodi di febbre elevata,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della durata di 4-5 gg, con rapido innalzamento e brusca caduta della febbr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he si alterna a periodi  altrettanto o + lunghi di apiressia complet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bbre da Spirocheta di Oberme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FEBBRE ONDUL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312408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odi (gg o settimane) in cui la febbre presenta 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aduale incremento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 pochi decimi sino a temp elevate) , seguiti 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graduale decreme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i da periodi in cui non si h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i apiressia comple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 è interrotta 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evi rialzi termici pomeridi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rucellosi, Linfogranuloma malig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FEBBRIC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evazioni termiche quotidiane di lieve entità (37.5°-37.8°C) di lunga dura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T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fezioni croniche di cistifellea e vie urinarie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IPERPIRESS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7924680" cy="289548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Quando la temperatura corpore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&gt; 41.5°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 parla di iperpire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cause sono le seguent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erter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ologie endocran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ezioni sev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4495680"/>
            <a:ext cx="8229600" cy="153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Quando la temperatura corpore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43°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olpo di calo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condizione pericolosa ed a volte mortale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PERIODI DELLA FEBB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0574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sces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dium incremen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c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astig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fervescenz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tadium decrement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3962520"/>
            <a:ext cx="7772400" cy="22647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ervescenz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uò avvenire in due mo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cris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rapidamente in poche 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.: polmonite, mal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</a:t>
            </a:r>
            <a:r>
              <a:rPr b="0" i="1" lang="en-US" sz="2400" spc="-1" strike="noStrike">
                <a:solidFill>
                  <a:srgbClr val="cc0000"/>
                </a:solidFill>
                <a:latin typeface="Times New Roman"/>
              </a:rPr>
              <a:t>lis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radualmente in diversi gior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.: ti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febbre%20caduta%20x%20lisi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3894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FEBBRE AD ETIOLOGIA SCONOSCIU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175248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 fontScale="61000"/>
          </a:bodyPr>
          <a:p>
            <a:pPr marL="2091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ando la temperatura è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ltre i 38°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, d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lmeno tre settimane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pazienti in cui l'esame clinico, l'emocromo con piastrine, l'analisi delle urine e la radiografia del torace non consentano la diagn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09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4191120"/>
            <a:ext cx="7696440" cy="23382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u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ù frequen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fezion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ubercolosi, Endocardite infettiva, Infezioni delle vie urinarie, Ascesso epatico):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Neoplasi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lattia di Hodgkin, Leucemie)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ttivit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S, Artrite Reumatoide)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ari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rmaci, Embolie polmonari, Febbri psicogene)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PROCESSO DECISIONALE CLIN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6800" y="2776680"/>
          <a:ext cx="760572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2776680"/>
                    <a:ext cx="760572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cc"/>
                </a:solidFill>
                <a:latin typeface="Times New Roman"/>
              </a:rPr>
              <a:t>FEBB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29528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ttare o non trattare, questo è il problema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553080" y="3605040"/>
            <a:ext cx="209412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QUANDO </a:t>
            </a:r>
            <a:r>
              <a:rPr b="0" lang="en-US" sz="3600" spc="-1" strike="noStrike" u="sng">
                <a:solidFill>
                  <a:srgbClr val="ff33cc"/>
                </a:solidFill>
                <a:uFillTx/>
                <a:latin typeface="Times New Roman"/>
              </a:rPr>
              <a:t>NON</a:t>
            </a: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 TRATTARE LA FEBB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152388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bre  da 39°C  in giù per meno di 48 ore non accompagnata da maless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QUANDO </a:t>
            </a:r>
            <a:r>
              <a:rPr b="0" lang="en-US" sz="3600" spc="-1" strike="noStrike" u="sng">
                <a:solidFill>
                  <a:srgbClr val="ff33cc"/>
                </a:solidFill>
                <a:uFillTx/>
                <a:latin typeface="Times New Roman"/>
              </a:rPr>
              <a:t>TRATTARE </a:t>
            </a: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LA FEBB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2057040"/>
            <a:ext cx="7772400" cy="304812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ebbre a 39°C  o meno per più di 48 ore accompagnata da maless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bbre &gt; 39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l paziente presenta una anamnesi positiva per convulsioni febbri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ENZIMA REGOLATORE DELLA FEBB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32763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temperatura corporea è regolata dall’enzima specifico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mPGES-1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’mPGES-1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egnala uno stato infiammatorio in corso determinando la produzione dell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rostaglandine E2,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he legandosi a particolari recettori situati su profonde strutture neurali innescano il meccanismo della febb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li attuali farmaci per lenire la febbre agiscono inibendo lo sviluppo di un elevato numero di sostanze. Ciò può comportare l'insorgenza di effetti collaterali  (disturbi renali, gastrici, cardiovascolari, ecc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c0000"/>
                </a:solidFill>
                <a:latin typeface="Times New Roman"/>
              </a:rPr>
              <a:t>Nature Neuroscience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TERAP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772400" cy="43434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ibitori della produzione di prostaglandi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cc0000"/>
                </a:solidFill>
                <a:latin typeface="Times New Roman"/>
              </a:rPr>
              <a:t>PARACETAMOLO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controindicato in nefropatie ed epatopat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cc0000"/>
                </a:solidFill>
                <a:latin typeface="Times New Roman"/>
              </a:rPr>
              <a:t>FA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cc0000"/>
                </a:solidFill>
                <a:latin typeface="Times New Roman"/>
              </a:rPr>
              <a:t>a. Ibuprofe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cc0000"/>
                </a:solidFill>
                <a:latin typeface="Times New Roman"/>
              </a:rPr>
              <a:t>b. Acido acetilsalicilico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(sconsigliato in pz 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8 anni [Reye’s Syndrome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cc0000"/>
                </a:solidFill>
                <a:latin typeface="Times New Roman"/>
              </a:rPr>
              <a:t>PIRAZOLONICI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aminofenazone, propifenaz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effetti indesiderati anafilassi, disturbi del sang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ENZIMA REGOLATORE DELLA FEBBR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327636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a temperatura corporea è regolata dall’enzima specifico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mPGES-1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’mPGES-1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segnala uno stato infiammatorio in corso determinando la produzione dell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rostaglandine E2,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che legandosi a particolari recettori situati su profonde strutture neurali innescano il meccanismo della febb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Gli attuali farmaci per lenire la febbre agiscono inibendo lo sviluppo di un elevato numero di sostanze. Ciò può comportare l'insorgenza di effetti collaterali  (disturbi renali, gastrici, cardiovascolari, ecc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cc0000"/>
                </a:solidFill>
                <a:latin typeface="Times New Roman"/>
              </a:rPr>
              <a:t>Nature Neuroscience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PARACETAMO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armaco antipiretico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Arial"/>
              </a:rPr>
              <a:t>di prima scelta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non dotato di effetto anti-infiamm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ibisce l'enzima cicloossigenasi con conseguente diminuzione della produzione di PGE2 (a livello cerebrale pertanto il paracetamolo è privo di effetti antinfiammatori sistemi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0-15mg/kg ogni 4-6 h (2400mg/d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FANS (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26708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armaci antipiretici dotati di effetto antinfiamm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cc"/>
                </a:solidFill>
                <a:latin typeface="Arial"/>
              </a:rPr>
              <a:t>a. IBUPRO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rmaco antipiretico di seconda sce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5-10mg/kg ogni 6-8 h (40mg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ò determinare disturbi gastro-intestinali (sanguinamenti,ulcer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è sconsigliato l’uso pediatrico per più di tre gg consecu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FANS (II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350532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Farmaci antipiretici dotati di effetto antinfiammato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cc"/>
                </a:solidFill>
                <a:latin typeface="Arial"/>
              </a:rPr>
              <a:t>b. ASPIRINA, ACIDO NIFLUMICO, NIMESULIDE, KETOPROFENE, FLURBIPROF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ibiscono l'enzima cicloossigenasi in tutti i distretti dell'organism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STEROI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mmunodepressivi ad azione antinfiamma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3200" spc="-1" strike="noStrike">
                <a:solidFill>
                  <a:srgbClr val="cc0000"/>
                </a:solidFill>
                <a:latin typeface="Times New Roman"/>
              </a:rPr>
              <a:t>controindicat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, salvo particolari eccezioni, soprattutto negli stati febbrili dovuti ad infezion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TERAPIA DI SUPPOR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0532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eidratazione or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Rip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Vestiario legg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Se = o &gt; 38.7 antipireti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</a:rPr>
              <a:t>Se &gt;40°C: spugnature con acqua tiep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CRITERI DI ROCHESTER PER BAMBINI FEBBRILI senza segno di malat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9144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685800"/>
            <a:ext cx="7010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ndica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it-IT" sz="1800" spc="-1" strike="noStrike">
                <a:solidFill>
                  <a:srgbClr val="cc0000"/>
                </a:solidFill>
                <a:latin typeface="Times New Roman"/>
              </a:rPr>
              <a:t>Valutazione del bambino febbrile di 60-90 gg di v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it-IT" sz="1800" spc="-1" strike="noStrike">
                <a:solidFill>
                  <a:srgbClr val="cc0000"/>
                </a:solidFill>
                <a:latin typeface="Times New Roman"/>
              </a:rPr>
              <a:t>Rassicurarsi dell’esistenza di un’eventuale grave infezione (batteriemia nascos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905120"/>
            <a:ext cx="807732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rite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. Bambino apparentemente s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. Assenza di infezioni a carico dello scheletro, tessuti molli, cute o orecch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C. Nati a term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D. Assenza di precedenti malattie (assenza di precedenti ospedalizzazioni, ospedalizzazione di durata non superiore a quella della madre dopo il parto, no precedente antibiotico-terapia, no iperbilirubinemia, assenza di malattie croniche o sottostan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E. Conta completa di Globuli Bianchi normale(GB conta normale 5000-15,000/mm3, Neutrofili &lt;1,500/mm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F. Altri dati di laboratorio (se è presente diarrea, leucociti fecali &lt;5 pcm, GB nelle urine &lt;10 pc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5562720"/>
            <a:ext cx="74674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Interpretazione: rischio di batteriemia nascos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A. Rischio nel bambino febbrile apparentemente sano:7-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B. Presenza di tutti i criteri di Rochester: &lt; 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SCALA DI OSSERVAZIONE DI YALE  per bambini febbrili senza segno di malattia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dic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Valutazione del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bambino febbrile di 3-36 mesi di v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Presagire infezioni gravi (batteriemia nascosta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it-IT" sz="2400" spc="-1" strike="noStrike">
                <a:solidFill>
                  <a:srgbClr val="cc0000"/>
                </a:solidFill>
                <a:latin typeface="Times New Roman"/>
              </a:rPr>
              <a:t>Determinare “aspetto settico” nel bamb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terpre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. Punteggio = 10 (incidenza di malattia grave: 2.7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. Punteggio = 11-15 (incidenza di malattia grave : 26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. Punteggio &gt; 16 (incidenza di malattia grave : 92.3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SCALA DI OSSERVAZIONE DI YALE 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Assegnazione punteg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ualità del pian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Pianto valido o pianto assente:1; Piagnucolare o singhiozzare:3; pianto debole, lamentoso, o pianto acuto: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azione dinanzi ai genitor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Pianto breve o contentezza:1, pianto incostante:3, pianto persistente: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ariazione di condizion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rapidi risvegli:1, difficoltà a svegliarsi:3, assenza di risveglio o addormentamento: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lor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rosa:1, acrocianosi:3, pallore,cianosi o marezzatura: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.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Idratazion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Occhi, cute, e mucose umidi:1, bocca lievemente asciutta:3, mucose asciutte, occhi incavati: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artecipazione all’ambiente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(Vigile o sorridente:1, vigile o brevemente sorridente: 3, non sorridente, ansioso o torpido: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VARIAZIONI TEMPERATURA CORPO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32004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scillazioni fisiologiche giornaliere della temperatura corporea in rapporto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a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ip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variazioni del tono neuro-vege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avoro fis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4952880"/>
            <a:ext cx="69343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emp. Max alle ore 17-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emp. Minima alle or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33cc"/>
                </a:solidFill>
                <a:latin typeface="Times New Roman"/>
              </a:rPr>
              <a:t>“</a:t>
            </a:r>
            <a:r>
              <a:rPr b="0" lang="en-US" sz="4200" spc="-1" strike="noStrike">
                <a:solidFill>
                  <a:srgbClr val="ff33cc"/>
                </a:solidFill>
                <a:latin typeface="Times New Roman"/>
              </a:rPr>
              <a:t>E’ stato ben descritto che un bambino apparentemente sano potrebbe avere una seria infezione batterica…pertanto, sono necessarie accurate indagini di laboratorio.”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33520" y="4114800"/>
            <a:ext cx="80769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Baraff LJ, Oslund S, Schriger DL, et al.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Probability of bacterial infections in infants less than three months of age: a meta-analysis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Pediatr Infect Dis J. 1992;11:257-26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-Baker MD, Avner JR, Bell LM.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Failure of infant observation scales in detecting serious illness in febrile 4 to 8 week old infants.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Pediatrics. 1990;85:1040-10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-Larry J. Baraff </a:t>
            </a: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anagement of fever without source in infants and child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nals of Emergency Medicine Volume 36  Number 6  Dec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PREDITTORI DI BATTERIE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3505320" cy="25146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mne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ami clin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chi febbr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419720" y="2438280"/>
            <a:ext cx="3657600" cy="243864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uli Bianc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ula Leucocita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o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5867280"/>
            <a:ext cx="861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niel Isaacman, </a:t>
            </a:r>
            <a:r>
              <a:rPr b="0" i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Predictors of bacteremia in febrile children 3-36 Mo of a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Pediatrics;106;5;Nov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than Kupperman, </a:t>
            </a:r>
            <a:r>
              <a:rPr b="0" i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Predictors of occult bacteremia in young febrile childr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Ann Emerg Med June 98;31;679-6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COMUNI BATTERI CAUSA DI BATTERIEMIA NASCOS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2819160"/>
            <a:ext cx="73152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.pneumoniae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almonella non-thyphi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.meningitidis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CITAZIONI ILLUST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15800" y="1600200"/>
            <a:ext cx="817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fortunatamente , molti medici con riluttanza contano sul giudizio clinico, preferendo test diagnostici e il frequente uso di antibiotici. ……. Si dovrebbe resistere alla fretta di usare antibiotici empiricamente, specialmente in pazienti che appaiono sani, poichè non è stato dimostrato chiaramente un reale benefici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cc99"/>
                </a:solidFill>
                <a:latin typeface="Times New Roman"/>
              </a:rPr>
              <a:t>JK Stamos, ST Shulman: Lancet 19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i antibiotici non sono antipiretic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CONCLUSI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7925040" cy="32004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ttare un’unica linea di condot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imo luogo non-nuoc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si al di sopra dei numeri statist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acità di giudizio clinico,  capacità decisionale sono gli obbiettivi fina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629400" y="176040"/>
            <a:ext cx="2093760" cy="3252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304920" y="0"/>
            <a:ext cx="2093760" cy="3252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1447920"/>
            <a:ext cx="4038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a fai il sabato s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per caso ha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febbre??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i e vedrai che ti passerà…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gruppo%20rock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371760" cy="2000160"/>
          </a:xfrm>
          <a:prstGeom prst="rect">
            <a:avLst/>
          </a:prstGeom>
          <a:ln w="0">
            <a:noFill/>
          </a:ln>
        </p:spPr>
      </p:pic>
      <p:pic>
        <p:nvPicPr>
          <p:cNvPr id="156" name="ballerino%20elvis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1371600" cy="1746360"/>
          </a:xfrm>
          <a:prstGeom prst="rect">
            <a:avLst/>
          </a:prstGeom>
          <a:ln w="0">
            <a:noFill/>
          </a:ln>
        </p:spPr>
      </p:pic>
      <p:pic>
        <p:nvPicPr>
          <p:cNvPr id="157" name="Donna%20sex%20bacio" descr=""/>
          <p:cNvPicPr/>
          <p:nvPr/>
        </p:nvPicPr>
        <p:blipFill>
          <a:blip r:embed="rId3"/>
          <a:stretch/>
        </p:blipFill>
        <p:spPr>
          <a:xfrm>
            <a:off x="6553080" y="3962520"/>
            <a:ext cx="1000080" cy="1600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16765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FREQUENZA DEL POLSO E TEMPERA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718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requenza del polso di solito aumenta di 10 battiti per ogni grado di temperatura in pi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’eccezione è data da ILEO-TIFO ove c’è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radicardia relati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laden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457880" cy="5943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cc"/>
                </a:solidFill>
                <a:latin typeface="Times New Roman"/>
              </a:rPr>
              <a:t>Rivisitazione della fobia della Febbre: E’ cambiata la concezione erronea della febbre da parte dei genitori in 20 anni?</a:t>
            </a:r>
            <a:br>
              <a:rPr sz="2400"/>
            </a:b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Pediatrics, Volume 107,  Number 6,  June 2001, Michael Crocetti </a:t>
            </a:r>
            <a:r>
              <a:rPr b="0" lang="en-US" sz="1200" spc="-1" strike="noStrike" u="sng" baseline="30000">
                <a:solidFill>
                  <a:srgbClr val="ccccff"/>
                </a:solidFill>
                <a:uFillTx/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cc0000"/>
                </a:solidFill>
                <a:latin typeface="Times New Roman"/>
              </a:rPr>
              <a:t> M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5280" y="2666520"/>
            <a:ext cx="6477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Tipo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chmitt (</a:t>
            </a: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= 81)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Crocetti et al (</a:t>
            </a:r>
            <a:r>
              <a:rPr b="1" i="1" lang="en-US" sz="1800" spc="-1" strike="noStrike">
                <a:solidFill>
                  <a:srgbClr val="cc0000"/>
                </a:solidFill>
                <a:latin typeface="Times New Roman"/>
              </a:rPr>
              <a:t>n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= 340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)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vulsion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2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nni cerebral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5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1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t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idratazio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lattia seri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iri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cit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ssuna rispos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9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r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%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55360" y="1905120"/>
            <a:ext cx="56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ffetti nocivi della febb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GENITORI, MEDICI E ANTIBIOTICI</a:t>
            </a:r>
            <a:br>
              <a:rPr sz="3600"/>
            </a:b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Bauchner H, et al: Pediatrics 1999; 103:3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175600" cy="358128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dagine svolta dall’AA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610 intervista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%  dei genitori richiedono l’uso dell’antibiotico sebbene il medico non lo ritenga neces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8% dei medici affermano che i genitori spesso fanno pressione affinchè prescrivano antibiotic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/3 afferma che  frequentemente dà il proprio assenzo alla prescr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Times New Roman"/>
              </a:rPr>
              <a:t>DEFINI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ff33cc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c0000"/>
                </a:solidFill>
                <a:latin typeface="Times New Roman"/>
              </a:rPr>
              <a:t>La Febbr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, rappresenta un </a:t>
            </a:r>
            <a:r>
              <a:rPr b="0" i="1" lang="it-IT" sz="3200" spc="-1" strike="noStrike">
                <a:solidFill>
                  <a:srgbClr val="cc0000"/>
                </a:solidFill>
                <a:latin typeface="Times New Roman"/>
              </a:rPr>
              <a:t>sintomo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accompagnato da un corteo sintomatologico costituito 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enso di maless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urbe della ceneste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egni a carico di app.cardiovascolare e diger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sudo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umentato metabol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3T19:09:08Z</dcterms:created>
  <dc:creator/>
  <dc:description/>
  <dc:language>en-US</dc:language>
  <cp:lastModifiedBy>luca</cp:lastModifiedBy>
  <dcterms:modified xsi:type="dcterms:W3CDTF">2004-03-09T09:17:34Z</dcterms:modified>
  <cp:revision>44</cp:revision>
  <dc:subject/>
  <dc:title>LA FEBBRE</dc:title>
</cp:coreProperties>
</file>