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2A9-60FB-4DA2-A59B-73432623E9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const. sx: fever, headache, malaise, myal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: fever and discharge for 3-4 days concurr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bad oral hygiene and odor, suspect bacterial sinusitis with dental origin and possible anaerob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5416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ut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 etiology: Strep. pneumoniae, H. influenzae, M catarrhalis; rarely Staph. aureu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x: amox (45mg/kg/d) 80% response usually within 48-72 hrs, (PCN sens: cefdinir, cefpodoxime, cefuroxime, azithromycin, clarithromycin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unresponsive or severe Sx or day care pt, amox-clav (80/6.4 mg/kg/d divided dose) or cefdinir, cefpodoxime, cefuroxim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still unresponsive  or is complicated (brain abcess, periorbital swelling, ocular dysfunction, visual disturbances, mental status changes), call ENT/neuro/optho consult, use IV cefotaxime, ceftriaxone or go for imaging, aspiration, gram stain, and culture.  Consider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nic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 etiology: Staph. aureus; empiric Rx: amox-cla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sinus aspiration, gram stain, and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acute bacterial sinusitis: Acute for 30-90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bacterial sinusitis: 3 acute in 6 mo or 4 acute in 12 mo.  Usually due to recurrent viral URI esp in setting of kids sharing g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juvant use of decongestants such as oxymetazoline or H1 antihistamines has been suggested but the evidence has been too weak to make a recommend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320-F9B1-46F5-8ED2-7B98BAE8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41F-9B8A-4F84-8587-4777C78A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64D-2617-42D6-A4E1-2144861F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615-72EE-4583-9B9E-9BD0EB7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A33E-90A8-49BD-BCD9-B52C31C4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791B-75AA-4AC8-8799-F2DE50FF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3D8-9049-42DA-962C-51E6B5DB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AC5F-C85C-414E-A2EB-5AD4E30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DB1B-8DD5-4688-84EF-77539AF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6561-9B9A-4F41-8665-A19298F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60D8-E600-4EF5-B1A0-727FC4A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353-E4D8-4DED-937D-0F0DD27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B1B9-DA31-4F06-998A-5684554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3B8C-4164-492E-9CC1-F6EE4F1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3686-9366-43C8-9815-39855A7F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3C5-11F3-4543-8DB3-D464255A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497-7019-4751-AF40-F20E47ED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F1F-752B-40EA-92AE-B9A1B0A6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845-4512-478B-8F50-683349E0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286-4150-45B3-AEE7-CF24F9D9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264-6C6C-4725-914A-5EE4AA75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657-D8E0-4970-BD32-9856625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BBD-D72D-4159-9AB1-F7A7E9A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3C1-3C54-4515-997C-098F6A0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3C97-F563-4A0B-92C7-62D1F45D21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8117-8372-4261-8101-467D2E9AEC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848360" cy="129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ome prescrivere l’antibiotico- terapia per le infezioni respiratorie acquisite in comunità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3160" y="5791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iversità degli Studi di Catania.Dipartimento di Pediatr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O Broncopneumologia, Allergologi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 Fibrosi Cist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191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io La 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Unictgif2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99072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ONSILLITE" descr=""/>
          <p:cNvPicPr/>
          <p:nvPr/>
        </p:nvPicPr>
        <p:blipFill>
          <a:blip r:embed="rId1"/>
          <a:stretch/>
        </p:blipFill>
        <p:spPr>
          <a:xfrm>
            <a:off x="2514600" y="1531800"/>
            <a:ext cx="5181480" cy="4546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6933960" cy="54104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40000"/>
                </a:solidFill>
                <a:latin typeface="Bookman Old Style"/>
              </a:rPr>
              <a:t>In Italia la FT rappresenta il 20% delle visite totali nei bambini di età &lt; 14 anni e cioè circa 6.000.000 di accessi medici/anno</a:t>
            </a:r>
            <a:r>
              <a:rPr b="1" lang="it-IT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040000"/>
                </a:solidFill>
                <a:latin typeface="Bookman Old Style"/>
              </a:rPr>
              <a:t>De Lalla F</a:t>
            </a:r>
            <a:r>
              <a:rPr b="1" i="1" lang="it-IT" sz="2400" spc="-1" strike="noStrike">
                <a:solidFill>
                  <a:srgbClr val="040000"/>
                </a:solidFill>
                <a:latin typeface="Bookman Old Style"/>
              </a:rPr>
              <a:t>. Bollettino Informaz. Medico-Statistiche, 1997</a:t>
            </a:r>
            <a:br>
              <a:rPr sz="2400"/>
            </a:br>
            <a:r>
              <a:rPr b="1" i="1" lang="it-IT" sz="2400" spc="-1" strike="noStrike">
                <a:solidFill>
                  <a:srgbClr val="040000"/>
                </a:solidFill>
                <a:latin typeface="Bookman Old Style"/>
              </a:rPr>
              <a:t>Berni Canani M. Il Medico Pediatra, 199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459240" y="26668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ookman Old Style"/>
              </a:rPr>
              <a:t>Eziologiat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1447920"/>
          <a:ext cx="769608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69608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98360" y="5181480"/>
            <a:ext cx="207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Bookman Old Style"/>
              </a:rPr>
              <a:t>BATTERI</a:t>
            </a: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76440" y="518148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3300"/>
                </a:solidFill>
                <a:latin typeface="Bookman Old Style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9040" y="1600200"/>
            <a:ext cx="18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ef66"/>
                </a:solidFill>
                <a:latin typeface="Bookman Old Style"/>
              </a:rPr>
              <a:t>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1720" y="164448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ef66"/>
                </a:solidFill>
                <a:latin typeface="Bookman Old Style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84440" y="304920"/>
            <a:ext cx="330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EZIOLOGIA D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FARINGOTONSIL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533520"/>
            <a:ext cx="7848360" cy="5984640"/>
            <a:chOff x="762120" y="533520"/>
            <a:chExt cx="7848360" cy="5984640"/>
          </a:xfrm>
        </p:grpSpPr>
        <p:sp>
          <p:nvSpPr>
            <p:cNvPr id="195" name=""/>
            <p:cNvSpPr/>
            <p:nvPr/>
          </p:nvSpPr>
          <p:spPr>
            <a:xfrm>
              <a:off x="6400800" y="606240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606240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hlamydia pneumoni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5607000"/>
              <a:ext cx="2209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120" y="5607000"/>
              <a:ext cx="5638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Mycoplasma pneumoni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00800" y="515124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20" y="515124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Aerobi-anaerobi mis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4695840"/>
              <a:ext cx="2209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4695840"/>
              <a:ext cx="5638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Francisella tularen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424008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424008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Yersinia pest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0800" y="378432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378432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Yersinia enterocoli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3328920"/>
              <a:ext cx="2209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3328920"/>
              <a:ext cx="5638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Treponema pallid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0800" y="287316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287316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Neisseria gonorrhoe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0800" y="2417760"/>
              <a:ext cx="2209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2417760"/>
              <a:ext cx="5638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Arcanobacterium haemolytic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800" y="196200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196200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Corynebacterium diphteri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00800" y="1506600"/>
              <a:ext cx="2209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5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2120" y="1506600"/>
              <a:ext cx="5638680" cy="45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Streptococchi ß-emol. (gr.C e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1050840"/>
              <a:ext cx="2209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15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1050840"/>
              <a:ext cx="5638680" cy="45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Comic Sans MS"/>
                </a:rPr>
                <a:t>S.ß emolitico  gr.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00800" y="533520"/>
              <a:ext cx="2209680" cy="517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Incidenza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533520"/>
              <a:ext cx="5638680" cy="5173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Comic Sans MS"/>
                </a:rPr>
                <a:t>Batter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533520"/>
              <a:ext cx="784836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20" y="105084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20" y="150660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196200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241776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20" y="287316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20" y="332892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378432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424008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20" y="469584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515124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20" y="560700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6062400"/>
              <a:ext cx="78483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6518160"/>
              <a:ext cx="784836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20" y="533520"/>
              <a:ext cx="0" cy="598464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533520"/>
              <a:ext cx="0" cy="59846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10480" y="533520"/>
              <a:ext cx="0" cy="598464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858000" y="91440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69800"/>
            <a:ext cx="7772400" cy="82548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Streptococco </a:t>
            </a:r>
            <a:r>
              <a:rPr b="1" lang="it-IT" sz="24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-emolitico di gruppo A (SBEA) </a:t>
            </a:r>
            <a:br>
              <a:rPr sz="2400"/>
            </a:b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FARINGOTONSILL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71288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Bambini 3 – 15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Contatto diretto (la promiscuità favorisce la selezione di ceppi virul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Contagio indiretto (cibi, acqua, polvere, vesti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Portatori asintomatici (anche il 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Risposta anticorpale dopo 4-8 settimane (anticorpi opsonizzanti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anti-M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97280" y="5918040"/>
            <a:ext cx="1851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La Rosa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ookman Old Style"/>
              </a:rPr>
              <a:t>Fattori di risch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Bookman Old Style"/>
              </a:rPr>
              <a:t>Basso livello socio-econom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Bookman Old Style"/>
              </a:rPr>
              <a:t>Affollamento ambiente domes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Bookman Old Style"/>
              </a:rPr>
              <a:t>Scolari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Bookman Old Style"/>
              </a:rPr>
              <a:t>Indoor pollution</a:t>
            </a:r>
            <a:r>
              <a:rPr b="1" lang="it-IT" sz="3200" spc="-1" strike="noStrike">
                <a:solidFill>
                  <a:srgbClr val="ff0000"/>
                </a:solidFill>
                <a:latin typeface="Bookman Old Style"/>
              </a:rPr>
              <a:t> (fumo di tabacco-stuf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Bookman Old Style"/>
              </a:rPr>
              <a:t>Stag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445000" y="4952880"/>
            <a:ext cx="1851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La Rosa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89440"/>
            <a:ext cx="77724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Faringotonsillite da SBEA: complican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143000"/>
            <a:ext cx="8534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Supp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Cellulite, ascesso retrofaringeo o peritonsil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Otite, sinusite, mastoi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Linfoadenite latero-cerv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Meningite, batteremia, polmonite (r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28472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Non supp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Febbre reu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Glomerulonefrite ac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69360" y="6172200"/>
            <a:ext cx="44434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Burgio, Pediatria</a:t>
            </a:r>
            <a:r>
              <a:rPr b="1" i="1" lang="it-IT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Essenziale IV ed.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533520" y="228600"/>
            <a:ext cx="8001000" cy="6207120"/>
            <a:chOff x="533520" y="228600"/>
            <a:chExt cx="8001000" cy="6207120"/>
          </a:xfrm>
        </p:grpSpPr>
        <p:sp>
          <p:nvSpPr>
            <p:cNvPr id="250" name=""/>
            <p:cNvSpPr/>
            <p:nvPr/>
          </p:nvSpPr>
          <p:spPr>
            <a:xfrm>
              <a:off x="6629760" y="607068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640" y="607068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520" y="607068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Mial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9760" y="570564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4640" y="570564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520" y="570564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Secrezione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as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29760" y="5340240"/>
              <a:ext cx="190476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24640" y="5340240"/>
              <a:ext cx="1905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/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520" y="5340240"/>
              <a:ext cx="4191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Laringite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ipoglot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760" y="497520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24640" y="497520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/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497520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Stomatite/af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9760" y="461016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461016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461016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To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29760" y="424512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24640" y="424512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424512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Congiuntiv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9760" y="3879720"/>
              <a:ext cx="190476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640" y="3879720"/>
              <a:ext cx="1905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879720"/>
              <a:ext cx="4191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Esan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29760" y="351468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4640" y="351468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351468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Tumefazione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e dolenzia linfonodi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9760" y="314964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24640" y="314964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14964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Essudato purul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29760" y="278460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24640" y="278460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278460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Iperemia e petecchie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29760" y="2419200"/>
              <a:ext cx="190476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4640" y="2419200"/>
              <a:ext cx="1905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2419200"/>
              <a:ext cx="4191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Nausea, vomito, dolori addomin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29760" y="205416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05416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520" y="205416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Cefalea</a:t>
              </a: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in ( bambini grand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9760" y="168912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168912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520" y="168912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Faringod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760" y="132408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640" y="132408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520" y="132408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Ugola arrossata e tumefat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9760" y="958680"/>
              <a:ext cx="190476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4640" y="958680"/>
              <a:ext cx="1905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520" y="958680"/>
              <a:ext cx="4191120" cy="3654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Iperpiress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9760" y="59364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640" y="59364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00"/>
                  </a:solidFill>
                  <a:latin typeface="Comic Sans MS"/>
                </a:rPr>
                <a:t>++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59364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0000"/>
                  </a:solidFill>
                  <a:latin typeface="Comic Sans MS"/>
                </a:rPr>
                <a:t>Esordio improvv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760" y="228600"/>
              <a:ext cx="190476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Comic Sans MS"/>
                </a:rPr>
                <a:t>FT Vi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640" y="228600"/>
              <a:ext cx="1905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Comic Sans MS"/>
                </a:rPr>
                <a:t>FT da SB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520" y="228600"/>
              <a:ext cx="4191120" cy="3650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3300"/>
                  </a:solidFill>
                  <a:latin typeface="Comic Sans MS"/>
                </a:rPr>
                <a:t>Segni e sinto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520" y="228600"/>
              <a:ext cx="800100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520" y="59364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520" y="95868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520" y="132408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168912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" y="205416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520" y="241920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520" y="278460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520" y="314964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3520" y="351468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3520" y="387972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424512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520" y="461016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520" y="497520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520" y="534024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570564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520" y="6070680"/>
              <a:ext cx="8001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6435720"/>
              <a:ext cx="800100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28600"/>
              <a:ext cx="0" cy="620712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24640" y="228600"/>
              <a:ext cx="0" cy="6207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9760" y="228600"/>
              <a:ext cx="0" cy="6207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534520" y="228600"/>
              <a:ext cx="0" cy="620712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229440" y="6573960"/>
            <a:ext cx="1123920" cy="231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0000"/>
                </a:solidFill>
                <a:latin typeface="Bookman Old Style"/>
              </a:rPr>
              <a:t>Da Principi, 19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57200"/>
            <a:ext cx="91440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4191120"/>
            <a:ext cx="762120" cy="22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Bookman Old Style"/>
              </a:rPr>
              <a:t>Diagnosi di FT acuta da SBEA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305560" cy="3809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Il complesso dei segni e sintomi non consente, nella maggioranza dei casi, una diagnosi eziolog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L’obbiettivo delle indagini di laboratorio è quello di accertare la presenza dello SB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443200" y="6024600"/>
            <a:ext cx="21297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Da La Rosa 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83960" y="1066320"/>
            <a:ext cx="690876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TERAPIA ANTIBIOTIC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962520" y="3200400"/>
            <a:ext cx="2573280" cy="838080"/>
            <a:chOff x="3962520" y="3200400"/>
            <a:chExt cx="2573280" cy="838080"/>
          </a:xfrm>
        </p:grpSpPr>
        <p:sp>
          <p:nvSpPr>
            <p:cNvPr id="331" name=""/>
            <p:cNvSpPr/>
            <p:nvPr/>
          </p:nvSpPr>
          <p:spPr>
            <a:xfrm>
              <a:off x="3962520" y="3200400"/>
              <a:ext cx="2573280" cy="8380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8880" y="3274920"/>
              <a:ext cx="15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IR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09880" y="4267080"/>
            <a:ext cx="3182760" cy="838440"/>
            <a:chOff x="3809880" y="4267080"/>
            <a:chExt cx="3182760" cy="838440"/>
          </a:xfrm>
        </p:grpSpPr>
        <p:sp>
          <p:nvSpPr>
            <p:cNvPr id="334" name=""/>
            <p:cNvSpPr/>
            <p:nvPr/>
          </p:nvSpPr>
          <p:spPr>
            <a:xfrm>
              <a:off x="3809880" y="4267080"/>
              <a:ext cx="3047760" cy="83844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48280" y="4343400"/>
              <a:ext cx="28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RAGION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438280" y="3429000"/>
            <a:ext cx="1150920" cy="5335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4495680"/>
            <a:ext cx="1150920" cy="5335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4480" y="228240"/>
            <a:ext cx="777240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TERAPIA MIRA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870200" y="5684760"/>
            <a:ext cx="5133600" cy="2905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ELTA DELL’ANTIBIOTICO DA  SOMMINIST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63440" y="4308480"/>
            <a:ext cx="5536080" cy="6505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OLAMENTO, IDENTIFICAZIONE E DETERMINAZIO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LA SENSIBILITA’ “IN VIT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0400" y="3470400"/>
            <a:ext cx="4610880" cy="2905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IO AL LABORATORIO DI MICROBI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96280" y="2522520"/>
            <a:ext cx="4859280" cy="321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LIEVO DEL MATERIALE PAT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30280" y="1573200"/>
            <a:ext cx="2748600" cy="3214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DE DELL’INFE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133720"/>
            <a:ext cx="203040" cy="228600"/>
          </a:xfrm>
          <a:prstGeom prst="downArrow">
            <a:avLst>
              <a:gd name="adj1" fmla="val 50000"/>
              <a:gd name="adj2" fmla="val 28147"/>
            </a:avLst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3124080"/>
            <a:ext cx="203040" cy="228600"/>
          </a:xfrm>
          <a:prstGeom prst="downArrow">
            <a:avLst>
              <a:gd name="adj1" fmla="val 50000"/>
              <a:gd name="adj2" fmla="val 28147"/>
            </a:avLst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962520"/>
            <a:ext cx="203040" cy="228600"/>
          </a:xfrm>
          <a:prstGeom prst="downArrow">
            <a:avLst>
              <a:gd name="adj1" fmla="val 50000"/>
              <a:gd name="adj2" fmla="val 28147"/>
            </a:avLst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334120"/>
            <a:ext cx="203040" cy="228600"/>
          </a:xfrm>
          <a:prstGeom prst="downArrow">
            <a:avLst>
              <a:gd name="adj1" fmla="val 50000"/>
              <a:gd name="adj2" fmla="val 28147"/>
            </a:avLst>
          </a:prstGeom>
          <a:solidFill>
            <a:srgbClr val="000000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3120" y="835200"/>
            <a:ext cx="6489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nfezioni dell’apparato respirato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aringotonsill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ino-sinu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Otite 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olmon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TERAPIA RAGION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1982880" y="2590920"/>
            <a:ext cx="4393440" cy="1368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E DELL’INF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I EPIDEMI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05520" y="2057400"/>
            <a:ext cx="581328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Penicillina G benzatina: 1.200.000 U dose si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(600.000 U in bambini &lt;30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Penicillina V 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Cefalosporine or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Amoxicillina o  amoxi/clavula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macrol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913320"/>
            <a:ext cx="77724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 Antiqua"/>
              </a:rPr>
              <a:t>Faringotonsillite streptococcica: terap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45000" y="6095880"/>
            <a:ext cx="1851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La Rosa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686800" cy="38862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Tutti i ceppi di </a:t>
            </a:r>
            <a:r>
              <a:rPr b="1" i="1" lang="it-IT" sz="4800" spc="-1" strike="noStrike">
                <a:solidFill>
                  <a:srgbClr val="ffffff"/>
                </a:solidFill>
                <a:latin typeface="Arial"/>
              </a:rPr>
              <a:t>S.pyogenes</a:t>
            </a: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 sono sensibili </a:t>
            </a:r>
            <a:r>
              <a:rPr b="1" i="1" lang="it-IT" sz="4800" spc="-1" strike="noStrike">
                <a:solidFill>
                  <a:srgbClr val="ffffff"/>
                </a:solidFill>
                <a:latin typeface="Arial"/>
              </a:rPr>
              <a:t>“in vitro”</a:t>
            </a: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alla penicillina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8240" cy="1143000"/>
          </a:xfrm>
          <a:prstGeom prst="rect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57"/>
                </a:solidFill>
                <a:latin typeface="Arial"/>
              </a:rPr>
              <a:t>PENICILLIN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71440" y="2133360"/>
            <a:ext cx="8669520" cy="32763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LLA ECCELLENTE ATTIVITA’ 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“IN VITRO”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NON CORRISPONDE UN’ALTRETTANTA CAPACITA’ DI ERADIC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IRCA IL 20 % DI 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S.PYOGENE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NON VIENE ERADICATO DALLA TERAPIA CON PENICILLIN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19124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 Antiqua"/>
              </a:rPr>
              <a:t>Metanalisi degli studi comparativi tra Penicilline e Cefalosporine orali nella terapia della FT da SB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5097600" y="2300400"/>
            <a:ext cx="374148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12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9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703dff"/>
                </a:solidFill>
                <a:latin typeface="Comic Sans MS"/>
              </a:rPr>
              <a:t>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6560" y="2300400"/>
            <a:ext cx="375912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703dff"/>
                </a:solidFill>
                <a:latin typeface="Comic Sans MS"/>
              </a:rPr>
              <a:t>Nr. stu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703dff"/>
                </a:solidFill>
                <a:latin typeface="Comic Sans MS"/>
              </a:rPr>
              <a:t>Nr. ca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Bookman Old Style"/>
              </a:rPr>
              <a:t>Fallimento microbio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703dff"/>
                </a:solidFill>
                <a:latin typeface="Comic Sans MS"/>
              </a:rPr>
              <a:t>Nr. stu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703dff"/>
                </a:solidFill>
                <a:latin typeface="Comic Sans MS"/>
              </a:rPr>
              <a:t>Nr. Ca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Bookman Old Style"/>
              </a:rPr>
              <a:t>Fallimento cli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62120" y="2286000"/>
            <a:ext cx="6959520" cy="14400"/>
          </a:xfrm>
          <a:prstGeom prst="line">
            <a:avLst/>
          </a:prstGeom>
          <a:ln cap="sq"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5410080"/>
            <a:ext cx="6959520" cy="0"/>
          </a:xfrm>
          <a:prstGeom prst="line">
            <a:avLst/>
          </a:prstGeom>
          <a:ln cap="sq"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2300400"/>
            <a:ext cx="0" cy="3033720"/>
          </a:xfrm>
          <a:prstGeom prst="line">
            <a:avLst/>
          </a:prstGeom>
          <a:ln cap="sq"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362320"/>
            <a:ext cx="0" cy="3033720"/>
          </a:xfrm>
          <a:prstGeom prst="line">
            <a:avLst/>
          </a:prstGeom>
          <a:ln w="1908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2362320"/>
            <a:ext cx="0" cy="3033720"/>
          </a:xfrm>
          <a:prstGeom prst="line">
            <a:avLst/>
          </a:prstGeom>
          <a:ln cap="sq"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2000" y="5486400"/>
            <a:ext cx="31006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Bookman Old Style"/>
              </a:rPr>
              <a:t>*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p &lt;0,0001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** p &lt;0,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63840" y="6019920"/>
            <a:ext cx="2142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Pichichero ,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72400" y="2362320"/>
            <a:ext cx="0" cy="3033720"/>
          </a:xfrm>
          <a:prstGeom prst="line">
            <a:avLst/>
          </a:prstGeom>
          <a:ln cap="sq" w="2844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08320" y="1828800"/>
            <a:ext cx="5875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C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1752480"/>
            <a:ext cx="6955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92680" y="2413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92680" y="2895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11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12480" y="3429000"/>
            <a:ext cx="7048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16%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4880" y="3860640"/>
            <a:ext cx="4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554880" y="4394160"/>
            <a:ext cx="5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8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04560" y="4851360"/>
            <a:ext cx="8146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11%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44120" y="914040"/>
            <a:ext cx="7790040" cy="1143000"/>
          </a:xfrm>
          <a:prstGeom prst="rect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57"/>
                </a:solidFill>
                <a:latin typeface="Arial"/>
              </a:rPr>
              <a:t>POSSIBILI SPIEGAZIONI DEL FALLIMENTO MICROBIOLOGICO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09480" y="2895480"/>
            <a:ext cx="7925040" cy="19051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ATOGENICITA’ INDIRET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ERFERENZA BATTERICA ( Strep. </a:t>
            </a:r>
            <a:r>
              <a:rPr b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molitic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548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 Antiqua"/>
              </a:rPr>
              <a:t>Eradicazione (%) dello SBEA in rapporto alla durata della terapia con Penicillina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09480" y="1905120"/>
            <a:ext cx="7772400" cy="4064040"/>
            <a:chOff x="609480" y="1905120"/>
            <a:chExt cx="7772400" cy="4064040"/>
          </a:xfrm>
        </p:grpSpPr>
        <p:sp>
          <p:nvSpPr>
            <p:cNvPr id="379" name=""/>
            <p:cNvSpPr/>
            <p:nvPr/>
          </p:nvSpPr>
          <p:spPr>
            <a:xfrm>
              <a:off x="7391160" y="546120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76760" y="54612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62360" y="54612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7960" y="54612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546120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80" y="546120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Gerber</a:t>
              </a:r>
              <a:r>
                <a:rPr b="1" lang="it-IT" sz="2400" spc="-1" strike="noStrike">
                  <a:solidFill>
                    <a:srgbClr val="ffff00"/>
                  </a:solidFill>
                  <a:latin typeface="Bookman Old Style"/>
                </a:rPr>
                <a:t>, </a:t>
              </a: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19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91160" y="495324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76760" y="495324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2360" y="495324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47960" y="495324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95324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495324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Schwartz</a:t>
              </a:r>
              <a:r>
                <a:rPr b="1" lang="it-IT" sz="2400" spc="-1" strike="noStrike">
                  <a:solidFill>
                    <a:srgbClr val="ffff00"/>
                  </a:solidFill>
                  <a:latin typeface="Bookman Old Style"/>
                </a:rPr>
                <a:t>, </a:t>
              </a: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19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1160" y="444528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76760" y="444528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360" y="444528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7960" y="444528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444528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444528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Bernstein</a:t>
              </a:r>
              <a:r>
                <a:rPr b="1" lang="it-IT" sz="2400" spc="-1" strike="noStrike">
                  <a:solidFill>
                    <a:srgbClr val="ffff00"/>
                  </a:solidFill>
                  <a:latin typeface="Bookman Old Style"/>
                </a:rPr>
                <a:t>, </a:t>
              </a: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19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1160" y="393732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6760" y="393732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360" y="393732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47960" y="393732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93732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480" y="393732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Breese</a:t>
              </a:r>
              <a:r>
                <a:rPr b="1" lang="it-IT" sz="2400" spc="-1" strike="noStrike">
                  <a:solidFill>
                    <a:srgbClr val="ffff00"/>
                  </a:solidFill>
                  <a:latin typeface="Bookman Old Style"/>
                </a:rPr>
                <a:t>, </a:t>
              </a: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19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1160" y="342936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6760" y="342936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 </a:t>
              </a: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62360" y="342936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7960" y="342936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342936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480" y="342936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Wannamaker, 195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91160" y="2921400"/>
              <a:ext cx="99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76760" y="29214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Bookman Old Style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2360" y="29214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7960" y="2921400"/>
              <a:ext cx="914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2921400"/>
              <a:ext cx="990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292140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Bookman Old Style"/>
                </a:rPr>
                <a:t>Denny, 19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1160" y="2413080"/>
              <a:ext cx="9907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6760" y="2413080"/>
              <a:ext cx="9144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Comic Sans MS"/>
                </a:rPr>
                <a:t>9-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360" y="2413080"/>
              <a:ext cx="9144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2413080"/>
              <a:ext cx="9144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57600" y="2413080"/>
              <a:ext cx="99036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9480" y="2413080"/>
              <a:ext cx="30481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57600" y="1905120"/>
              <a:ext cx="4724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Bookman Old Style"/>
                </a:rPr>
                <a:t>Gi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80" y="1905120"/>
              <a:ext cx="30481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9480" y="1905120"/>
              <a:ext cx="7772400" cy="0"/>
            </a:xfrm>
            <a:prstGeom prst="line">
              <a:avLst/>
            </a:prstGeom>
            <a:ln cap="sq" w="284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80" y="241308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9480" y="292140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480" y="342936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480" y="393732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480" y="444528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480" y="495324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480" y="5461200"/>
              <a:ext cx="7772400" cy="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480" y="5969160"/>
              <a:ext cx="7772400" cy="0"/>
            </a:xfrm>
            <a:prstGeom prst="line">
              <a:avLst/>
            </a:prstGeom>
            <a:ln cap="sq" w="284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480" y="1905120"/>
              <a:ext cx="0" cy="4064040"/>
            </a:xfrm>
            <a:prstGeom prst="line">
              <a:avLst/>
            </a:prstGeom>
            <a:ln cap="sq" w="284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57600" y="1905120"/>
              <a:ext cx="0" cy="406404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1880" y="1905120"/>
              <a:ext cx="0" cy="4064040"/>
            </a:xfrm>
            <a:prstGeom prst="line">
              <a:avLst/>
            </a:prstGeom>
            <a:ln cap="sq" w="2844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7960" y="2413080"/>
              <a:ext cx="0" cy="355608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360" y="2413080"/>
              <a:ext cx="0" cy="355608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6760" y="2413080"/>
              <a:ext cx="0" cy="355608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91160" y="2413080"/>
              <a:ext cx="0" cy="3556080"/>
            </a:xfrm>
            <a:prstGeom prst="line">
              <a:avLst/>
            </a:prstGeom>
            <a:ln w="1908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970240" y="6248520"/>
            <a:ext cx="2142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Pichichero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62440" y="44528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90880" y="40226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83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90520" y="447984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82240" y="5546880"/>
            <a:ext cx="4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63160" y="49878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64600" y="3897360"/>
            <a:ext cx="5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Bookman Old Style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62440" y="55371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63160" y="29304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76120" y="4038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90520" y="501336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800"/>
            <a:ext cx="7772400" cy="1008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Bookman Old Style"/>
              </a:rPr>
              <a:t>Efficacia microbiologica del Ceftibuten in confronto alla Penicillina V </a:t>
            </a:r>
            <a:br>
              <a:rPr sz="2000"/>
            </a:br>
            <a:r>
              <a:rPr b="1" lang="it-IT" sz="2000" spc="-1" strike="noStrike">
                <a:solidFill>
                  <a:srgbClr val="ffff99"/>
                </a:solidFill>
                <a:latin typeface="Bookman Old Style"/>
              </a:rPr>
              <a:t>5-7 giorni dalla fine di una terapia di 10 gior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2819520"/>
            <a:ext cx="198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5451480"/>
            <a:ext cx="1905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60088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477120" y="5257800"/>
            <a:ext cx="1981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5715000"/>
            <a:ext cx="1905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5262480"/>
            <a:ext cx="13716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4924440"/>
            <a:ext cx="1981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4924440"/>
            <a:ext cx="3886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5938920"/>
            <a:ext cx="1981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5938920"/>
            <a:ext cx="1371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4495680"/>
            <a:ext cx="1981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72000" y="4368960"/>
            <a:ext cx="19051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962520"/>
            <a:ext cx="1905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429000"/>
            <a:ext cx="251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4111560"/>
            <a:ext cx="1371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3705120"/>
            <a:ext cx="251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3705120"/>
            <a:ext cx="1371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477120" y="3298680"/>
            <a:ext cx="1981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298680"/>
            <a:ext cx="1371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2892600"/>
            <a:ext cx="1981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2892600"/>
            <a:ext cx="1371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2486160"/>
            <a:ext cx="1371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505320"/>
            <a:ext cx="19814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073240"/>
            <a:ext cx="137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1600200"/>
            <a:ext cx="198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60020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05600" y="6010200"/>
            <a:ext cx="135252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Da Pichichero, 199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16200" y="5821200"/>
            <a:ext cx="1290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Bookman Old Style"/>
              </a:rPr>
              <a:t>* </a:t>
            </a: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p &lt;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90920" y="2846520"/>
            <a:ext cx="20840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Bookman Old Style"/>
              </a:rPr>
              <a:t>FARINGOTONSILLITE</a:t>
            </a:r>
            <a:r>
              <a:rPr b="1" lang="it-IT" sz="1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0280" y="4038480"/>
            <a:ext cx="97488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FALL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08120" y="4648320"/>
            <a:ext cx="109188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PERSIST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3429000"/>
            <a:ext cx="251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3429000"/>
            <a:ext cx="251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7760" y="3505320"/>
            <a:ext cx="107244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ELIMIN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09800" y="1984320"/>
            <a:ext cx="153252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Ceftibuten %</a:t>
            </a: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10320" y="1974960"/>
            <a:ext cx="146844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Penicillina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74480" y="3456000"/>
            <a:ext cx="52812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Bookman Old Style"/>
              </a:rPr>
              <a:t>91</a:t>
            </a:r>
            <a:r>
              <a:rPr b="1" lang="it-IT" sz="1400" spc="-1" strike="noStrike">
                <a:solidFill>
                  <a:srgbClr val="ffff00"/>
                </a:solidFill>
                <a:latin typeface="Bookman Old Style"/>
              </a:rPr>
              <a:t>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962240" y="4105440"/>
            <a:ext cx="28584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it-IT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62240" y="4714920"/>
            <a:ext cx="25092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54240" y="3446640"/>
            <a:ext cx="4197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Bookman Old Style"/>
              </a:rPr>
              <a:t>80</a:t>
            </a: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21200" y="4105440"/>
            <a:ext cx="32076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9520" y="4648320"/>
            <a:ext cx="285840" cy="246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Arial"/>
              </a:rPr>
              <a:t>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28600" y="1905120"/>
            <a:ext cx="8686800" cy="243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“</a:t>
            </a: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Erythromycin resistance in </a:t>
            </a:r>
            <a:br>
              <a:rPr sz="4000"/>
            </a:br>
            <a:r>
              <a:rPr b="1" i="1" lang="it-IT" sz="4000" spc="-1" strike="noStrike">
                <a:solidFill>
                  <a:srgbClr val="003399"/>
                </a:solidFill>
                <a:latin typeface="Bookman Old Style"/>
              </a:rPr>
              <a:t>Streptococcus pyogenes</a:t>
            </a: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3399"/>
                </a:solidFill>
                <a:latin typeface="Bookman Old Style"/>
              </a:rPr>
              <a:t>in Italy”</a:t>
            </a:r>
            <a:br>
              <a:rPr sz="4000"/>
            </a:br>
            <a:r>
              <a:rPr b="1" i="1" lang="it-IT" sz="3600" spc="-1" strike="noStrike">
                <a:solidFill>
                  <a:srgbClr val="003399"/>
                </a:solidFill>
                <a:latin typeface="Bookman Old Style"/>
              </a:rPr>
              <a:t>Emerg Infect Dis 6:180-183,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83960" y="380520"/>
            <a:ext cx="6908760" cy="1295640"/>
          </a:xfrm>
          <a:prstGeom prst="rect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PERCENTUALE DI </a:t>
            </a:r>
            <a:br>
              <a:rPr sz="4000"/>
            </a:b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ERITRO-RESISTENZ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4359240" y="3352680"/>
            <a:ext cx="2730600" cy="916200"/>
          </a:xfrm>
          <a:custGeom>
            <a:avLst/>
            <a:gdLst/>
            <a:ahLst/>
            <a:rect l="l" t="t" r="r" b="b"/>
            <a:pathLst>
              <a:path w="1935" h="577">
                <a:moveTo>
                  <a:pt x="1870" y="0"/>
                </a:moveTo>
                <a:lnTo>
                  <a:pt x="1876" y="13"/>
                </a:lnTo>
                <a:lnTo>
                  <a:pt x="1883" y="19"/>
                </a:lnTo>
                <a:lnTo>
                  <a:pt x="1889" y="25"/>
                </a:lnTo>
                <a:lnTo>
                  <a:pt x="1896" y="31"/>
                </a:lnTo>
                <a:lnTo>
                  <a:pt x="1902" y="44"/>
                </a:lnTo>
                <a:lnTo>
                  <a:pt x="1909" y="50"/>
                </a:lnTo>
                <a:lnTo>
                  <a:pt x="1915" y="56"/>
                </a:lnTo>
                <a:lnTo>
                  <a:pt x="1922" y="69"/>
                </a:lnTo>
                <a:lnTo>
                  <a:pt x="1922" y="75"/>
                </a:lnTo>
                <a:lnTo>
                  <a:pt x="1928" y="81"/>
                </a:lnTo>
                <a:lnTo>
                  <a:pt x="1928" y="93"/>
                </a:lnTo>
                <a:lnTo>
                  <a:pt x="1928" y="100"/>
                </a:lnTo>
                <a:lnTo>
                  <a:pt x="1935" y="112"/>
                </a:lnTo>
                <a:lnTo>
                  <a:pt x="1935" y="118"/>
                </a:lnTo>
                <a:lnTo>
                  <a:pt x="1935" y="124"/>
                </a:lnTo>
                <a:lnTo>
                  <a:pt x="1935" y="137"/>
                </a:lnTo>
                <a:lnTo>
                  <a:pt x="1935" y="143"/>
                </a:lnTo>
                <a:lnTo>
                  <a:pt x="1928" y="149"/>
                </a:lnTo>
                <a:lnTo>
                  <a:pt x="1928" y="162"/>
                </a:lnTo>
                <a:lnTo>
                  <a:pt x="1928" y="168"/>
                </a:lnTo>
                <a:lnTo>
                  <a:pt x="1922" y="174"/>
                </a:lnTo>
                <a:lnTo>
                  <a:pt x="1922" y="174"/>
                </a:lnTo>
                <a:lnTo>
                  <a:pt x="1922" y="186"/>
                </a:lnTo>
                <a:lnTo>
                  <a:pt x="1915" y="193"/>
                </a:lnTo>
                <a:lnTo>
                  <a:pt x="1909" y="199"/>
                </a:lnTo>
                <a:lnTo>
                  <a:pt x="1902" y="211"/>
                </a:lnTo>
                <a:lnTo>
                  <a:pt x="1896" y="217"/>
                </a:lnTo>
                <a:lnTo>
                  <a:pt x="1889" y="224"/>
                </a:lnTo>
                <a:lnTo>
                  <a:pt x="1883" y="236"/>
                </a:lnTo>
                <a:lnTo>
                  <a:pt x="1876" y="242"/>
                </a:lnTo>
                <a:lnTo>
                  <a:pt x="1870" y="248"/>
                </a:lnTo>
                <a:lnTo>
                  <a:pt x="1857" y="261"/>
                </a:lnTo>
                <a:lnTo>
                  <a:pt x="1851" y="267"/>
                </a:lnTo>
                <a:lnTo>
                  <a:pt x="1838" y="273"/>
                </a:lnTo>
                <a:lnTo>
                  <a:pt x="1825" y="279"/>
                </a:lnTo>
                <a:lnTo>
                  <a:pt x="1818" y="292"/>
                </a:lnTo>
                <a:lnTo>
                  <a:pt x="1805" y="298"/>
                </a:lnTo>
                <a:lnTo>
                  <a:pt x="1792" y="304"/>
                </a:lnTo>
                <a:lnTo>
                  <a:pt x="1779" y="317"/>
                </a:lnTo>
                <a:lnTo>
                  <a:pt x="1766" y="323"/>
                </a:lnTo>
                <a:lnTo>
                  <a:pt x="1753" y="329"/>
                </a:lnTo>
                <a:lnTo>
                  <a:pt x="1741" y="335"/>
                </a:lnTo>
                <a:lnTo>
                  <a:pt x="1721" y="341"/>
                </a:lnTo>
                <a:lnTo>
                  <a:pt x="1708" y="354"/>
                </a:lnTo>
                <a:lnTo>
                  <a:pt x="1689" y="360"/>
                </a:lnTo>
                <a:lnTo>
                  <a:pt x="1676" y="366"/>
                </a:lnTo>
                <a:lnTo>
                  <a:pt x="1656" y="372"/>
                </a:lnTo>
                <a:lnTo>
                  <a:pt x="1637" y="379"/>
                </a:lnTo>
                <a:lnTo>
                  <a:pt x="1624" y="385"/>
                </a:lnTo>
                <a:lnTo>
                  <a:pt x="1605" y="397"/>
                </a:lnTo>
                <a:lnTo>
                  <a:pt x="1585" y="403"/>
                </a:lnTo>
                <a:lnTo>
                  <a:pt x="1566" y="410"/>
                </a:lnTo>
                <a:lnTo>
                  <a:pt x="1546" y="416"/>
                </a:lnTo>
                <a:lnTo>
                  <a:pt x="1521" y="422"/>
                </a:lnTo>
                <a:lnTo>
                  <a:pt x="1501" y="428"/>
                </a:lnTo>
                <a:lnTo>
                  <a:pt x="1482" y="434"/>
                </a:lnTo>
                <a:lnTo>
                  <a:pt x="1462" y="441"/>
                </a:lnTo>
                <a:lnTo>
                  <a:pt x="1436" y="447"/>
                </a:lnTo>
                <a:lnTo>
                  <a:pt x="1417" y="453"/>
                </a:lnTo>
                <a:lnTo>
                  <a:pt x="1391" y="459"/>
                </a:lnTo>
                <a:lnTo>
                  <a:pt x="1365" y="465"/>
                </a:lnTo>
                <a:lnTo>
                  <a:pt x="1346" y="472"/>
                </a:lnTo>
                <a:lnTo>
                  <a:pt x="1320" y="478"/>
                </a:lnTo>
                <a:lnTo>
                  <a:pt x="1294" y="484"/>
                </a:lnTo>
                <a:lnTo>
                  <a:pt x="1268" y="490"/>
                </a:lnTo>
                <a:lnTo>
                  <a:pt x="1268" y="490"/>
                </a:lnTo>
                <a:lnTo>
                  <a:pt x="1242" y="496"/>
                </a:lnTo>
                <a:lnTo>
                  <a:pt x="1216" y="496"/>
                </a:lnTo>
                <a:lnTo>
                  <a:pt x="1191" y="503"/>
                </a:lnTo>
                <a:lnTo>
                  <a:pt x="1165" y="509"/>
                </a:lnTo>
                <a:lnTo>
                  <a:pt x="1139" y="515"/>
                </a:lnTo>
                <a:lnTo>
                  <a:pt x="1106" y="521"/>
                </a:lnTo>
                <a:lnTo>
                  <a:pt x="1081" y="527"/>
                </a:lnTo>
                <a:lnTo>
                  <a:pt x="1055" y="527"/>
                </a:lnTo>
                <a:lnTo>
                  <a:pt x="1022" y="534"/>
                </a:lnTo>
                <a:lnTo>
                  <a:pt x="996" y="540"/>
                </a:lnTo>
                <a:lnTo>
                  <a:pt x="971" y="540"/>
                </a:lnTo>
                <a:lnTo>
                  <a:pt x="938" y="546"/>
                </a:lnTo>
                <a:lnTo>
                  <a:pt x="906" y="552"/>
                </a:lnTo>
                <a:lnTo>
                  <a:pt x="880" y="552"/>
                </a:lnTo>
                <a:lnTo>
                  <a:pt x="848" y="558"/>
                </a:lnTo>
                <a:lnTo>
                  <a:pt x="815" y="558"/>
                </a:lnTo>
                <a:lnTo>
                  <a:pt x="789" y="565"/>
                </a:lnTo>
                <a:lnTo>
                  <a:pt x="757" y="571"/>
                </a:lnTo>
                <a:lnTo>
                  <a:pt x="725" y="571"/>
                </a:lnTo>
                <a:lnTo>
                  <a:pt x="692" y="577"/>
                </a:lnTo>
                <a:lnTo>
                  <a:pt x="660" y="577"/>
                </a:lnTo>
                <a:lnTo>
                  <a:pt x="0" y="124"/>
                </a:lnTo>
                <a:lnTo>
                  <a:pt x="187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2362320"/>
            <a:ext cx="5359680" cy="1525320"/>
          </a:xfrm>
          <a:custGeom>
            <a:avLst/>
            <a:gdLst/>
            <a:ahLst/>
            <a:rect l="l" t="t" r="r" b="b"/>
            <a:pathLst>
              <a:path w="3798" h="961">
                <a:moveTo>
                  <a:pt x="2588" y="930"/>
                </a:moveTo>
                <a:lnTo>
                  <a:pt x="2556" y="936"/>
                </a:lnTo>
                <a:lnTo>
                  <a:pt x="2524" y="936"/>
                </a:lnTo>
                <a:lnTo>
                  <a:pt x="2498" y="936"/>
                </a:lnTo>
                <a:lnTo>
                  <a:pt x="2465" y="943"/>
                </a:lnTo>
                <a:lnTo>
                  <a:pt x="2433" y="943"/>
                </a:lnTo>
                <a:lnTo>
                  <a:pt x="2394" y="943"/>
                </a:lnTo>
                <a:lnTo>
                  <a:pt x="2362" y="949"/>
                </a:lnTo>
                <a:lnTo>
                  <a:pt x="2330" y="949"/>
                </a:lnTo>
                <a:lnTo>
                  <a:pt x="2297" y="949"/>
                </a:lnTo>
                <a:lnTo>
                  <a:pt x="2265" y="955"/>
                </a:lnTo>
                <a:lnTo>
                  <a:pt x="2232" y="955"/>
                </a:lnTo>
                <a:lnTo>
                  <a:pt x="2200" y="955"/>
                </a:lnTo>
                <a:lnTo>
                  <a:pt x="2168" y="955"/>
                </a:lnTo>
                <a:lnTo>
                  <a:pt x="2129" y="955"/>
                </a:lnTo>
                <a:lnTo>
                  <a:pt x="2097" y="955"/>
                </a:lnTo>
                <a:lnTo>
                  <a:pt x="2064" y="961"/>
                </a:lnTo>
                <a:lnTo>
                  <a:pt x="2032" y="961"/>
                </a:lnTo>
                <a:lnTo>
                  <a:pt x="2000" y="961"/>
                </a:lnTo>
                <a:lnTo>
                  <a:pt x="1961" y="961"/>
                </a:lnTo>
                <a:lnTo>
                  <a:pt x="1928" y="961"/>
                </a:lnTo>
                <a:lnTo>
                  <a:pt x="1896" y="961"/>
                </a:lnTo>
                <a:lnTo>
                  <a:pt x="1864" y="961"/>
                </a:lnTo>
                <a:lnTo>
                  <a:pt x="1831" y="961"/>
                </a:lnTo>
                <a:lnTo>
                  <a:pt x="1793" y="961"/>
                </a:lnTo>
                <a:lnTo>
                  <a:pt x="1760" y="955"/>
                </a:lnTo>
                <a:lnTo>
                  <a:pt x="1728" y="955"/>
                </a:lnTo>
                <a:lnTo>
                  <a:pt x="1695" y="955"/>
                </a:lnTo>
                <a:lnTo>
                  <a:pt x="1663" y="955"/>
                </a:lnTo>
                <a:lnTo>
                  <a:pt x="1631" y="955"/>
                </a:lnTo>
                <a:lnTo>
                  <a:pt x="1592" y="955"/>
                </a:lnTo>
                <a:lnTo>
                  <a:pt x="1560" y="949"/>
                </a:lnTo>
                <a:lnTo>
                  <a:pt x="1527" y="949"/>
                </a:lnTo>
                <a:lnTo>
                  <a:pt x="1495" y="949"/>
                </a:lnTo>
                <a:lnTo>
                  <a:pt x="1463" y="943"/>
                </a:lnTo>
                <a:lnTo>
                  <a:pt x="1430" y="943"/>
                </a:lnTo>
                <a:lnTo>
                  <a:pt x="1398" y="943"/>
                </a:lnTo>
                <a:lnTo>
                  <a:pt x="1366" y="936"/>
                </a:lnTo>
                <a:lnTo>
                  <a:pt x="1333" y="936"/>
                </a:lnTo>
                <a:lnTo>
                  <a:pt x="1301" y="936"/>
                </a:lnTo>
                <a:lnTo>
                  <a:pt x="1268" y="930"/>
                </a:lnTo>
                <a:lnTo>
                  <a:pt x="1236" y="930"/>
                </a:lnTo>
                <a:lnTo>
                  <a:pt x="1204" y="924"/>
                </a:lnTo>
                <a:lnTo>
                  <a:pt x="1178" y="924"/>
                </a:lnTo>
                <a:lnTo>
                  <a:pt x="1146" y="918"/>
                </a:lnTo>
                <a:lnTo>
                  <a:pt x="1113" y="912"/>
                </a:lnTo>
                <a:lnTo>
                  <a:pt x="1081" y="912"/>
                </a:lnTo>
                <a:lnTo>
                  <a:pt x="1055" y="905"/>
                </a:lnTo>
                <a:lnTo>
                  <a:pt x="1023" y="905"/>
                </a:lnTo>
                <a:lnTo>
                  <a:pt x="997" y="899"/>
                </a:lnTo>
                <a:lnTo>
                  <a:pt x="964" y="893"/>
                </a:lnTo>
                <a:lnTo>
                  <a:pt x="938" y="893"/>
                </a:lnTo>
                <a:lnTo>
                  <a:pt x="906" y="887"/>
                </a:lnTo>
                <a:lnTo>
                  <a:pt x="880" y="881"/>
                </a:lnTo>
                <a:lnTo>
                  <a:pt x="848" y="881"/>
                </a:lnTo>
                <a:lnTo>
                  <a:pt x="822" y="874"/>
                </a:lnTo>
                <a:lnTo>
                  <a:pt x="796" y="868"/>
                </a:lnTo>
                <a:lnTo>
                  <a:pt x="770" y="862"/>
                </a:lnTo>
                <a:lnTo>
                  <a:pt x="738" y="856"/>
                </a:lnTo>
                <a:lnTo>
                  <a:pt x="712" y="850"/>
                </a:lnTo>
                <a:lnTo>
                  <a:pt x="686" y="850"/>
                </a:lnTo>
                <a:lnTo>
                  <a:pt x="660" y="843"/>
                </a:lnTo>
                <a:lnTo>
                  <a:pt x="641" y="837"/>
                </a:lnTo>
                <a:lnTo>
                  <a:pt x="615" y="831"/>
                </a:lnTo>
                <a:lnTo>
                  <a:pt x="589" y="825"/>
                </a:lnTo>
                <a:lnTo>
                  <a:pt x="563" y="819"/>
                </a:lnTo>
                <a:lnTo>
                  <a:pt x="544" y="812"/>
                </a:lnTo>
                <a:lnTo>
                  <a:pt x="518" y="806"/>
                </a:lnTo>
                <a:lnTo>
                  <a:pt x="492" y="800"/>
                </a:lnTo>
                <a:lnTo>
                  <a:pt x="473" y="794"/>
                </a:lnTo>
                <a:lnTo>
                  <a:pt x="453" y="788"/>
                </a:lnTo>
                <a:lnTo>
                  <a:pt x="427" y="781"/>
                </a:lnTo>
                <a:lnTo>
                  <a:pt x="408" y="775"/>
                </a:lnTo>
                <a:lnTo>
                  <a:pt x="389" y="769"/>
                </a:lnTo>
                <a:lnTo>
                  <a:pt x="369" y="763"/>
                </a:lnTo>
                <a:lnTo>
                  <a:pt x="350" y="757"/>
                </a:lnTo>
                <a:lnTo>
                  <a:pt x="330" y="750"/>
                </a:lnTo>
                <a:lnTo>
                  <a:pt x="311" y="738"/>
                </a:lnTo>
                <a:lnTo>
                  <a:pt x="291" y="732"/>
                </a:lnTo>
                <a:lnTo>
                  <a:pt x="272" y="726"/>
                </a:lnTo>
                <a:lnTo>
                  <a:pt x="259" y="719"/>
                </a:lnTo>
                <a:lnTo>
                  <a:pt x="240" y="713"/>
                </a:lnTo>
                <a:lnTo>
                  <a:pt x="227" y="707"/>
                </a:lnTo>
                <a:lnTo>
                  <a:pt x="207" y="695"/>
                </a:lnTo>
                <a:lnTo>
                  <a:pt x="194" y="688"/>
                </a:lnTo>
                <a:lnTo>
                  <a:pt x="181" y="682"/>
                </a:lnTo>
                <a:lnTo>
                  <a:pt x="169" y="676"/>
                </a:lnTo>
                <a:lnTo>
                  <a:pt x="149" y="670"/>
                </a:lnTo>
                <a:lnTo>
                  <a:pt x="136" y="657"/>
                </a:lnTo>
                <a:lnTo>
                  <a:pt x="130" y="651"/>
                </a:lnTo>
                <a:lnTo>
                  <a:pt x="117" y="645"/>
                </a:lnTo>
                <a:lnTo>
                  <a:pt x="104" y="633"/>
                </a:lnTo>
                <a:lnTo>
                  <a:pt x="91" y="626"/>
                </a:lnTo>
                <a:lnTo>
                  <a:pt x="84" y="620"/>
                </a:lnTo>
                <a:lnTo>
                  <a:pt x="71" y="614"/>
                </a:lnTo>
                <a:lnTo>
                  <a:pt x="65" y="602"/>
                </a:lnTo>
                <a:lnTo>
                  <a:pt x="59" y="595"/>
                </a:lnTo>
                <a:lnTo>
                  <a:pt x="46" y="589"/>
                </a:lnTo>
                <a:lnTo>
                  <a:pt x="39" y="577"/>
                </a:lnTo>
                <a:lnTo>
                  <a:pt x="33" y="571"/>
                </a:lnTo>
                <a:lnTo>
                  <a:pt x="26" y="564"/>
                </a:lnTo>
                <a:lnTo>
                  <a:pt x="20" y="552"/>
                </a:lnTo>
                <a:lnTo>
                  <a:pt x="20" y="546"/>
                </a:lnTo>
                <a:lnTo>
                  <a:pt x="13" y="540"/>
                </a:lnTo>
                <a:lnTo>
                  <a:pt x="7" y="527"/>
                </a:lnTo>
                <a:lnTo>
                  <a:pt x="7" y="521"/>
                </a:lnTo>
                <a:lnTo>
                  <a:pt x="0" y="515"/>
                </a:lnTo>
                <a:lnTo>
                  <a:pt x="0" y="502"/>
                </a:lnTo>
                <a:lnTo>
                  <a:pt x="0" y="496"/>
                </a:lnTo>
                <a:lnTo>
                  <a:pt x="0" y="490"/>
                </a:lnTo>
                <a:lnTo>
                  <a:pt x="0" y="478"/>
                </a:lnTo>
                <a:lnTo>
                  <a:pt x="0" y="471"/>
                </a:lnTo>
                <a:lnTo>
                  <a:pt x="0" y="465"/>
                </a:lnTo>
                <a:lnTo>
                  <a:pt x="0" y="453"/>
                </a:lnTo>
                <a:lnTo>
                  <a:pt x="0" y="447"/>
                </a:lnTo>
                <a:lnTo>
                  <a:pt x="7" y="434"/>
                </a:lnTo>
                <a:lnTo>
                  <a:pt x="7" y="428"/>
                </a:lnTo>
                <a:lnTo>
                  <a:pt x="13" y="422"/>
                </a:lnTo>
                <a:lnTo>
                  <a:pt x="20" y="409"/>
                </a:lnTo>
                <a:lnTo>
                  <a:pt x="20" y="403"/>
                </a:lnTo>
                <a:lnTo>
                  <a:pt x="26" y="397"/>
                </a:lnTo>
                <a:lnTo>
                  <a:pt x="33" y="385"/>
                </a:lnTo>
                <a:lnTo>
                  <a:pt x="39" y="378"/>
                </a:lnTo>
                <a:lnTo>
                  <a:pt x="46" y="372"/>
                </a:lnTo>
                <a:lnTo>
                  <a:pt x="59" y="366"/>
                </a:lnTo>
                <a:lnTo>
                  <a:pt x="65" y="354"/>
                </a:lnTo>
                <a:lnTo>
                  <a:pt x="71" y="347"/>
                </a:lnTo>
                <a:lnTo>
                  <a:pt x="84" y="341"/>
                </a:lnTo>
                <a:lnTo>
                  <a:pt x="91" y="329"/>
                </a:lnTo>
                <a:lnTo>
                  <a:pt x="104" y="323"/>
                </a:lnTo>
                <a:lnTo>
                  <a:pt x="117" y="316"/>
                </a:lnTo>
                <a:lnTo>
                  <a:pt x="130" y="304"/>
                </a:lnTo>
                <a:lnTo>
                  <a:pt x="136" y="298"/>
                </a:lnTo>
                <a:lnTo>
                  <a:pt x="149" y="292"/>
                </a:lnTo>
                <a:lnTo>
                  <a:pt x="169" y="285"/>
                </a:lnTo>
                <a:lnTo>
                  <a:pt x="181" y="273"/>
                </a:lnTo>
                <a:lnTo>
                  <a:pt x="194" y="267"/>
                </a:lnTo>
                <a:lnTo>
                  <a:pt x="207" y="261"/>
                </a:lnTo>
                <a:lnTo>
                  <a:pt x="227" y="254"/>
                </a:lnTo>
                <a:lnTo>
                  <a:pt x="227" y="254"/>
                </a:lnTo>
                <a:lnTo>
                  <a:pt x="240" y="248"/>
                </a:lnTo>
                <a:lnTo>
                  <a:pt x="259" y="236"/>
                </a:lnTo>
                <a:lnTo>
                  <a:pt x="272" y="230"/>
                </a:lnTo>
                <a:lnTo>
                  <a:pt x="291" y="223"/>
                </a:lnTo>
                <a:lnTo>
                  <a:pt x="311" y="217"/>
                </a:lnTo>
                <a:lnTo>
                  <a:pt x="330" y="211"/>
                </a:lnTo>
                <a:lnTo>
                  <a:pt x="350" y="205"/>
                </a:lnTo>
                <a:lnTo>
                  <a:pt x="369" y="199"/>
                </a:lnTo>
                <a:lnTo>
                  <a:pt x="389" y="192"/>
                </a:lnTo>
                <a:lnTo>
                  <a:pt x="408" y="186"/>
                </a:lnTo>
                <a:lnTo>
                  <a:pt x="427" y="174"/>
                </a:lnTo>
                <a:lnTo>
                  <a:pt x="453" y="168"/>
                </a:lnTo>
                <a:lnTo>
                  <a:pt x="473" y="161"/>
                </a:lnTo>
                <a:lnTo>
                  <a:pt x="492" y="155"/>
                </a:lnTo>
                <a:lnTo>
                  <a:pt x="518" y="149"/>
                </a:lnTo>
                <a:lnTo>
                  <a:pt x="544" y="143"/>
                </a:lnTo>
                <a:lnTo>
                  <a:pt x="563" y="137"/>
                </a:lnTo>
                <a:lnTo>
                  <a:pt x="589" y="137"/>
                </a:lnTo>
                <a:lnTo>
                  <a:pt x="615" y="130"/>
                </a:lnTo>
                <a:lnTo>
                  <a:pt x="641" y="124"/>
                </a:lnTo>
                <a:lnTo>
                  <a:pt x="660" y="118"/>
                </a:lnTo>
                <a:lnTo>
                  <a:pt x="686" y="112"/>
                </a:lnTo>
                <a:lnTo>
                  <a:pt x="712" y="106"/>
                </a:lnTo>
                <a:lnTo>
                  <a:pt x="738" y="99"/>
                </a:lnTo>
                <a:lnTo>
                  <a:pt x="770" y="93"/>
                </a:lnTo>
                <a:lnTo>
                  <a:pt x="796" y="93"/>
                </a:lnTo>
                <a:lnTo>
                  <a:pt x="822" y="87"/>
                </a:lnTo>
                <a:lnTo>
                  <a:pt x="848" y="81"/>
                </a:lnTo>
                <a:lnTo>
                  <a:pt x="880" y="75"/>
                </a:lnTo>
                <a:lnTo>
                  <a:pt x="906" y="75"/>
                </a:lnTo>
                <a:lnTo>
                  <a:pt x="938" y="68"/>
                </a:lnTo>
                <a:lnTo>
                  <a:pt x="964" y="62"/>
                </a:lnTo>
                <a:lnTo>
                  <a:pt x="997" y="56"/>
                </a:lnTo>
                <a:lnTo>
                  <a:pt x="1023" y="56"/>
                </a:lnTo>
                <a:lnTo>
                  <a:pt x="1055" y="50"/>
                </a:lnTo>
                <a:lnTo>
                  <a:pt x="1081" y="50"/>
                </a:lnTo>
                <a:lnTo>
                  <a:pt x="1113" y="44"/>
                </a:lnTo>
                <a:lnTo>
                  <a:pt x="1146" y="37"/>
                </a:lnTo>
                <a:lnTo>
                  <a:pt x="1178" y="37"/>
                </a:lnTo>
                <a:lnTo>
                  <a:pt x="1204" y="31"/>
                </a:lnTo>
                <a:lnTo>
                  <a:pt x="1236" y="31"/>
                </a:lnTo>
                <a:lnTo>
                  <a:pt x="1268" y="25"/>
                </a:lnTo>
                <a:lnTo>
                  <a:pt x="1301" y="25"/>
                </a:lnTo>
                <a:lnTo>
                  <a:pt x="1333" y="25"/>
                </a:lnTo>
                <a:lnTo>
                  <a:pt x="1366" y="19"/>
                </a:lnTo>
                <a:lnTo>
                  <a:pt x="1398" y="19"/>
                </a:lnTo>
                <a:lnTo>
                  <a:pt x="1430" y="13"/>
                </a:lnTo>
                <a:lnTo>
                  <a:pt x="1463" y="13"/>
                </a:lnTo>
                <a:lnTo>
                  <a:pt x="1495" y="13"/>
                </a:lnTo>
                <a:lnTo>
                  <a:pt x="1527" y="6"/>
                </a:lnTo>
                <a:lnTo>
                  <a:pt x="1560" y="6"/>
                </a:lnTo>
                <a:lnTo>
                  <a:pt x="1592" y="6"/>
                </a:lnTo>
                <a:lnTo>
                  <a:pt x="1631" y="6"/>
                </a:lnTo>
                <a:lnTo>
                  <a:pt x="1663" y="6"/>
                </a:lnTo>
                <a:lnTo>
                  <a:pt x="1695" y="0"/>
                </a:lnTo>
                <a:lnTo>
                  <a:pt x="1728" y="0"/>
                </a:lnTo>
                <a:lnTo>
                  <a:pt x="1760" y="0"/>
                </a:lnTo>
                <a:lnTo>
                  <a:pt x="1793" y="0"/>
                </a:lnTo>
                <a:lnTo>
                  <a:pt x="1831" y="0"/>
                </a:lnTo>
                <a:lnTo>
                  <a:pt x="1864" y="0"/>
                </a:lnTo>
                <a:lnTo>
                  <a:pt x="1896" y="0"/>
                </a:lnTo>
                <a:lnTo>
                  <a:pt x="1928" y="0"/>
                </a:lnTo>
                <a:lnTo>
                  <a:pt x="1961" y="0"/>
                </a:lnTo>
                <a:lnTo>
                  <a:pt x="2000" y="0"/>
                </a:lnTo>
                <a:lnTo>
                  <a:pt x="2032" y="0"/>
                </a:lnTo>
                <a:lnTo>
                  <a:pt x="2064" y="0"/>
                </a:lnTo>
                <a:lnTo>
                  <a:pt x="2097" y="0"/>
                </a:lnTo>
                <a:lnTo>
                  <a:pt x="2129" y="0"/>
                </a:lnTo>
                <a:lnTo>
                  <a:pt x="2168" y="0"/>
                </a:lnTo>
                <a:lnTo>
                  <a:pt x="2200" y="6"/>
                </a:lnTo>
                <a:lnTo>
                  <a:pt x="2232" y="6"/>
                </a:lnTo>
                <a:lnTo>
                  <a:pt x="2265" y="6"/>
                </a:lnTo>
                <a:lnTo>
                  <a:pt x="2297" y="6"/>
                </a:lnTo>
                <a:lnTo>
                  <a:pt x="2330" y="6"/>
                </a:lnTo>
                <a:lnTo>
                  <a:pt x="2362" y="13"/>
                </a:lnTo>
                <a:lnTo>
                  <a:pt x="2394" y="13"/>
                </a:lnTo>
                <a:lnTo>
                  <a:pt x="2433" y="13"/>
                </a:lnTo>
                <a:lnTo>
                  <a:pt x="2465" y="19"/>
                </a:lnTo>
                <a:lnTo>
                  <a:pt x="2498" y="19"/>
                </a:lnTo>
                <a:lnTo>
                  <a:pt x="2524" y="25"/>
                </a:lnTo>
                <a:lnTo>
                  <a:pt x="2556" y="25"/>
                </a:lnTo>
                <a:lnTo>
                  <a:pt x="2588" y="25"/>
                </a:lnTo>
                <a:lnTo>
                  <a:pt x="2621" y="31"/>
                </a:lnTo>
                <a:lnTo>
                  <a:pt x="2653" y="31"/>
                </a:lnTo>
                <a:lnTo>
                  <a:pt x="2685" y="37"/>
                </a:lnTo>
                <a:lnTo>
                  <a:pt x="2718" y="37"/>
                </a:lnTo>
                <a:lnTo>
                  <a:pt x="2744" y="44"/>
                </a:lnTo>
                <a:lnTo>
                  <a:pt x="2776" y="50"/>
                </a:lnTo>
                <a:lnTo>
                  <a:pt x="2808" y="50"/>
                </a:lnTo>
                <a:lnTo>
                  <a:pt x="2834" y="56"/>
                </a:lnTo>
                <a:lnTo>
                  <a:pt x="2867" y="56"/>
                </a:lnTo>
                <a:lnTo>
                  <a:pt x="2899" y="62"/>
                </a:lnTo>
                <a:lnTo>
                  <a:pt x="2925" y="68"/>
                </a:lnTo>
                <a:lnTo>
                  <a:pt x="2951" y="75"/>
                </a:lnTo>
                <a:lnTo>
                  <a:pt x="2983" y="75"/>
                </a:lnTo>
                <a:lnTo>
                  <a:pt x="3009" y="81"/>
                </a:lnTo>
                <a:lnTo>
                  <a:pt x="3035" y="87"/>
                </a:lnTo>
                <a:lnTo>
                  <a:pt x="3067" y="93"/>
                </a:lnTo>
                <a:lnTo>
                  <a:pt x="3093" y="93"/>
                </a:lnTo>
                <a:lnTo>
                  <a:pt x="3119" y="99"/>
                </a:lnTo>
                <a:lnTo>
                  <a:pt x="3145" y="106"/>
                </a:lnTo>
                <a:lnTo>
                  <a:pt x="3171" y="112"/>
                </a:lnTo>
                <a:lnTo>
                  <a:pt x="3197" y="118"/>
                </a:lnTo>
                <a:lnTo>
                  <a:pt x="3222" y="124"/>
                </a:lnTo>
                <a:lnTo>
                  <a:pt x="3248" y="130"/>
                </a:lnTo>
                <a:lnTo>
                  <a:pt x="3274" y="137"/>
                </a:lnTo>
                <a:lnTo>
                  <a:pt x="3294" y="137"/>
                </a:lnTo>
                <a:lnTo>
                  <a:pt x="3319" y="143"/>
                </a:lnTo>
                <a:lnTo>
                  <a:pt x="3345" y="149"/>
                </a:lnTo>
                <a:lnTo>
                  <a:pt x="3365" y="155"/>
                </a:lnTo>
                <a:lnTo>
                  <a:pt x="3391" y="161"/>
                </a:lnTo>
                <a:lnTo>
                  <a:pt x="3410" y="168"/>
                </a:lnTo>
                <a:lnTo>
                  <a:pt x="3429" y="174"/>
                </a:lnTo>
                <a:lnTo>
                  <a:pt x="3449" y="186"/>
                </a:lnTo>
                <a:lnTo>
                  <a:pt x="3475" y="192"/>
                </a:lnTo>
                <a:lnTo>
                  <a:pt x="3494" y="199"/>
                </a:lnTo>
                <a:lnTo>
                  <a:pt x="3514" y="205"/>
                </a:lnTo>
                <a:lnTo>
                  <a:pt x="3533" y="211"/>
                </a:lnTo>
                <a:lnTo>
                  <a:pt x="3552" y="217"/>
                </a:lnTo>
                <a:lnTo>
                  <a:pt x="3565" y="223"/>
                </a:lnTo>
                <a:lnTo>
                  <a:pt x="3585" y="230"/>
                </a:lnTo>
                <a:lnTo>
                  <a:pt x="3604" y="236"/>
                </a:lnTo>
                <a:lnTo>
                  <a:pt x="3617" y="248"/>
                </a:lnTo>
                <a:lnTo>
                  <a:pt x="3636" y="254"/>
                </a:lnTo>
                <a:lnTo>
                  <a:pt x="3649" y="261"/>
                </a:lnTo>
                <a:lnTo>
                  <a:pt x="3669" y="267"/>
                </a:lnTo>
                <a:lnTo>
                  <a:pt x="3682" y="273"/>
                </a:lnTo>
                <a:lnTo>
                  <a:pt x="3695" y="285"/>
                </a:lnTo>
                <a:lnTo>
                  <a:pt x="3708" y="292"/>
                </a:lnTo>
                <a:lnTo>
                  <a:pt x="3721" y="298"/>
                </a:lnTo>
                <a:lnTo>
                  <a:pt x="3734" y="304"/>
                </a:lnTo>
                <a:lnTo>
                  <a:pt x="3746" y="316"/>
                </a:lnTo>
                <a:lnTo>
                  <a:pt x="3753" y="323"/>
                </a:lnTo>
                <a:lnTo>
                  <a:pt x="3766" y="329"/>
                </a:lnTo>
                <a:lnTo>
                  <a:pt x="3779" y="341"/>
                </a:lnTo>
                <a:lnTo>
                  <a:pt x="3785" y="347"/>
                </a:lnTo>
                <a:lnTo>
                  <a:pt x="3798" y="354"/>
                </a:lnTo>
                <a:lnTo>
                  <a:pt x="1928" y="478"/>
                </a:lnTo>
                <a:lnTo>
                  <a:pt x="2588" y="93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41840" y="4871880"/>
            <a:ext cx="1766880" cy="442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3300"/>
                </a:solidFill>
                <a:latin typeface="Arial"/>
              </a:rPr>
              <a:t>Resisten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08520" y="5532480"/>
            <a:ext cx="1047600" cy="442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3300"/>
                </a:solidFill>
                <a:latin typeface="Arial"/>
              </a:rPr>
              <a:t>38.5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98080" y="2057400"/>
            <a:ext cx="1517040" cy="442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3399"/>
                </a:solidFill>
                <a:latin typeface="Arial"/>
              </a:rPr>
              <a:t>Sensibil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306440" y="2637000"/>
            <a:ext cx="1047600" cy="4420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3399"/>
                </a:solidFill>
                <a:latin typeface="Arial"/>
              </a:rPr>
              <a:t>58.5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4952880"/>
            <a:ext cx="4572000" cy="1143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Bookman Old Style"/>
              </a:rPr>
              <a:t>Erythromycin resistance in </a:t>
            </a:r>
            <a:br>
              <a:rPr sz="1800"/>
            </a:br>
            <a:r>
              <a:rPr b="1" i="1" lang="it-IT" sz="1800" spc="-1" strike="noStrike">
                <a:solidFill>
                  <a:srgbClr val="003399"/>
                </a:solidFill>
                <a:latin typeface="Bookman Old Style"/>
              </a:rPr>
              <a:t>Streptococcus pyogenes</a:t>
            </a:r>
            <a:r>
              <a:rPr b="1" lang="it-IT" sz="1800" spc="-1" strike="noStrike">
                <a:solidFill>
                  <a:srgbClr val="003399"/>
                </a:solidFill>
                <a:latin typeface="Bookman Old Style"/>
              </a:rPr>
              <a:t> in Italy </a:t>
            </a:r>
            <a:br>
              <a:rPr sz="1800"/>
            </a:br>
            <a:r>
              <a:rPr b="1" i="1" lang="it-IT" sz="1600" spc="-1" strike="noStrike">
                <a:solidFill>
                  <a:srgbClr val="003399"/>
                </a:solidFill>
                <a:latin typeface="Bookman Old Style"/>
              </a:rPr>
              <a:t>Emerg Infect Dis 6:180-183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ONSILLITE" descr=""/>
          <p:cNvPicPr/>
          <p:nvPr/>
        </p:nvPicPr>
        <p:blipFill>
          <a:blip r:embed="rId1"/>
          <a:stretch/>
        </p:blipFill>
        <p:spPr>
          <a:xfrm>
            <a:off x="2514600" y="1531800"/>
            <a:ext cx="5181480" cy="45468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77880" y="685440"/>
            <a:ext cx="778824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RESISTENZE BATTERICH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294920" y="5555880"/>
            <a:ext cx="2837160" cy="6858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NATUR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batteri-antibiotici." descr=""/>
          <p:cNvPicPr/>
          <p:nvPr/>
        </p:nvPicPr>
        <p:blipFill>
          <a:blip r:embed="rId1"/>
          <a:stretch/>
        </p:blipFill>
        <p:spPr>
          <a:xfrm>
            <a:off x="2641680" y="2039760"/>
            <a:ext cx="3792600" cy="2379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05" name=""/>
          <p:cNvSpPr/>
          <p:nvPr/>
        </p:nvSpPr>
        <p:spPr>
          <a:xfrm>
            <a:off x="5202360" y="5638680"/>
            <a:ext cx="2874960" cy="5205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QUI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210800">
            <a:off x="3928680" y="4680000"/>
            <a:ext cx="541440" cy="762120"/>
          </a:xfrm>
          <a:prstGeom prst="downArrow">
            <a:avLst>
              <a:gd name="adj1" fmla="val 50000"/>
              <a:gd name="adj2" fmla="val 351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640000">
            <a:off x="4808520" y="4680000"/>
            <a:ext cx="542880" cy="762120"/>
          </a:xfrm>
          <a:prstGeom prst="downArrow">
            <a:avLst>
              <a:gd name="adj1" fmla="val 50000"/>
              <a:gd name="adj2" fmla="val 35096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1080" y="685800"/>
            <a:ext cx="8263080" cy="14479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MECCANISMI DI RESISTENZA ACQUISIT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7993080" cy="39621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ODIFICAZIONE DEL BERSAG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2) IMPERMEABILIZZAZIONE DEG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NVOLUCRI ESTER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3) INATTIVAZIONE ENZI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4) SISTEMA DI EFFLUSSO AT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INTERNALIZZAZIO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083960" y="1676160"/>
            <a:ext cx="7111800" cy="28191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UN’ALTA PERCENTUALE DI MANCATA ERADICAZIONE DI </a:t>
            </a: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S.PYOGE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E’ DOVUTA ALLA PRESENZA DEL GENE prt F</a:t>
            </a:r>
            <a:r>
              <a:rPr b="1" lang="it-IT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730080" y="6213600"/>
            <a:ext cx="165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91640" y="6019920"/>
            <a:ext cx="3248640" cy="2602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. NEEMAN, THE LANCET, 352,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790040" cy="1143000"/>
          </a:xfrm>
          <a:prstGeom prst="rect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57"/>
                </a:solidFill>
                <a:latin typeface="Arial"/>
              </a:rPr>
              <a:t>INTERNALIZZAZIONE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7993080" cy="3047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 CEPPI DI </a:t>
            </a:r>
            <a:r>
              <a:rPr b="1" i="1" lang="it-IT" sz="3200" spc="-1" strike="noStrike">
                <a:solidFill>
                  <a:srgbClr val="ffffff"/>
                </a:solidFill>
                <a:latin typeface="Arial"/>
              </a:rPr>
              <a:t>S.PYOGEN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CHE HANNO IL GENE  prt F</a:t>
            </a:r>
            <a:r>
              <a:rPr b="1" lang="it-IT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PRODUCONO UNA PROTEINA CHE CONSENTE LORO DI PENETRARE DENTRO LE CELLULE EPITELIAL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817200" y="6172200"/>
            <a:ext cx="3248640" cy="2602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. NEEMAN, THE LANCET, 352,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402080" y="762120"/>
            <a:ext cx="2778120" cy="2438280"/>
          </a:xfrm>
          <a:custGeom>
            <a:avLst/>
            <a:gdLst/>
            <a:ahLst/>
            <a:rect l="l" t="t" r="r" b="b"/>
            <a:pathLst>
              <a:path w="1638" h="1611">
                <a:moveTo>
                  <a:pt x="295" y="529"/>
                </a:moveTo>
                <a:cubicBezTo>
                  <a:pt x="230" y="643"/>
                  <a:pt x="90" y="741"/>
                  <a:pt x="57" y="860"/>
                </a:cubicBezTo>
                <a:cubicBezTo>
                  <a:pt x="24" y="979"/>
                  <a:pt x="0" y="1124"/>
                  <a:pt x="95" y="1244"/>
                </a:cubicBezTo>
                <a:cubicBezTo>
                  <a:pt x="190" y="1364"/>
                  <a:pt x="447" y="1555"/>
                  <a:pt x="626" y="1583"/>
                </a:cubicBezTo>
                <a:cubicBezTo>
                  <a:pt x="805" y="1611"/>
                  <a:pt x="998" y="1548"/>
                  <a:pt x="1167" y="1414"/>
                </a:cubicBezTo>
                <a:cubicBezTo>
                  <a:pt x="1336" y="1280"/>
                  <a:pt x="1638" y="999"/>
                  <a:pt x="1638" y="780"/>
                </a:cubicBezTo>
                <a:cubicBezTo>
                  <a:pt x="1638" y="561"/>
                  <a:pt x="1366" y="202"/>
                  <a:pt x="1167" y="101"/>
                </a:cubicBezTo>
                <a:cubicBezTo>
                  <a:pt x="968" y="0"/>
                  <a:pt x="590" y="104"/>
                  <a:pt x="445" y="175"/>
                </a:cubicBezTo>
                <a:cubicBezTo>
                  <a:pt x="300" y="246"/>
                  <a:pt x="360" y="415"/>
                  <a:pt x="295" y="529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28800" y="380880"/>
            <a:ext cx="2330280" cy="2557440"/>
          </a:xfrm>
          <a:custGeom>
            <a:avLst/>
            <a:gdLst/>
            <a:ahLst/>
            <a:rect l="l" t="t" r="r" b="b"/>
            <a:pathLst>
              <a:path w="1651" h="1611">
                <a:moveTo>
                  <a:pt x="120" y="484"/>
                </a:moveTo>
                <a:cubicBezTo>
                  <a:pt x="70" y="643"/>
                  <a:pt x="6" y="944"/>
                  <a:pt x="3" y="1088"/>
                </a:cubicBezTo>
                <a:cubicBezTo>
                  <a:pt x="0" y="1232"/>
                  <a:pt x="8" y="1261"/>
                  <a:pt x="99" y="1347"/>
                </a:cubicBezTo>
                <a:cubicBezTo>
                  <a:pt x="190" y="1433"/>
                  <a:pt x="370" y="1591"/>
                  <a:pt x="546" y="1601"/>
                </a:cubicBezTo>
                <a:cubicBezTo>
                  <a:pt x="722" y="1611"/>
                  <a:pt x="977" y="1543"/>
                  <a:pt x="1158" y="1405"/>
                </a:cubicBezTo>
                <a:cubicBezTo>
                  <a:pt x="1339" y="1267"/>
                  <a:pt x="1651" y="948"/>
                  <a:pt x="1629" y="771"/>
                </a:cubicBezTo>
                <a:cubicBezTo>
                  <a:pt x="1607" y="594"/>
                  <a:pt x="1222" y="465"/>
                  <a:pt x="1023" y="340"/>
                </a:cubicBezTo>
                <a:cubicBezTo>
                  <a:pt x="824" y="215"/>
                  <a:pt x="588" y="0"/>
                  <a:pt x="438" y="24"/>
                </a:cubicBezTo>
                <a:cubicBezTo>
                  <a:pt x="288" y="48"/>
                  <a:pt x="186" y="388"/>
                  <a:pt x="120" y="484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027840" y="3371760"/>
            <a:ext cx="2574720" cy="2343240"/>
          </a:xfrm>
          <a:custGeom>
            <a:avLst/>
            <a:gdLst/>
            <a:ahLst/>
            <a:rect l="l" t="t" r="r" b="b"/>
            <a:pathLst>
              <a:path w="1640" h="1476">
                <a:moveTo>
                  <a:pt x="182" y="356"/>
                </a:moveTo>
                <a:cubicBezTo>
                  <a:pt x="100" y="472"/>
                  <a:pt x="0" y="890"/>
                  <a:pt x="14" y="1059"/>
                </a:cubicBezTo>
                <a:cubicBezTo>
                  <a:pt x="28" y="1228"/>
                  <a:pt x="169" y="1324"/>
                  <a:pt x="267" y="1371"/>
                </a:cubicBezTo>
                <a:cubicBezTo>
                  <a:pt x="365" y="1418"/>
                  <a:pt x="455" y="1340"/>
                  <a:pt x="605" y="1341"/>
                </a:cubicBezTo>
                <a:cubicBezTo>
                  <a:pt x="755" y="1342"/>
                  <a:pt x="997" y="1476"/>
                  <a:pt x="1169" y="1376"/>
                </a:cubicBezTo>
                <a:cubicBezTo>
                  <a:pt x="1341" y="1276"/>
                  <a:pt x="1640" y="961"/>
                  <a:pt x="1640" y="742"/>
                </a:cubicBezTo>
                <a:cubicBezTo>
                  <a:pt x="1640" y="523"/>
                  <a:pt x="1358" y="126"/>
                  <a:pt x="1169" y="63"/>
                </a:cubicBezTo>
                <a:cubicBezTo>
                  <a:pt x="980" y="0"/>
                  <a:pt x="669" y="315"/>
                  <a:pt x="505" y="364"/>
                </a:cubicBezTo>
                <a:cubicBezTo>
                  <a:pt x="341" y="413"/>
                  <a:pt x="264" y="240"/>
                  <a:pt x="182" y="356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41680" y="3505320"/>
            <a:ext cx="2725560" cy="3047760"/>
          </a:xfrm>
          <a:custGeom>
            <a:avLst/>
            <a:gdLst/>
            <a:ahLst/>
            <a:rect l="l" t="t" r="r" b="b"/>
            <a:pathLst>
              <a:path w="1788" h="1625">
                <a:moveTo>
                  <a:pt x="149" y="593"/>
                </a:moveTo>
                <a:cubicBezTo>
                  <a:pt x="99" y="752"/>
                  <a:pt x="0" y="1033"/>
                  <a:pt x="32" y="1197"/>
                </a:cubicBezTo>
                <a:cubicBezTo>
                  <a:pt x="64" y="1361"/>
                  <a:pt x="245" y="1531"/>
                  <a:pt x="343" y="1578"/>
                </a:cubicBezTo>
                <a:cubicBezTo>
                  <a:pt x="441" y="1625"/>
                  <a:pt x="482" y="1490"/>
                  <a:pt x="623" y="1479"/>
                </a:cubicBezTo>
                <a:cubicBezTo>
                  <a:pt x="764" y="1468"/>
                  <a:pt x="994" y="1618"/>
                  <a:pt x="1187" y="1514"/>
                </a:cubicBezTo>
                <a:cubicBezTo>
                  <a:pt x="1380" y="1410"/>
                  <a:pt x="1774" y="1040"/>
                  <a:pt x="1781" y="855"/>
                </a:cubicBezTo>
                <a:cubicBezTo>
                  <a:pt x="1788" y="670"/>
                  <a:pt x="1419" y="539"/>
                  <a:pt x="1228" y="402"/>
                </a:cubicBezTo>
                <a:cubicBezTo>
                  <a:pt x="1037" y="265"/>
                  <a:pt x="815" y="0"/>
                  <a:pt x="635" y="32"/>
                </a:cubicBezTo>
                <a:cubicBezTo>
                  <a:pt x="455" y="64"/>
                  <a:pt x="250" y="476"/>
                  <a:pt x="149" y="593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35240" y="914400"/>
            <a:ext cx="677880" cy="83808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29040" y="4495680"/>
            <a:ext cx="67644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13440" y="1066680"/>
            <a:ext cx="67788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83600" y="4495680"/>
            <a:ext cx="67608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765520" y="4812840"/>
            <a:ext cx="1042920" cy="538200"/>
            <a:chOff x="2765520" y="4812840"/>
            <a:chExt cx="1042920" cy="538200"/>
          </a:xfrm>
        </p:grpSpPr>
        <p:sp>
          <p:nvSpPr>
            <p:cNvPr id="525" name=""/>
            <p:cNvSpPr/>
            <p:nvPr/>
          </p:nvSpPr>
          <p:spPr>
            <a:xfrm rot="16200000">
              <a:off x="2761560" y="513396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6200000">
              <a:off x="2923560" y="504504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6200000">
              <a:off x="3099600" y="5133240"/>
              <a:ext cx="220680" cy="2113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6200000">
              <a:off x="3320640" y="5121360"/>
              <a:ext cx="220680" cy="21276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6200000">
              <a:off x="2849760" y="521964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200000">
              <a:off x="3012120" y="508608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3187800" y="5218560"/>
              <a:ext cx="44640" cy="4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3410280" y="520668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3456000" y="496872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3545640" y="505440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3591360" y="481644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3681000" y="4901760"/>
              <a:ext cx="42840" cy="4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933480" y="228240"/>
            <a:ext cx="1041120" cy="538200"/>
            <a:chOff x="933480" y="228240"/>
            <a:chExt cx="1041120" cy="538200"/>
          </a:xfrm>
        </p:grpSpPr>
        <p:sp>
          <p:nvSpPr>
            <p:cNvPr id="538" name=""/>
            <p:cNvSpPr/>
            <p:nvPr/>
          </p:nvSpPr>
          <p:spPr>
            <a:xfrm rot="16200000">
              <a:off x="929520" y="54972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6200000">
              <a:off x="1091520" y="46080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1266840" y="548640"/>
              <a:ext cx="220680" cy="210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6200000">
              <a:off x="1487160" y="536760"/>
              <a:ext cx="220680" cy="2124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1017720" y="63504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1179720" y="50148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6200000">
              <a:off x="1355040" y="633960"/>
              <a:ext cx="44640" cy="4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1577160" y="62208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1622880" y="38448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1712520" y="46980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6200000">
              <a:off x="1757880" y="23220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6200000">
              <a:off x="1847520" y="317160"/>
              <a:ext cx="42840" cy="4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131200" y="1893240"/>
            <a:ext cx="388800" cy="563040"/>
            <a:chOff x="2131200" y="1893240"/>
            <a:chExt cx="388800" cy="563040"/>
          </a:xfrm>
        </p:grpSpPr>
        <p:sp>
          <p:nvSpPr>
            <p:cNvPr id="551" name=""/>
            <p:cNvSpPr/>
            <p:nvPr/>
          </p:nvSpPr>
          <p:spPr>
            <a:xfrm rot="20400000">
              <a:off x="2212560" y="1915920"/>
              <a:ext cx="225360" cy="517320"/>
            </a:xfrm>
            <a:custGeom>
              <a:avLst/>
              <a:gdLst/>
              <a:ahLst/>
              <a:rect l="l" t="t" r="r" b="b"/>
              <a:pathLst>
                <a:path w="194" h="410">
                  <a:moveTo>
                    <a:pt x="172" y="20"/>
                  </a:moveTo>
                  <a:cubicBezTo>
                    <a:pt x="154" y="0"/>
                    <a:pt x="66" y="4"/>
                    <a:pt x="40" y="61"/>
                  </a:cubicBezTo>
                  <a:cubicBezTo>
                    <a:pt x="14" y="118"/>
                    <a:pt x="0" y="310"/>
                    <a:pt x="16" y="360"/>
                  </a:cubicBezTo>
                  <a:cubicBezTo>
                    <a:pt x="32" y="410"/>
                    <a:pt x="118" y="390"/>
                    <a:pt x="139" y="360"/>
                  </a:cubicBezTo>
                  <a:cubicBezTo>
                    <a:pt x="160" y="330"/>
                    <a:pt x="137" y="234"/>
                    <a:pt x="142" y="177"/>
                  </a:cubicBezTo>
                  <a:cubicBezTo>
                    <a:pt x="147" y="120"/>
                    <a:pt x="194" y="43"/>
                    <a:pt x="172" y="20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400000">
              <a:off x="2282400" y="2013480"/>
              <a:ext cx="52200" cy="263520"/>
            </a:xfrm>
            <a:custGeom>
              <a:avLst/>
              <a:gdLst/>
              <a:ahLst/>
              <a:rect l="l" t="t" r="r" b="b"/>
              <a:pathLst>
                <a:path w="45" h="209">
                  <a:moveTo>
                    <a:pt x="40" y="16"/>
                  </a:moveTo>
                  <a:cubicBezTo>
                    <a:pt x="8" y="75"/>
                    <a:pt x="45" y="0"/>
                    <a:pt x="29" y="59"/>
                  </a:cubicBezTo>
                  <a:cubicBezTo>
                    <a:pt x="27" y="67"/>
                    <a:pt x="22" y="73"/>
                    <a:pt x="17" y="80"/>
                  </a:cubicBezTo>
                  <a:cubicBezTo>
                    <a:pt x="14" y="88"/>
                    <a:pt x="9" y="94"/>
                    <a:pt x="7" y="102"/>
                  </a:cubicBezTo>
                  <a:cubicBezTo>
                    <a:pt x="3" y="118"/>
                    <a:pt x="4" y="135"/>
                    <a:pt x="0" y="151"/>
                  </a:cubicBezTo>
                  <a:cubicBezTo>
                    <a:pt x="21" y="166"/>
                    <a:pt x="6" y="197"/>
                    <a:pt x="7" y="209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088160" y="5825880"/>
            <a:ext cx="13924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ff33"/>
                </a:solidFill>
                <a:latin typeface="Bookman Old Style"/>
              </a:rPr>
              <a:t>MACR</a:t>
            </a:r>
            <a:r>
              <a:rPr b="1" lang="it-IT" sz="1600" spc="-1" strike="noStrike">
                <a:solidFill>
                  <a:srgbClr val="000066"/>
                </a:solidFill>
                <a:latin typeface="Bookman Old Style"/>
              </a:rPr>
              <a:t>O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23080" y="3082680"/>
            <a:ext cx="18770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man Old Style"/>
              </a:rPr>
              <a:t>BETALATTA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960" y="620640"/>
            <a:ext cx="1677240" cy="1345680"/>
            <a:chOff x="183960" y="620640"/>
            <a:chExt cx="1677240" cy="1345680"/>
          </a:xfrm>
        </p:grpSpPr>
        <p:sp>
          <p:nvSpPr>
            <p:cNvPr id="556" name=""/>
            <p:cNvSpPr/>
            <p:nvPr/>
          </p:nvSpPr>
          <p:spPr>
            <a:xfrm>
              <a:off x="183960" y="1446120"/>
              <a:ext cx="1467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66"/>
                  </a:solidFill>
                  <a:latin typeface="Arial"/>
                </a:rPr>
                <a:t>Streptococc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66"/>
                  </a:solidFill>
                  <a:latin typeface="Arial"/>
                </a:rPr>
                <a:t>pyoge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8480000">
              <a:off x="1018080" y="990000"/>
              <a:ext cx="990360" cy="108360"/>
            </a:xfrm>
            <a:prstGeom prst="rightArrow">
              <a:avLst>
                <a:gd name="adj1" fmla="val 50000"/>
                <a:gd name="adj2" fmla="val 228488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46040" y="2462040"/>
            <a:ext cx="999360" cy="906120"/>
            <a:chOff x="1346040" y="2462040"/>
            <a:chExt cx="999360" cy="906120"/>
          </a:xfrm>
        </p:grpSpPr>
        <p:sp>
          <p:nvSpPr>
            <p:cNvPr id="559" name=""/>
            <p:cNvSpPr/>
            <p:nvPr/>
          </p:nvSpPr>
          <p:spPr>
            <a:xfrm>
              <a:off x="1346040" y="312192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66ff33"/>
                  </a:solidFill>
                  <a:latin typeface="Arial"/>
                </a:rPr>
                <a:t>Chlamid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7520000">
              <a:off x="1843920" y="2759400"/>
              <a:ext cx="685800" cy="65160"/>
            </a:xfrm>
            <a:prstGeom prst="rightArrow">
              <a:avLst>
                <a:gd name="adj1" fmla="val 50000"/>
                <a:gd name="adj2" fmla="val 26312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035000" y="5359320"/>
            <a:ext cx="2531880" cy="1240920"/>
            <a:chOff x="1035000" y="5359320"/>
            <a:chExt cx="2531880" cy="1240920"/>
          </a:xfrm>
        </p:grpSpPr>
        <p:sp>
          <p:nvSpPr>
            <p:cNvPr id="562" name=""/>
            <p:cNvSpPr/>
            <p:nvPr/>
          </p:nvSpPr>
          <p:spPr>
            <a:xfrm>
              <a:off x="1035000" y="6080040"/>
              <a:ext cx="1921320" cy="5202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66ff33"/>
                  </a:solidFill>
                  <a:latin typeface="Arial"/>
                </a:rPr>
                <a:t>Streptococc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66ff33"/>
                  </a:solidFill>
                  <a:latin typeface="Arial"/>
                </a:rPr>
                <a:t>pyogenes</a:t>
              </a:r>
              <a:r>
                <a:rPr b="1" lang="it-IT" sz="1400" spc="-1" strike="noStrike">
                  <a:solidFill>
                    <a:srgbClr val="66ff33"/>
                  </a:solidFill>
                  <a:latin typeface="Arial"/>
                </a:rPr>
                <a:t> con prt F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420000">
              <a:off x="2613600" y="5785200"/>
              <a:ext cx="1128600" cy="123840"/>
            </a:xfrm>
            <a:prstGeom prst="rightArrow">
              <a:avLst>
                <a:gd name="adj1" fmla="val 50000"/>
                <a:gd name="adj2" fmla="val 227834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4078440" y="4627440"/>
            <a:ext cx="46008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03640" y="1066680"/>
            <a:ext cx="45864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80040" y="1219320"/>
            <a:ext cx="45864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18240" y="4648320"/>
            <a:ext cx="46044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502320" y="4495680"/>
            <a:ext cx="136440" cy="228600"/>
            <a:chOff x="6502320" y="4495680"/>
            <a:chExt cx="136440" cy="228600"/>
          </a:xfrm>
        </p:grpSpPr>
        <p:sp>
          <p:nvSpPr>
            <p:cNvPr id="569" name=""/>
            <p:cNvSpPr/>
            <p:nvPr/>
          </p:nvSpPr>
          <p:spPr>
            <a:xfrm>
              <a:off x="6502320" y="4495680"/>
              <a:ext cx="13644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02320" y="4572000"/>
              <a:ext cx="68040" cy="759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293880" y="3350520"/>
            <a:ext cx="807120" cy="840600"/>
            <a:chOff x="6293880" y="3350520"/>
            <a:chExt cx="807120" cy="840600"/>
          </a:xfrm>
        </p:grpSpPr>
        <p:sp>
          <p:nvSpPr>
            <p:cNvPr id="572" name=""/>
            <p:cNvSpPr/>
            <p:nvPr/>
          </p:nvSpPr>
          <p:spPr>
            <a:xfrm>
              <a:off x="6293880" y="33505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66ff33"/>
                  </a:solidFill>
                  <a:latin typeface="Arial"/>
                </a:rPr>
                <a:t>Legionel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02320" y="3657600"/>
              <a:ext cx="68400" cy="533520"/>
            </a:xfrm>
            <a:prstGeom prst="downArrow">
              <a:avLst>
                <a:gd name="adj1" fmla="val 50000"/>
                <a:gd name="adj2" fmla="val 19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6966000" y="5105520"/>
            <a:ext cx="272880" cy="304560"/>
          </a:xfrm>
          <a:custGeom>
            <a:avLst/>
            <a:gdLst/>
            <a:ahLst/>
            <a:rect l="l" t="t" r="r" b="b"/>
            <a:pathLst>
              <a:path w="194" h="410">
                <a:moveTo>
                  <a:pt x="172" y="20"/>
                </a:moveTo>
                <a:cubicBezTo>
                  <a:pt x="154" y="0"/>
                  <a:pt x="66" y="4"/>
                  <a:pt x="40" y="61"/>
                </a:cubicBezTo>
                <a:cubicBezTo>
                  <a:pt x="14" y="118"/>
                  <a:pt x="0" y="310"/>
                  <a:pt x="16" y="360"/>
                </a:cubicBezTo>
                <a:cubicBezTo>
                  <a:pt x="32" y="410"/>
                  <a:pt x="118" y="390"/>
                  <a:pt x="139" y="360"/>
                </a:cubicBezTo>
                <a:cubicBezTo>
                  <a:pt x="160" y="330"/>
                  <a:pt x="137" y="234"/>
                  <a:pt x="142" y="177"/>
                </a:cubicBezTo>
                <a:cubicBezTo>
                  <a:pt x="147" y="120"/>
                  <a:pt x="194" y="43"/>
                  <a:pt x="172" y="2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051320" y="5410080"/>
            <a:ext cx="1098000" cy="563040"/>
            <a:chOff x="7051320" y="5410080"/>
            <a:chExt cx="1098000" cy="563040"/>
          </a:xfrm>
        </p:grpSpPr>
        <p:sp>
          <p:nvSpPr>
            <p:cNvPr id="576" name=""/>
            <p:cNvSpPr/>
            <p:nvPr/>
          </p:nvSpPr>
          <p:spPr>
            <a:xfrm>
              <a:off x="7051320" y="56966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66ff33"/>
                  </a:solidFill>
                  <a:latin typeface="Arial"/>
                </a:rPr>
                <a:t>Mycoplas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12160" y="5410080"/>
              <a:ext cx="68040" cy="304920"/>
            </a:xfrm>
            <a:prstGeom prst="upArrow">
              <a:avLst>
                <a:gd name="adj1" fmla="val 50000"/>
                <a:gd name="adj2" fmla="val 1120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314160" y="105840"/>
            <a:ext cx="1633320" cy="870840"/>
            <a:chOff x="3314160" y="105840"/>
            <a:chExt cx="1633320" cy="870840"/>
          </a:xfrm>
        </p:grpSpPr>
        <p:grpSp>
          <p:nvGrpSpPr>
            <p:cNvPr id="579" name=""/>
            <p:cNvGrpSpPr/>
            <p:nvPr/>
          </p:nvGrpSpPr>
          <p:grpSpPr>
            <a:xfrm>
              <a:off x="3314160" y="105840"/>
              <a:ext cx="1490400" cy="596160"/>
              <a:chOff x="3314160" y="105840"/>
              <a:chExt cx="1490400" cy="596160"/>
            </a:xfrm>
          </p:grpSpPr>
          <p:sp>
            <p:nvSpPr>
              <p:cNvPr id="580" name=""/>
              <p:cNvSpPr/>
              <p:nvPr/>
            </p:nvSpPr>
            <p:spPr>
              <a:xfrm>
                <a:off x="3314160" y="105840"/>
                <a:ext cx="1430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ffcc"/>
                    </a:solidFill>
                    <a:latin typeface="Arial"/>
                  </a:rPr>
                  <a:t>H. </a:t>
                </a:r>
                <a:r>
                  <a:rPr b="1" i="1" lang="it-IT" sz="1600" spc="-1" strike="noStrike">
                    <a:solidFill>
                      <a:srgbClr val="ffffcc"/>
                    </a:solidFill>
                    <a:latin typeface="Arial"/>
                  </a:rPr>
                  <a:t>influenz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16320" y="364680"/>
                <a:ext cx="1488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M. </a:t>
                </a:r>
                <a:r>
                  <a:rPr b="1" i="1" lang="it-IT" sz="1600" spc="-1" strike="noStrike">
                    <a:solidFill>
                      <a:srgbClr val="000000"/>
                    </a:solidFill>
                    <a:latin typeface="Arial"/>
                  </a:rPr>
                  <a:t>catarrhal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326760" y="639360"/>
              <a:ext cx="16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.</a:t>
              </a:r>
              <a:r>
                <a:rPr b="1" i="1" lang="it-IT" sz="1600" spc="-1" strike="noStrike">
                  <a:solidFill>
                    <a:srgbClr val="000000"/>
                  </a:solidFill>
                  <a:latin typeface="Arial"/>
                </a:rPr>
                <a:t> pneumon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283360" y="151920"/>
            <a:ext cx="1041120" cy="538200"/>
            <a:chOff x="5283360" y="151920"/>
            <a:chExt cx="1041120" cy="538200"/>
          </a:xfrm>
        </p:grpSpPr>
        <p:sp>
          <p:nvSpPr>
            <p:cNvPr id="584" name=""/>
            <p:cNvSpPr/>
            <p:nvPr/>
          </p:nvSpPr>
          <p:spPr>
            <a:xfrm rot="16200000">
              <a:off x="5279400" y="47340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5441040" y="38448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5616360" y="472320"/>
              <a:ext cx="220680" cy="2109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200000">
              <a:off x="5837040" y="460440"/>
              <a:ext cx="220680" cy="21240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5367960" y="55872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5529600" y="42516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5704920" y="557640"/>
              <a:ext cx="44640" cy="424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6200000">
              <a:off x="5927040" y="54576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6200000">
              <a:off x="5972400" y="30816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6062040" y="39348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6107760" y="15588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6197040" y="240840"/>
              <a:ext cx="42840" cy="424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66760" y="1197000"/>
            <a:ext cx="8610480" cy="1800360"/>
          </a:xfrm>
          <a:prstGeom prst="rect">
            <a:avLst/>
          </a:prstGeom>
          <a:solidFill>
            <a:srgbClr val="ff33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ssociation between erythromycin resistance and ability to enter human respiratory cells in group A streptococ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0400" y="3489480"/>
            <a:ext cx="756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Bruna Facinelli, Cinzia Spinaci, Gloria Magi, Eleonora Giovanetti, Pietro E Vara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21120" y="4724280"/>
            <a:ext cx="530280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THE LANCET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• Vol 358 • July 7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4402080" y="762120"/>
            <a:ext cx="2778120" cy="2438280"/>
          </a:xfrm>
          <a:custGeom>
            <a:avLst/>
            <a:gdLst/>
            <a:ahLst/>
            <a:rect l="l" t="t" r="r" b="b"/>
            <a:pathLst>
              <a:path w="1638" h="1611">
                <a:moveTo>
                  <a:pt x="295" y="529"/>
                </a:moveTo>
                <a:cubicBezTo>
                  <a:pt x="230" y="643"/>
                  <a:pt x="90" y="741"/>
                  <a:pt x="57" y="860"/>
                </a:cubicBezTo>
                <a:cubicBezTo>
                  <a:pt x="24" y="979"/>
                  <a:pt x="0" y="1124"/>
                  <a:pt x="95" y="1244"/>
                </a:cubicBezTo>
                <a:cubicBezTo>
                  <a:pt x="190" y="1364"/>
                  <a:pt x="447" y="1555"/>
                  <a:pt x="626" y="1583"/>
                </a:cubicBezTo>
                <a:cubicBezTo>
                  <a:pt x="805" y="1611"/>
                  <a:pt x="998" y="1548"/>
                  <a:pt x="1167" y="1414"/>
                </a:cubicBezTo>
                <a:cubicBezTo>
                  <a:pt x="1336" y="1280"/>
                  <a:pt x="1638" y="999"/>
                  <a:pt x="1638" y="780"/>
                </a:cubicBezTo>
                <a:cubicBezTo>
                  <a:pt x="1638" y="561"/>
                  <a:pt x="1366" y="202"/>
                  <a:pt x="1167" y="101"/>
                </a:cubicBezTo>
                <a:cubicBezTo>
                  <a:pt x="968" y="0"/>
                  <a:pt x="590" y="104"/>
                  <a:pt x="445" y="175"/>
                </a:cubicBezTo>
                <a:cubicBezTo>
                  <a:pt x="300" y="246"/>
                  <a:pt x="360" y="415"/>
                  <a:pt x="295" y="529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28800" y="380880"/>
            <a:ext cx="2330280" cy="2557440"/>
          </a:xfrm>
          <a:custGeom>
            <a:avLst/>
            <a:gdLst/>
            <a:ahLst/>
            <a:rect l="l" t="t" r="r" b="b"/>
            <a:pathLst>
              <a:path w="1651" h="1611">
                <a:moveTo>
                  <a:pt x="120" y="484"/>
                </a:moveTo>
                <a:cubicBezTo>
                  <a:pt x="70" y="643"/>
                  <a:pt x="6" y="944"/>
                  <a:pt x="3" y="1088"/>
                </a:cubicBezTo>
                <a:cubicBezTo>
                  <a:pt x="0" y="1232"/>
                  <a:pt x="8" y="1261"/>
                  <a:pt x="99" y="1347"/>
                </a:cubicBezTo>
                <a:cubicBezTo>
                  <a:pt x="190" y="1433"/>
                  <a:pt x="370" y="1591"/>
                  <a:pt x="546" y="1601"/>
                </a:cubicBezTo>
                <a:cubicBezTo>
                  <a:pt x="722" y="1611"/>
                  <a:pt x="977" y="1543"/>
                  <a:pt x="1158" y="1405"/>
                </a:cubicBezTo>
                <a:cubicBezTo>
                  <a:pt x="1339" y="1267"/>
                  <a:pt x="1651" y="948"/>
                  <a:pt x="1629" y="771"/>
                </a:cubicBezTo>
                <a:cubicBezTo>
                  <a:pt x="1607" y="594"/>
                  <a:pt x="1222" y="465"/>
                  <a:pt x="1023" y="340"/>
                </a:cubicBezTo>
                <a:cubicBezTo>
                  <a:pt x="824" y="215"/>
                  <a:pt x="588" y="0"/>
                  <a:pt x="438" y="24"/>
                </a:cubicBezTo>
                <a:cubicBezTo>
                  <a:pt x="288" y="48"/>
                  <a:pt x="186" y="388"/>
                  <a:pt x="120" y="484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27840" y="3371760"/>
            <a:ext cx="2574720" cy="2343240"/>
          </a:xfrm>
          <a:custGeom>
            <a:avLst/>
            <a:gdLst/>
            <a:ahLst/>
            <a:rect l="l" t="t" r="r" b="b"/>
            <a:pathLst>
              <a:path w="1640" h="1476">
                <a:moveTo>
                  <a:pt x="182" y="356"/>
                </a:moveTo>
                <a:cubicBezTo>
                  <a:pt x="100" y="472"/>
                  <a:pt x="0" y="890"/>
                  <a:pt x="14" y="1059"/>
                </a:cubicBezTo>
                <a:cubicBezTo>
                  <a:pt x="28" y="1228"/>
                  <a:pt x="169" y="1324"/>
                  <a:pt x="267" y="1371"/>
                </a:cubicBezTo>
                <a:cubicBezTo>
                  <a:pt x="365" y="1418"/>
                  <a:pt x="455" y="1340"/>
                  <a:pt x="605" y="1341"/>
                </a:cubicBezTo>
                <a:cubicBezTo>
                  <a:pt x="755" y="1342"/>
                  <a:pt x="997" y="1476"/>
                  <a:pt x="1169" y="1376"/>
                </a:cubicBezTo>
                <a:cubicBezTo>
                  <a:pt x="1341" y="1276"/>
                  <a:pt x="1640" y="961"/>
                  <a:pt x="1640" y="742"/>
                </a:cubicBezTo>
                <a:cubicBezTo>
                  <a:pt x="1640" y="523"/>
                  <a:pt x="1358" y="126"/>
                  <a:pt x="1169" y="63"/>
                </a:cubicBezTo>
                <a:cubicBezTo>
                  <a:pt x="980" y="0"/>
                  <a:pt x="669" y="315"/>
                  <a:pt x="505" y="364"/>
                </a:cubicBezTo>
                <a:cubicBezTo>
                  <a:pt x="341" y="413"/>
                  <a:pt x="264" y="240"/>
                  <a:pt x="182" y="356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3429000"/>
            <a:ext cx="2725920" cy="3048120"/>
          </a:xfrm>
          <a:custGeom>
            <a:avLst/>
            <a:gdLst/>
            <a:ahLst/>
            <a:rect l="l" t="t" r="r" b="b"/>
            <a:pathLst>
              <a:path w="1788" h="1625">
                <a:moveTo>
                  <a:pt x="149" y="593"/>
                </a:moveTo>
                <a:cubicBezTo>
                  <a:pt x="99" y="752"/>
                  <a:pt x="0" y="1033"/>
                  <a:pt x="32" y="1197"/>
                </a:cubicBezTo>
                <a:cubicBezTo>
                  <a:pt x="64" y="1361"/>
                  <a:pt x="245" y="1531"/>
                  <a:pt x="343" y="1578"/>
                </a:cubicBezTo>
                <a:cubicBezTo>
                  <a:pt x="441" y="1625"/>
                  <a:pt x="482" y="1490"/>
                  <a:pt x="623" y="1479"/>
                </a:cubicBezTo>
                <a:cubicBezTo>
                  <a:pt x="764" y="1468"/>
                  <a:pt x="994" y="1618"/>
                  <a:pt x="1187" y="1514"/>
                </a:cubicBezTo>
                <a:cubicBezTo>
                  <a:pt x="1380" y="1410"/>
                  <a:pt x="1774" y="1040"/>
                  <a:pt x="1781" y="855"/>
                </a:cubicBezTo>
                <a:cubicBezTo>
                  <a:pt x="1788" y="670"/>
                  <a:pt x="1419" y="539"/>
                  <a:pt x="1228" y="402"/>
                </a:cubicBezTo>
                <a:cubicBezTo>
                  <a:pt x="1037" y="265"/>
                  <a:pt x="815" y="0"/>
                  <a:pt x="635" y="32"/>
                </a:cubicBezTo>
                <a:cubicBezTo>
                  <a:pt x="455" y="64"/>
                  <a:pt x="250" y="476"/>
                  <a:pt x="149" y="593"/>
                </a:cubicBezTo>
                <a:close/>
              </a:path>
            </a:pathLst>
          </a:custGeom>
          <a:gradFill rotWithShape="0">
            <a:gsLst>
              <a:gs pos="0">
                <a:srgbClr val="b76d00"/>
              </a:gs>
              <a:gs pos="50000">
                <a:srgbClr val="ff9900"/>
              </a:gs>
              <a:gs pos="100000">
                <a:srgbClr val="b76d00"/>
              </a:gs>
            </a:gsLst>
            <a:lin ang="54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235240" y="914400"/>
            <a:ext cx="677880" cy="83808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29040" y="4495680"/>
            <a:ext cx="67644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1066680"/>
            <a:ext cx="67788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83600" y="4495680"/>
            <a:ext cx="676080" cy="838440"/>
          </a:xfrm>
          <a:prstGeom prst="ellipse">
            <a:avLst/>
          </a:prstGeom>
          <a:solidFill>
            <a:srgbClr val="703d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765520" y="4812840"/>
            <a:ext cx="1042920" cy="538200"/>
            <a:chOff x="2765520" y="4812840"/>
            <a:chExt cx="1042920" cy="538200"/>
          </a:xfrm>
        </p:grpSpPr>
        <p:sp>
          <p:nvSpPr>
            <p:cNvPr id="608" name=""/>
            <p:cNvSpPr/>
            <p:nvPr/>
          </p:nvSpPr>
          <p:spPr>
            <a:xfrm rot="16200000">
              <a:off x="2761560" y="513396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2923560" y="504504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3099600" y="5133240"/>
              <a:ext cx="220680" cy="2113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3320640" y="5121360"/>
              <a:ext cx="220680" cy="21276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2849760" y="521964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3012120" y="508608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3187800" y="5218560"/>
              <a:ext cx="44640" cy="4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6200000">
              <a:off x="3410280" y="520668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3456000" y="496872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3545640" y="5054400"/>
              <a:ext cx="42840" cy="4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3591360" y="4816440"/>
              <a:ext cx="220680" cy="2131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3681000" y="4901760"/>
              <a:ext cx="42840" cy="42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933480" y="228240"/>
            <a:ext cx="1041120" cy="538200"/>
            <a:chOff x="933480" y="228240"/>
            <a:chExt cx="1041120" cy="538200"/>
          </a:xfrm>
        </p:grpSpPr>
        <p:sp>
          <p:nvSpPr>
            <p:cNvPr id="621" name=""/>
            <p:cNvSpPr/>
            <p:nvPr/>
          </p:nvSpPr>
          <p:spPr>
            <a:xfrm rot="16200000">
              <a:off x="929520" y="54972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1091520" y="46080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1266840" y="548640"/>
              <a:ext cx="220680" cy="210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1487160" y="536760"/>
              <a:ext cx="220680" cy="2124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1017720" y="63504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1179720" y="50148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1355040" y="633960"/>
              <a:ext cx="44640" cy="4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1577160" y="62208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6200000">
              <a:off x="1622880" y="38448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6200000">
              <a:off x="1712520" y="469800"/>
              <a:ext cx="42840" cy="4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6200000">
              <a:off x="1757880" y="232200"/>
              <a:ext cx="220680" cy="212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1847520" y="317160"/>
              <a:ext cx="42840" cy="4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131200" y="1893240"/>
            <a:ext cx="388800" cy="563040"/>
            <a:chOff x="2131200" y="1893240"/>
            <a:chExt cx="388800" cy="563040"/>
          </a:xfrm>
        </p:grpSpPr>
        <p:sp>
          <p:nvSpPr>
            <p:cNvPr id="634" name=""/>
            <p:cNvSpPr/>
            <p:nvPr/>
          </p:nvSpPr>
          <p:spPr>
            <a:xfrm rot="20400000">
              <a:off x="2212560" y="1915920"/>
              <a:ext cx="225360" cy="517320"/>
            </a:xfrm>
            <a:custGeom>
              <a:avLst/>
              <a:gdLst/>
              <a:ahLst/>
              <a:rect l="l" t="t" r="r" b="b"/>
              <a:pathLst>
                <a:path w="194" h="410">
                  <a:moveTo>
                    <a:pt x="172" y="20"/>
                  </a:moveTo>
                  <a:cubicBezTo>
                    <a:pt x="154" y="0"/>
                    <a:pt x="66" y="4"/>
                    <a:pt x="40" y="61"/>
                  </a:cubicBezTo>
                  <a:cubicBezTo>
                    <a:pt x="14" y="118"/>
                    <a:pt x="0" y="310"/>
                    <a:pt x="16" y="360"/>
                  </a:cubicBezTo>
                  <a:cubicBezTo>
                    <a:pt x="32" y="410"/>
                    <a:pt x="118" y="390"/>
                    <a:pt x="139" y="360"/>
                  </a:cubicBezTo>
                  <a:cubicBezTo>
                    <a:pt x="160" y="330"/>
                    <a:pt x="137" y="234"/>
                    <a:pt x="142" y="177"/>
                  </a:cubicBezTo>
                  <a:cubicBezTo>
                    <a:pt x="147" y="120"/>
                    <a:pt x="194" y="43"/>
                    <a:pt x="172" y="20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400000">
              <a:off x="2282400" y="2013480"/>
              <a:ext cx="52200" cy="263520"/>
            </a:xfrm>
            <a:custGeom>
              <a:avLst/>
              <a:gdLst/>
              <a:ahLst/>
              <a:rect l="l" t="t" r="r" b="b"/>
              <a:pathLst>
                <a:path w="45" h="209">
                  <a:moveTo>
                    <a:pt x="40" y="16"/>
                  </a:moveTo>
                  <a:cubicBezTo>
                    <a:pt x="8" y="75"/>
                    <a:pt x="45" y="0"/>
                    <a:pt x="29" y="59"/>
                  </a:cubicBezTo>
                  <a:cubicBezTo>
                    <a:pt x="27" y="67"/>
                    <a:pt x="22" y="73"/>
                    <a:pt x="17" y="80"/>
                  </a:cubicBezTo>
                  <a:cubicBezTo>
                    <a:pt x="14" y="88"/>
                    <a:pt x="9" y="94"/>
                    <a:pt x="7" y="102"/>
                  </a:cubicBezTo>
                  <a:cubicBezTo>
                    <a:pt x="3" y="118"/>
                    <a:pt x="4" y="135"/>
                    <a:pt x="0" y="151"/>
                  </a:cubicBezTo>
                  <a:cubicBezTo>
                    <a:pt x="21" y="166"/>
                    <a:pt x="6" y="197"/>
                    <a:pt x="7" y="209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4342320" y="4911480"/>
            <a:ext cx="139248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6ff33"/>
                </a:solidFill>
                <a:latin typeface="Bookman Old Style"/>
              </a:rPr>
              <a:t>MACR</a:t>
            </a:r>
            <a:r>
              <a:rPr b="1" lang="it-IT" sz="1600" spc="-1" strike="noStrike">
                <a:solidFill>
                  <a:srgbClr val="ffffff"/>
                </a:solidFill>
                <a:latin typeface="Bookman Old Style"/>
              </a:rPr>
              <a:t>O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85000" y="3077640"/>
            <a:ext cx="187704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man Old Style"/>
              </a:rPr>
              <a:t>BETALATTA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25080" y="604800"/>
            <a:ext cx="1677240" cy="1345680"/>
            <a:chOff x="325080" y="604800"/>
            <a:chExt cx="1677240" cy="1345680"/>
          </a:xfrm>
        </p:grpSpPr>
        <p:sp>
          <p:nvSpPr>
            <p:cNvPr id="639" name=""/>
            <p:cNvSpPr/>
            <p:nvPr/>
          </p:nvSpPr>
          <p:spPr>
            <a:xfrm>
              <a:off x="325080" y="1430280"/>
              <a:ext cx="146700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66"/>
                  </a:solidFill>
                  <a:latin typeface="Arial"/>
                </a:rPr>
                <a:t>Streptococc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66"/>
                  </a:solidFill>
                  <a:latin typeface="Arial"/>
                </a:rPr>
                <a:t>pyoge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8480000">
              <a:off x="1159200" y="974160"/>
              <a:ext cx="990360" cy="108360"/>
            </a:xfrm>
            <a:prstGeom prst="rightArrow">
              <a:avLst>
                <a:gd name="adj1" fmla="val 50000"/>
                <a:gd name="adj2" fmla="val 228488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279800" y="2462040"/>
            <a:ext cx="1065600" cy="920520"/>
            <a:chOff x="1279800" y="2462040"/>
            <a:chExt cx="1065600" cy="920520"/>
          </a:xfrm>
        </p:grpSpPr>
        <p:sp>
          <p:nvSpPr>
            <p:cNvPr id="642" name=""/>
            <p:cNvSpPr/>
            <p:nvPr/>
          </p:nvSpPr>
          <p:spPr>
            <a:xfrm>
              <a:off x="1279800" y="310608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66ff33"/>
                  </a:solidFill>
                  <a:latin typeface="Arial"/>
                </a:rPr>
                <a:t>Chlamy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7520000">
              <a:off x="1843920" y="2759400"/>
              <a:ext cx="685800" cy="65160"/>
            </a:xfrm>
            <a:prstGeom prst="rightArrow">
              <a:avLst>
                <a:gd name="adj1" fmla="val 50000"/>
                <a:gd name="adj2" fmla="val 26312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907200" y="5334480"/>
            <a:ext cx="5626080" cy="1428840"/>
            <a:chOff x="907200" y="5334480"/>
            <a:chExt cx="5626080" cy="1428840"/>
          </a:xfrm>
        </p:grpSpPr>
        <p:sp>
          <p:nvSpPr>
            <p:cNvPr id="645" name=""/>
            <p:cNvSpPr/>
            <p:nvPr/>
          </p:nvSpPr>
          <p:spPr>
            <a:xfrm>
              <a:off x="907200" y="6120720"/>
              <a:ext cx="56260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Streptococc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Arial"/>
                </a:rPr>
                <a:t>pyogenes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 con prt F1 + RESISTENZA MACROLIDE</a:t>
              </a: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420600">
              <a:off x="4602960" y="5835960"/>
              <a:ext cx="1128600" cy="123840"/>
            </a:xfrm>
            <a:prstGeom prst="rightArrow">
              <a:avLst>
                <a:gd name="adj1" fmla="val 50000"/>
                <a:gd name="adj2" fmla="val 227834"/>
              </a:avLst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4078440" y="4627440"/>
            <a:ext cx="46008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03640" y="1066680"/>
            <a:ext cx="45864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944960" y="1219320"/>
            <a:ext cx="45900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18240" y="4648320"/>
            <a:ext cx="460440" cy="317520"/>
          </a:xfrm>
          <a:custGeom>
            <a:avLst/>
            <a:gdLst/>
            <a:ahLst/>
            <a:rect l="l" t="t" r="r" b="b"/>
            <a:pathLst>
              <a:path w="326" h="200">
                <a:moveTo>
                  <a:pt x="60" y="69"/>
                </a:moveTo>
                <a:cubicBezTo>
                  <a:pt x="126" y="92"/>
                  <a:pt x="90" y="87"/>
                  <a:pt x="168" y="77"/>
                </a:cubicBezTo>
                <a:cubicBezTo>
                  <a:pt x="203" y="5"/>
                  <a:pt x="185" y="14"/>
                  <a:pt x="114" y="23"/>
                </a:cubicBezTo>
                <a:cubicBezTo>
                  <a:pt x="103" y="54"/>
                  <a:pt x="91" y="78"/>
                  <a:pt x="114" y="115"/>
                </a:cubicBezTo>
                <a:cubicBezTo>
                  <a:pt x="119" y="124"/>
                  <a:pt x="134" y="110"/>
                  <a:pt x="144" y="108"/>
                </a:cubicBezTo>
                <a:cubicBezTo>
                  <a:pt x="164" y="79"/>
                  <a:pt x="181" y="52"/>
                  <a:pt x="160" y="15"/>
                </a:cubicBezTo>
                <a:cubicBezTo>
                  <a:pt x="152" y="1"/>
                  <a:pt x="129" y="5"/>
                  <a:pt x="114" y="0"/>
                </a:cubicBezTo>
                <a:cubicBezTo>
                  <a:pt x="75" y="14"/>
                  <a:pt x="73" y="41"/>
                  <a:pt x="60" y="77"/>
                </a:cubicBezTo>
                <a:cubicBezTo>
                  <a:pt x="68" y="159"/>
                  <a:pt x="57" y="169"/>
                  <a:pt x="129" y="154"/>
                </a:cubicBezTo>
                <a:cubicBezTo>
                  <a:pt x="161" y="132"/>
                  <a:pt x="190" y="120"/>
                  <a:pt x="221" y="100"/>
                </a:cubicBezTo>
                <a:cubicBezTo>
                  <a:pt x="219" y="82"/>
                  <a:pt x="231" y="52"/>
                  <a:pt x="214" y="46"/>
                </a:cubicBezTo>
                <a:cubicBezTo>
                  <a:pt x="192" y="39"/>
                  <a:pt x="65" y="56"/>
                  <a:pt x="21" y="62"/>
                </a:cubicBezTo>
                <a:cubicBezTo>
                  <a:pt x="0" y="130"/>
                  <a:pt x="14" y="117"/>
                  <a:pt x="75" y="100"/>
                </a:cubicBezTo>
                <a:cubicBezTo>
                  <a:pt x="326" y="113"/>
                  <a:pt x="246" y="108"/>
                  <a:pt x="168" y="92"/>
                </a:cubicBezTo>
                <a:cubicBezTo>
                  <a:pt x="160" y="84"/>
                  <a:pt x="155" y="72"/>
                  <a:pt x="144" y="69"/>
                </a:cubicBezTo>
                <a:cubicBezTo>
                  <a:pt x="123" y="62"/>
                  <a:pt x="86" y="104"/>
                  <a:pt x="75" y="115"/>
                </a:cubicBezTo>
                <a:cubicBezTo>
                  <a:pt x="72" y="127"/>
                  <a:pt x="59" y="165"/>
                  <a:pt x="75" y="177"/>
                </a:cubicBezTo>
                <a:cubicBezTo>
                  <a:pt x="81" y="182"/>
                  <a:pt x="90" y="172"/>
                  <a:pt x="98" y="169"/>
                </a:cubicBezTo>
                <a:cubicBezTo>
                  <a:pt x="103" y="153"/>
                  <a:pt x="125" y="86"/>
                  <a:pt x="83" y="131"/>
                </a:cubicBezTo>
                <a:cubicBezTo>
                  <a:pt x="86" y="141"/>
                  <a:pt x="81" y="160"/>
                  <a:pt x="91" y="162"/>
                </a:cubicBezTo>
                <a:cubicBezTo>
                  <a:pt x="190" y="183"/>
                  <a:pt x="183" y="179"/>
                  <a:pt x="198" y="131"/>
                </a:cubicBezTo>
                <a:cubicBezTo>
                  <a:pt x="186" y="50"/>
                  <a:pt x="170" y="64"/>
                  <a:pt x="91" y="54"/>
                </a:cubicBezTo>
                <a:cubicBezTo>
                  <a:pt x="39" y="72"/>
                  <a:pt x="35" y="120"/>
                  <a:pt x="75" y="162"/>
                </a:cubicBezTo>
                <a:cubicBezTo>
                  <a:pt x="96" y="159"/>
                  <a:pt x="117" y="160"/>
                  <a:pt x="137" y="154"/>
                </a:cubicBezTo>
                <a:cubicBezTo>
                  <a:pt x="154" y="149"/>
                  <a:pt x="166" y="105"/>
                  <a:pt x="175" y="92"/>
                </a:cubicBezTo>
                <a:cubicBezTo>
                  <a:pt x="178" y="107"/>
                  <a:pt x="191" y="125"/>
                  <a:pt x="183" y="138"/>
                </a:cubicBezTo>
                <a:cubicBezTo>
                  <a:pt x="176" y="150"/>
                  <a:pt x="156" y="139"/>
                  <a:pt x="144" y="146"/>
                </a:cubicBezTo>
                <a:cubicBezTo>
                  <a:pt x="136" y="151"/>
                  <a:pt x="134" y="161"/>
                  <a:pt x="129" y="169"/>
                </a:cubicBezTo>
                <a:cubicBezTo>
                  <a:pt x="174" y="185"/>
                  <a:pt x="220" y="200"/>
                  <a:pt x="260" y="162"/>
                </a:cubicBezTo>
                <a:cubicBezTo>
                  <a:pt x="246" y="96"/>
                  <a:pt x="226" y="92"/>
                  <a:pt x="168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502320" y="4495680"/>
            <a:ext cx="136440" cy="228600"/>
            <a:chOff x="6502320" y="4495680"/>
            <a:chExt cx="136440" cy="228600"/>
          </a:xfrm>
        </p:grpSpPr>
        <p:sp>
          <p:nvSpPr>
            <p:cNvPr id="652" name=""/>
            <p:cNvSpPr/>
            <p:nvPr/>
          </p:nvSpPr>
          <p:spPr>
            <a:xfrm>
              <a:off x="6502320" y="4495680"/>
              <a:ext cx="13644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02320" y="4572000"/>
              <a:ext cx="68040" cy="759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293880" y="3350520"/>
            <a:ext cx="807120" cy="840600"/>
            <a:chOff x="6293880" y="3350520"/>
            <a:chExt cx="807120" cy="840600"/>
          </a:xfrm>
        </p:grpSpPr>
        <p:sp>
          <p:nvSpPr>
            <p:cNvPr id="655" name=""/>
            <p:cNvSpPr/>
            <p:nvPr/>
          </p:nvSpPr>
          <p:spPr>
            <a:xfrm>
              <a:off x="6293880" y="33505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66ff33"/>
                  </a:solidFill>
                  <a:latin typeface="Arial"/>
                </a:rPr>
                <a:t>Legionel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02320" y="3657600"/>
              <a:ext cx="68400" cy="533520"/>
            </a:xfrm>
            <a:prstGeom prst="downArrow">
              <a:avLst>
                <a:gd name="adj1" fmla="val 50000"/>
                <a:gd name="adj2" fmla="val 19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6966000" y="5105520"/>
            <a:ext cx="272880" cy="304560"/>
          </a:xfrm>
          <a:custGeom>
            <a:avLst/>
            <a:gdLst/>
            <a:ahLst/>
            <a:rect l="l" t="t" r="r" b="b"/>
            <a:pathLst>
              <a:path w="194" h="410">
                <a:moveTo>
                  <a:pt x="172" y="20"/>
                </a:moveTo>
                <a:cubicBezTo>
                  <a:pt x="154" y="0"/>
                  <a:pt x="66" y="4"/>
                  <a:pt x="40" y="61"/>
                </a:cubicBezTo>
                <a:cubicBezTo>
                  <a:pt x="14" y="118"/>
                  <a:pt x="0" y="310"/>
                  <a:pt x="16" y="360"/>
                </a:cubicBezTo>
                <a:cubicBezTo>
                  <a:pt x="32" y="410"/>
                  <a:pt x="118" y="390"/>
                  <a:pt x="139" y="360"/>
                </a:cubicBezTo>
                <a:cubicBezTo>
                  <a:pt x="160" y="330"/>
                  <a:pt x="137" y="234"/>
                  <a:pt x="142" y="177"/>
                </a:cubicBezTo>
                <a:cubicBezTo>
                  <a:pt x="147" y="120"/>
                  <a:pt x="194" y="43"/>
                  <a:pt x="172" y="2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052760" y="5410080"/>
            <a:ext cx="1098000" cy="563040"/>
            <a:chOff x="7052760" y="5410080"/>
            <a:chExt cx="1098000" cy="563040"/>
          </a:xfrm>
        </p:grpSpPr>
        <p:sp>
          <p:nvSpPr>
            <p:cNvPr id="659" name=""/>
            <p:cNvSpPr/>
            <p:nvPr/>
          </p:nvSpPr>
          <p:spPr>
            <a:xfrm>
              <a:off x="7052760" y="56966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66ff33"/>
                  </a:solidFill>
                  <a:latin typeface="Arial"/>
                </a:rPr>
                <a:t>Mycoplas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12160" y="5410080"/>
              <a:ext cx="68040" cy="304920"/>
            </a:xfrm>
            <a:prstGeom prst="upArrow">
              <a:avLst>
                <a:gd name="adj1" fmla="val 50000"/>
                <a:gd name="adj2" fmla="val 1120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754080" y="210240"/>
            <a:ext cx="1303920" cy="809640"/>
            <a:chOff x="3754080" y="210240"/>
            <a:chExt cx="1303920" cy="809640"/>
          </a:xfrm>
        </p:grpSpPr>
        <p:grpSp>
          <p:nvGrpSpPr>
            <p:cNvPr id="662" name=""/>
            <p:cNvGrpSpPr/>
            <p:nvPr/>
          </p:nvGrpSpPr>
          <p:grpSpPr>
            <a:xfrm>
              <a:off x="3754080" y="210240"/>
              <a:ext cx="1174320" cy="534960"/>
              <a:chOff x="3754080" y="210240"/>
              <a:chExt cx="1174320" cy="534960"/>
            </a:xfrm>
          </p:grpSpPr>
          <p:sp>
            <p:nvSpPr>
              <p:cNvPr id="663" name=""/>
              <p:cNvSpPr/>
              <p:nvPr/>
            </p:nvSpPr>
            <p:spPr>
              <a:xfrm>
                <a:off x="3754080" y="21024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cc"/>
                    </a:solidFill>
                    <a:latin typeface="Arial"/>
                  </a:rPr>
                  <a:t>H.</a:t>
                </a:r>
                <a:r>
                  <a:rPr b="1" i="1" lang="it-IT" sz="1200" spc="-1" strike="noStrike">
                    <a:solidFill>
                      <a:srgbClr val="ffffcc"/>
                    </a:solidFill>
                    <a:latin typeface="Arial"/>
                  </a:rPr>
                  <a:t> influenza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61640" y="468720"/>
                <a:ext cx="116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M. </a:t>
                </a:r>
                <a:r>
                  <a:rPr b="1" i="1" lang="it-IT" sz="1200" spc="-1" strike="noStrike">
                    <a:solidFill>
                      <a:srgbClr val="000000"/>
                    </a:solidFill>
                    <a:latin typeface="Arial"/>
                  </a:rPr>
                  <a:t>catarrhal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790440" y="743400"/>
              <a:ext cx="126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. </a:t>
              </a:r>
              <a:r>
                <a:rPr b="1" i="1" lang="it-IT" sz="1200" spc="-1" strike="noStrike">
                  <a:solidFill>
                    <a:srgbClr val="000000"/>
                  </a:solidFill>
                  <a:latin typeface="Arial"/>
                </a:rPr>
                <a:t>pneumonia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283360" y="151920"/>
            <a:ext cx="1041120" cy="538200"/>
            <a:chOff x="5283360" y="151920"/>
            <a:chExt cx="1041120" cy="538200"/>
          </a:xfrm>
        </p:grpSpPr>
        <p:sp>
          <p:nvSpPr>
            <p:cNvPr id="667" name=""/>
            <p:cNvSpPr/>
            <p:nvPr/>
          </p:nvSpPr>
          <p:spPr>
            <a:xfrm rot="16200000">
              <a:off x="5279400" y="47340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6200000">
              <a:off x="5441040" y="38448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5616360" y="472320"/>
              <a:ext cx="220680" cy="2109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5837040" y="460440"/>
              <a:ext cx="220680" cy="21240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6200000">
              <a:off x="5367960" y="55872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6200000">
              <a:off x="5529600" y="42516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6200000">
              <a:off x="5704920" y="557640"/>
              <a:ext cx="44640" cy="424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5927040" y="54576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5972400" y="30816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6062040" y="393480"/>
              <a:ext cx="42840" cy="421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6107760" y="155880"/>
              <a:ext cx="220680" cy="212760"/>
            </a:xfrm>
            <a:prstGeom prst="ellipse">
              <a:avLst/>
            </a:prstGeom>
            <a:solidFill>
              <a:srgbClr val="ffef66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6197040" y="240840"/>
              <a:ext cx="42840" cy="424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Bookman Old Style"/>
              </a:rPr>
              <a:t>Erythromycin resistance in </a:t>
            </a:r>
            <a:br>
              <a:rPr sz="3200"/>
            </a:br>
            <a:r>
              <a:rPr b="1" i="1" lang="it-IT" sz="3200" spc="-1" strike="noStrike">
                <a:solidFill>
                  <a:srgbClr val="003399"/>
                </a:solidFill>
                <a:latin typeface="Bookman Old Style"/>
              </a:rPr>
              <a:t>Streptococcus pyogenes</a:t>
            </a:r>
            <a:r>
              <a:rPr b="1" lang="it-IT" sz="3200" spc="-1" strike="noStrike">
                <a:solidFill>
                  <a:srgbClr val="003399"/>
                </a:solidFill>
                <a:latin typeface="Bookman Old Style"/>
              </a:rPr>
              <a:t> in Italy </a:t>
            </a:r>
            <a:br>
              <a:rPr sz="3200"/>
            </a:br>
            <a:r>
              <a:rPr b="1" i="1" lang="it-IT" sz="2800" spc="-1" strike="noStrike">
                <a:solidFill>
                  <a:srgbClr val="003399"/>
                </a:solidFill>
                <a:latin typeface="Bookman Old Style"/>
              </a:rPr>
              <a:t>Emerg Infect Dis 6:180-183, 2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63440"/>
            <a:ext cx="7696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180 bambini con faringite acuta da </a:t>
            </a:r>
            <a:r>
              <a:rPr b="1" i="1" lang="it-IT" sz="2400" spc="-1" strike="noStrike">
                <a:solidFill>
                  <a:srgbClr val="000000"/>
                </a:solidFill>
                <a:latin typeface="Bookman Old Style"/>
              </a:rPr>
              <a:t>S.pyog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ookman Old Style"/>
              </a:rPr>
              <a:t>S.pyogenes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resistente ai macrolidi in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69/180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(38.3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eradicazione con claritromicina in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(63%)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dei 19 pz. con SBEA resistente all’eritromicina e in </a:t>
            </a:r>
            <a:r>
              <a:rPr b="1" lang="it-IT" sz="2400" spc="-1" strike="noStrike">
                <a:solidFill>
                  <a:srgbClr val="ff3300"/>
                </a:solidFill>
                <a:latin typeface="Bookman Old Style"/>
              </a:rPr>
              <a:t>22 (88%)</a:t>
            </a: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 dei 25 pz. con SBEA sensibile al macrol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4120" y="533160"/>
            <a:ext cx="7790040" cy="1143000"/>
          </a:xfrm>
          <a:prstGeom prst="rect">
            <a:avLst/>
          </a:prstGeom>
          <a:solidFill>
            <a:srgbClr val="0033cc"/>
          </a:solidFill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57"/>
                </a:solidFill>
                <a:latin typeface="Arial"/>
              </a:rPr>
              <a:t>POSSIBILI SPIEGAZIONI DEL FALLIMENTO MICROBIOLOGICO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609480" y="2590560"/>
            <a:ext cx="7925040" cy="251460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PLI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ATOGENICITA’ INDIRET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ERFERENZA BATTERICA ( Strep. </a:t>
            </a:r>
            <a:r>
              <a:rPr b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molitic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TERNALIZZ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OTITE MEDIA ACU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ò esser definita come un’infiammazione a rapida insorgenza a carico dell’orecchio medio con associazione di opacizzazione della membrana timpanica accompagnata 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tal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ebb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rritabi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tor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Figura2" descr=""/>
          <p:cNvPicPr/>
          <p:nvPr/>
        </p:nvPicPr>
        <p:blipFill>
          <a:blip r:embed="rId1"/>
          <a:stretch/>
        </p:blipFill>
        <p:spPr>
          <a:xfrm>
            <a:off x="1473120" y="304920"/>
            <a:ext cx="1803600" cy="28828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66" name="Figura3" descr=""/>
          <p:cNvPicPr/>
          <p:nvPr/>
        </p:nvPicPr>
        <p:blipFill>
          <a:blip r:embed="rId2"/>
          <a:stretch/>
        </p:blipFill>
        <p:spPr>
          <a:xfrm>
            <a:off x="6026040" y="1990800"/>
            <a:ext cx="1789200" cy="2879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67" name="Figura4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581280" cy="2355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5612760" y="717480"/>
            <a:ext cx="212220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ookman Old Style"/>
              </a:rPr>
              <a:t>Scarlat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72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 più comuni agenti patogeni dell’O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52080" y="1676520"/>
            <a:ext cx="4233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incipali agenti eziologici dell’O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Streptococcus pneumonia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oraxella catarrhal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Streptococcus pyogen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ltri agenti eziologici di O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rus respiratorio sincinzia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rus influenzali A e 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rus parainfluenzali 1.2 e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denovir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Rhinovir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Clamydua trachomat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ycoplasma pneumonia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Norcadia astero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1460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30-40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5-30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5-20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-2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2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6400800" y="1523880"/>
            <a:ext cx="1295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Orientamenti terapeutici ed esiti attesi nell’O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70-80% dei casi l’oma può andare incontro a risoluzione spontanea nell’arco di 72 ore (Browning 1990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terapia antibiotica preco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accorcia il decorso della malatt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-previene l’insorgenza di complicazioni (mastoiditi e meningiti) e l’ evol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ll’ OMA in 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Orientamenti terapeutici ed esiti attesi nell’O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minopenicelline sono i farmaci di prima scelta (Rosenfeld 1996) (amoxocillina, amoxoclavulanico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)In Italia amoxi e amoxiclavulanico hanno riportato una sensibilità del 96% per S.Pneumonie e del 100% per altri microrganismi responsabili di OMA (Oss.Epidemiologico 199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) Hanno grande capacità di diffusione nell’orecchio me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)Costi contenu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Consigli pratici per la terapia dell’OM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crivi un antibiotico a tutti i bambini con O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oi decidere di aspettare 48-72 ore a tuo giudizio, se il caso lo cons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decidi di aspettare fai una visita con esame otoscopico a 48-72 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ntibiotico di 1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celta è l’amoxicillina o amoxiclavulanico perché si concentra nell’orecchio medio e perché la gran parte dei patogeni responsabili sono ad esso sensibi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Sinusite – Virale o batteric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Comic Sans MS"/>
              </a:rPr>
              <a:t>Vira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Breve e lie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sinusite si risolve entro 10 gior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 sintomi si risolvono entro 48 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Batter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ersistente e gr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-14 gior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 &gt; 39C (102F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olo nasale purul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spetto soffer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sse,scolo nasale n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lore periorbitale, iperestesia e gonfiore o cefalea negli adolesc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Sinusite Batterica - Tratta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ntomi lievi o moder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moxicillin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45mg/kg) per 10 gior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ntomi gravi o non responsivi o day c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moxicillina/acido clavulan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80 mg/kg/) per 10 gior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efaclor,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ftibuten, cefdinir, cefuroxi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sistente, cronica o complic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V cefotaxime, ceftriax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agini radiologiche, aspirazione, colorazione di Gram, e col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hirurg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utilizzare antistamin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800280" y="2631960"/>
            <a:ext cx="77612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mic Sans MS"/>
              </a:rPr>
              <a:t>I soli antibiotici non “curano” la rinosinusite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295280" y="1066680"/>
            <a:ext cx="650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Quindi è necessario…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66880" y="2362320"/>
            <a:ext cx="4016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iminazione dell’ostr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ttamento dell’inf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co de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ertura dell’ostio del s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olmonite - “Guessing the Pathogen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2262240"/>
            <a:ext cx="7696080" cy="32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esentazione della malatt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ag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adro radiologico (diffuso vs loba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osizione/ storia di viagg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Figura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63960" cy="3200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70" name="Figura6" descr=""/>
          <p:cNvPicPr/>
          <p:nvPr/>
        </p:nvPicPr>
        <p:blipFill>
          <a:blip r:embed="rId2"/>
          <a:stretch/>
        </p:blipFill>
        <p:spPr>
          <a:xfrm flipH="1">
            <a:off x="4266720" y="2625840"/>
            <a:ext cx="4665960" cy="30891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5550840" y="914400"/>
            <a:ext cx="240120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Bookman Old Style"/>
              </a:rPr>
              <a:t>Scarlat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838080"/>
            <a:ext cx="65278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Comuni microrganismi apparato respirato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coccus pneumoni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oraxella catarrhal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ycoplasma pneumoni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hlamydia pneumoni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Legionella pneumophila</a:t>
            </a:r>
            <a:br>
              <a:rPr sz="2000"/>
            </a:b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.aur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B.pertus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ram-negatives / anaerob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284720" y="3284640"/>
            <a:ext cx="144360" cy="1296720"/>
          </a:xfrm>
          <a:custGeom>
            <a:avLst/>
            <a:gdLst>
              <a:gd name="textAreaLeft" fmla="*/ 0 w 144360"/>
              <a:gd name="textAreaRight" fmla="*/ 101160 w 144360"/>
              <a:gd name="textAreaTop" fmla="*/ 54000 h 1296720"/>
              <a:gd name="textAreaBottom" fmla="*/ 1242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69120" y="378936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ogeni atip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4440" y="234720"/>
            <a:ext cx="64897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neumococcal Caps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720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olmonite Pneumococc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izio improvvi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teressamento lob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ebbre alta, leucocitosi ---batterem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minuzione improvvisa della febbre  (12-24 h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licata da  effusione pleurica, empiema, mening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nicelline farmaci di scelta; frequenti resistenze ai betalattam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olmonite da micoplas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une in età scolare e nei giovani adult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cubazione 2-3 settima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esentazione tutto l’an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raduale inizio di febbre, malessere, cefalea, tos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X grafia varia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esenza di  agglutinine a freddo, anticorpi anti mycoplasm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erapia: macroli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Community Acquired Pneumonia</a:t>
            </a:r>
            <a:br>
              <a:rPr sz="3600"/>
            </a:br>
            <a:r>
              <a:rPr b="0" lang="it-IT" sz="3200" spc="-1" strike="noStrike">
                <a:solidFill>
                  <a:srgbClr val="ff99cc"/>
                </a:solidFill>
                <a:latin typeface="Comic Sans MS"/>
              </a:rPr>
              <a:t>eti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4554360" y="3355920"/>
            <a:ext cx="2171880" cy="324000"/>
          </a:xfrm>
          <a:prstGeom prst="rect">
            <a:avLst/>
          </a:prstGeom>
          <a:solidFill>
            <a:srgbClr val="001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59400" y="3360600"/>
            <a:ext cx="2162160" cy="314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75080" y="2687760"/>
            <a:ext cx="1979280" cy="992160"/>
          </a:xfrm>
          <a:custGeom>
            <a:avLst/>
            <a:gdLst/>
            <a:ahLst/>
            <a:rect l="l" t="t" r="r" b="b"/>
            <a:pathLst>
              <a:path w="3742" h="1875">
                <a:moveTo>
                  <a:pt x="0" y="0"/>
                </a:moveTo>
                <a:lnTo>
                  <a:pt x="0" y="615"/>
                </a:lnTo>
                <a:lnTo>
                  <a:pt x="3742" y="1875"/>
                </a:lnTo>
                <a:lnTo>
                  <a:pt x="3742" y="1261"/>
                </a:lnTo>
                <a:lnTo>
                  <a:pt x="0" y="0"/>
                </a:lnTo>
                <a:close/>
              </a:path>
            </a:pathLst>
          </a:custGeom>
          <a:solidFill>
            <a:srgbClr val="001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75080" y="2687760"/>
            <a:ext cx="1979280" cy="992160"/>
          </a:xfrm>
          <a:custGeom>
            <a:avLst/>
            <a:gdLst/>
            <a:ahLst/>
            <a:rect l="l" t="t" r="r" b="b"/>
            <a:pathLst>
              <a:path w="3742" h="1875">
                <a:moveTo>
                  <a:pt x="0" y="0"/>
                </a:moveTo>
                <a:lnTo>
                  <a:pt x="0" y="615"/>
                </a:lnTo>
                <a:lnTo>
                  <a:pt x="3742" y="1875"/>
                </a:lnTo>
                <a:lnTo>
                  <a:pt x="3742" y="126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417920" y="3833640"/>
            <a:ext cx="2075040" cy="808200"/>
          </a:xfrm>
          <a:custGeom>
            <a:avLst/>
            <a:gdLst/>
            <a:ahLst/>
            <a:rect l="l" t="t" r="r" b="b"/>
            <a:pathLst>
              <a:path w="3919" h="1529">
                <a:moveTo>
                  <a:pt x="3919" y="915"/>
                </a:moveTo>
                <a:lnTo>
                  <a:pt x="3919" y="1529"/>
                </a:lnTo>
                <a:lnTo>
                  <a:pt x="0" y="614"/>
                </a:lnTo>
                <a:lnTo>
                  <a:pt x="0" y="0"/>
                </a:lnTo>
                <a:lnTo>
                  <a:pt x="3919" y="915"/>
                </a:lnTo>
                <a:close/>
              </a:path>
            </a:pathLst>
          </a:custGeom>
          <a:solidFill>
            <a:srgbClr val="001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7920" y="3833640"/>
            <a:ext cx="2075040" cy="808200"/>
          </a:xfrm>
          <a:custGeom>
            <a:avLst/>
            <a:gdLst/>
            <a:ahLst/>
            <a:rect l="l" t="t" r="r" b="b"/>
            <a:pathLst>
              <a:path w="3919" h="1529">
                <a:moveTo>
                  <a:pt x="3919" y="915"/>
                </a:moveTo>
                <a:lnTo>
                  <a:pt x="3919" y="1529"/>
                </a:lnTo>
                <a:lnTo>
                  <a:pt x="0" y="614"/>
                </a:lnTo>
                <a:lnTo>
                  <a:pt x="0" y="0"/>
                </a:lnTo>
                <a:lnTo>
                  <a:pt x="3919" y="9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88280" y="3833640"/>
            <a:ext cx="102960" cy="820800"/>
          </a:xfrm>
          <a:custGeom>
            <a:avLst/>
            <a:gdLst/>
            <a:ahLst/>
            <a:rect l="l" t="t" r="r" b="b"/>
            <a:pathLst>
              <a:path w="195" h="1551">
                <a:moveTo>
                  <a:pt x="0" y="936"/>
                </a:moveTo>
                <a:lnTo>
                  <a:pt x="84" y="711"/>
                </a:lnTo>
                <a:lnTo>
                  <a:pt x="144" y="479"/>
                </a:lnTo>
                <a:lnTo>
                  <a:pt x="182" y="242"/>
                </a:lnTo>
                <a:lnTo>
                  <a:pt x="195" y="0"/>
                </a:lnTo>
                <a:lnTo>
                  <a:pt x="195" y="614"/>
                </a:lnTo>
                <a:lnTo>
                  <a:pt x="182" y="856"/>
                </a:lnTo>
                <a:lnTo>
                  <a:pt x="144" y="1094"/>
                </a:lnTo>
                <a:lnTo>
                  <a:pt x="84" y="1325"/>
                </a:lnTo>
                <a:lnTo>
                  <a:pt x="0" y="1551"/>
                </a:lnTo>
                <a:lnTo>
                  <a:pt x="0" y="936"/>
                </a:lnTo>
                <a:close/>
              </a:path>
            </a:pathLst>
          </a:custGeom>
          <a:solidFill>
            <a:srgbClr val="001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488280" y="3833640"/>
            <a:ext cx="102960" cy="820800"/>
          </a:xfrm>
          <a:custGeom>
            <a:avLst/>
            <a:gdLst/>
            <a:ahLst/>
            <a:rect l="l" t="t" r="r" b="b"/>
            <a:pathLst>
              <a:path w="195" h="1551">
                <a:moveTo>
                  <a:pt x="0" y="936"/>
                </a:moveTo>
                <a:lnTo>
                  <a:pt x="84" y="711"/>
                </a:lnTo>
                <a:lnTo>
                  <a:pt x="144" y="479"/>
                </a:lnTo>
                <a:lnTo>
                  <a:pt x="182" y="242"/>
                </a:lnTo>
                <a:lnTo>
                  <a:pt x="195" y="0"/>
                </a:lnTo>
                <a:lnTo>
                  <a:pt x="195" y="614"/>
                </a:lnTo>
                <a:lnTo>
                  <a:pt x="182" y="856"/>
                </a:lnTo>
                <a:lnTo>
                  <a:pt x="144" y="1094"/>
                </a:lnTo>
                <a:lnTo>
                  <a:pt x="84" y="1325"/>
                </a:lnTo>
                <a:lnTo>
                  <a:pt x="0" y="1551"/>
                </a:lnTo>
                <a:lnTo>
                  <a:pt x="0" y="9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417920" y="3833640"/>
            <a:ext cx="1789200" cy="1249560"/>
          </a:xfrm>
          <a:custGeom>
            <a:avLst/>
            <a:gdLst/>
            <a:ahLst/>
            <a:rect l="l" t="t" r="r" b="b"/>
            <a:pathLst>
              <a:path w="3379" h="2362">
                <a:moveTo>
                  <a:pt x="3379" y="1748"/>
                </a:moveTo>
                <a:lnTo>
                  <a:pt x="3379" y="2362"/>
                </a:lnTo>
                <a:lnTo>
                  <a:pt x="0" y="614"/>
                </a:lnTo>
                <a:lnTo>
                  <a:pt x="0" y="0"/>
                </a:lnTo>
                <a:lnTo>
                  <a:pt x="3379" y="1748"/>
                </a:lnTo>
                <a:close/>
              </a:path>
            </a:pathLst>
          </a:custGeom>
          <a:solidFill>
            <a:srgbClr val="7f7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17920" y="3833640"/>
            <a:ext cx="1789200" cy="1249560"/>
          </a:xfrm>
          <a:custGeom>
            <a:avLst/>
            <a:gdLst/>
            <a:ahLst/>
            <a:rect l="l" t="t" r="r" b="b"/>
            <a:pathLst>
              <a:path w="3379" h="2362">
                <a:moveTo>
                  <a:pt x="3379" y="1748"/>
                </a:moveTo>
                <a:lnTo>
                  <a:pt x="3379" y="2362"/>
                </a:lnTo>
                <a:lnTo>
                  <a:pt x="0" y="614"/>
                </a:lnTo>
                <a:lnTo>
                  <a:pt x="0" y="0"/>
                </a:lnTo>
                <a:lnTo>
                  <a:pt x="3379" y="174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02440" y="4329000"/>
            <a:ext cx="285840" cy="758880"/>
          </a:xfrm>
          <a:custGeom>
            <a:avLst/>
            <a:gdLst/>
            <a:ahLst/>
            <a:rect l="l" t="t" r="r" b="b"/>
            <a:pathLst>
              <a:path w="540" h="1436">
                <a:moveTo>
                  <a:pt x="0" y="821"/>
                </a:moveTo>
                <a:lnTo>
                  <a:pt x="165" y="629"/>
                </a:lnTo>
                <a:lnTo>
                  <a:pt x="309" y="427"/>
                </a:lnTo>
                <a:lnTo>
                  <a:pt x="436" y="217"/>
                </a:lnTo>
                <a:lnTo>
                  <a:pt x="540" y="0"/>
                </a:lnTo>
                <a:lnTo>
                  <a:pt x="540" y="615"/>
                </a:lnTo>
                <a:lnTo>
                  <a:pt x="436" y="832"/>
                </a:lnTo>
                <a:lnTo>
                  <a:pt x="309" y="1042"/>
                </a:lnTo>
                <a:lnTo>
                  <a:pt x="165" y="1244"/>
                </a:lnTo>
                <a:lnTo>
                  <a:pt x="0" y="1436"/>
                </a:lnTo>
                <a:lnTo>
                  <a:pt x="0" y="821"/>
                </a:lnTo>
                <a:close/>
              </a:path>
            </a:pathLst>
          </a:custGeom>
          <a:solidFill>
            <a:srgbClr val="7f7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202440" y="4329000"/>
            <a:ext cx="285840" cy="758880"/>
          </a:xfrm>
          <a:custGeom>
            <a:avLst/>
            <a:gdLst/>
            <a:ahLst/>
            <a:rect l="l" t="t" r="r" b="b"/>
            <a:pathLst>
              <a:path w="540" h="1436">
                <a:moveTo>
                  <a:pt x="0" y="821"/>
                </a:moveTo>
                <a:lnTo>
                  <a:pt x="165" y="629"/>
                </a:lnTo>
                <a:lnTo>
                  <a:pt x="309" y="427"/>
                </a:lnTo>
                <a:lnTo>
                  <a:pt x="436" y="217"/>
                </a:lnTo>
                <a:lnTo>
                  <a:pt x="540" y="0"/>
                </a:lnTo>
                <a:lnTo>
                  <a:pt x="540" y="615"/>
                </a:lnTo>
                <a:lnTo>
                  <a:pt x="436" y="832"/>
                </a:lnTo>
                <a:lnTo>
                  <a:pt x="309" y="1042"/>
                </a:lnTo>
                <a:lnTo>
                  <a:pt x="165" y="1244"/>
                </a:lnTo>
                <a:lnTo>
                  <a:pt x="0" y="1436"/>
                </a:lnTo>
                <a:lnTo>
                  <a:pt x="0" y="8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202440" y="4329000"/>
            <a:ext cx="285840" cy="758880"/>
          </a:xfrm>
          <a:custGeom>
            <a:avLst/>
            <a:gdLst/>
            <a:ahLst/>
            <a:rect l="l" t="t" r="r" b="b"/>
            <a:pathLst>
              <a:path w="540" h="1436">
                <a:moveTo>
                  <a:pt x="540" y="0"/>
                </a:moveTo>
                <a:lnTo>
                  <a:pt x="436" y="217"/>
                </a:lnTo>
                <a:lnTo>
                  <a:pt x="309" y="427"/>
                </a:lnTo>
                <a:lnTo>
                  <a:pt x="165" y="629"/>
                </a:lnTo>
                <a:lnTo>
                  <a:pt x="0" y="821"/>
                </a:lnTo>
                <a:lnTo>
                  <a:pt x="0" y="1436"/>
                </a:lnTo>
                <a:lnTo>
                  <a:pt x="165" y="1244"/>
                </a:lnTo>
                <a:lnTo>
                  <a:pt x="309" y="1042"/>
                </a:lnTo>
                <a:lnTo>
                  <a:pt x="436" y="832"/>
                </a:lnTo>
                <a:lnTo>
                  <a:pt x="540" y="615"/>
                </a:lnTo>
                <a:lnTo>
                  <a:pt x="540" y="0"/>
                </a:lnTo>
                <a:close/>
              </a:path>
            </a:pathLst>
          </a:custGeom>
          <a:solidFill>
            <a:srgbClr val="7f7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02440" y="4329000"/>
            <a:ext cx="285840" cy="758880"/>
          </a:xfrm>
          <a:custGeom>
            <a:avLst/>
            <a:gdLst/>
            <a:ahLst/>
            <a:rect l="l" t="t" r="r" b="b"/>
            <a:pathLst>
              <a:path w="540" h="1436">
                <a:moveTo>
                  <a:pt x="540" y="0"/>
                </a:moveTo>
                <a:lnTo>
                  <a:pt x="436" y="217"/>
                </a:lnTo>
                <a:lnTo>
                  <a:pt x="309" y="427"/>
                </a:lnTo>
                <a:lnTo>
                  <a:pt x="165" y="629"/>
                </a:lnTo>
                <a:lnTo>
                  <a:pt x="0" y="821"/>
                </a:lnTo>
                <a:lnTo>
                  <a:pt x="0" y="1436"/>
                </a:lnTo>
                <a:lnTo>
                  <a:pt x="165" y="1244"/>
                </a:lnTo>
                <a:lnTo>
                  <a:pt x="309" y="1042"/>
                </a:lnTo>
                <a:lnTo>
                  <a:pt x="436" y="832"/>
                </a:lnTo>
                <a:lnTo>
                  <a:pt x="540" y="615"/>
                </a:lnTo>
                <a:lnTo>
                  <a:pt x="54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17920" y="3833640"/>
            <a:ext cx="1627200" cy="1403640"/>
          </a:xfrm>
          <a:custGeom>
            <a:avLst/>
            <a:gdLst/>
            <a:ahLst/>
            <a:rect l="l" t="t" r="r" b="b"/>
            <a:pathLst>
              <a:path w="3074" h="2654">
                <a:moveTo>
                  <a:pt x="3074" y="2039"/>
                </a:moveTo>
                <a:lnTo>
                  <a:pt x="3074" y="2654"/>
                </a:lnTo>
                <a:lnTo>
                  <a:pt x="0" y="614"/>
                </a:lnTo>
                <a:lnTo>
                  <a:pt x="0" y="0"/>
                </a:lnTo>
                <a:lnTo>
                  <a:pt x="3074" y="2039"/>
                </a:lnTo>
                <a:close/>
              </a:path>
            </a:pathLst>
          </a:custGeom>
          <a:solidFill>
            <a:srgbClr val="7f5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17920" y="3833640"/>
            <a:ext cx="1627200" cy="1403640"/>
          </a:xfrm>
          <a:custGeom>
            <a:avLst/>
            <a:gdLst/>
            <a:ahLst/>
            <a:rect l="l" t="t" r="r" b="b"/>
            <a:pathLst>
              <a:path w="3074" h="2654">
                <a:moveTo>
                  <a:pt x="3074" y="2039"/>
                </a:moveTo>
                <a:lnTo>
                  <a:pt x="3074" y="2654"/>
                </a:lnTo>
                <a:lnTo>
                  <a:pt x="0" y="614"/>
                </a:lnTo>
                <a:lnTo>
                  <a:pt x="0" y="0"/>
                </a:lnTo>
                <a:lnTo>
                  <a:pt x="3074" y="20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43680" y="4762440"/>
            <a:ext cx="158760" cy="476280"/>
          </a:xfrm>
          <a:custGeom>
            <a:avLst/>
            <a:gdLst/>
            <a:ahLst/>
            <a:rect l="l" t="t" r="r" b="b"/>
            <a:pathLst>
              <a:path w="299" h="900">
                <a:moveTo>
                  <a:pt x="0" y="285"/>
                </a:moveTo>
                <a:lnTo>
                  <a:pt x="155" y="146"/>
                </a:lnTo>
                <a:lnTo>
                  <a:pt x="299" y="0"/>
                </a:lnTo>
                <a:lnTo>
                  <a:pt x="299" y="615"/>
                </a:lnTo>
                <a:lnTo>
                  <a:pt x="155" y="761"/>
                </a:lnTo>
                <a:lnTo>
                  <a:pt x="0" y="900"/>
                </a:lnTo>
                <a:lnTo>
                  <a:pt x="0" y="285"/>
                </a:lnTo>
                <a:close/>
              </a:path>
            </a:pathLst>
          </a:custGeom>
          <a:solidFill>
            <a:srgbClr val="7f5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43680" y="4762440"/>
            <a:ext cx="158760" cy="476280"/>
          </a:xfrm>
          <a:custGeom>
            <a:avLst/>
            <a:gdLst/>
            <a:ahLst/>
            <a:rect l="l" t="t" r="r" b="b"/>
            <a:pathLst>
              <a:path w="299" h="900">
                <a:moveTo>
                  <a:pt x="0" y="285"/>
                </a:moveTo>
                <a:lnTo>
                  <a:pt x="155" y="146"/>
                </a:lnTo>
                <a:lnTo>
                  <a:pt x="299" y="0"/>
                </a:lnTo>
                <a:lnTo>
                  <a:pt x="299" y="615"/>
                </a:lnTo>
                <a:lnTo>
                  <a:pt x="155" y="761"/>
                </a:lnTo>
                <a:lnTo>
                  <a:pt x="0" y="900"/>
                </a:lnTo>
                <a:lnTo>
                  <a:pt x="0" y="2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43680" y="4762440"/>
            <a:ext cx="158760" cy="476280"/>
          </a:xfrm>
          <a:custGeom>
            <a:avLst/>
            <a:gdLst/>
            <a:ahLst/>
            <a:rect l="l" t="t" r="r" b="b"/>
            <a:pathLst>
              <a:path w="299" h="900">
                <a:moveTo>
                  <a:pt x="299" y="0"/>
                </a:moveTo>
                <a:lnTo>
                  <a:pt x="155" y="146"/>
                </a:lnTo>
                <a:lnTo>
                  <a:pt x="0" y="285"/>
                </a:lnTo>
                <a:lnTo>
                  <a:pt x="0" y="900"/>
                </a:lnTo>
                <a:lnTo>
                  <a:pt x="155" y="761"/>
                </a:lnTo>
                <a:lnTo>
                  <a:pt x="299" y="615"/>
                </a:lnTo>
                <a:lnTo>
                  <a:pt x="299" y="0"/>
                </a:lnTo>
                <a:close/>
              </a:path>
            </a:pathLst>
          </a:custGeom>
          <a:solidFill>
            <a:srgbClr val="7f5f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43680" y="4762440"/>
            <a:ext cx="158760" cy="476280"/>
          </a:xfrm>
          <a:custGeom>
            <a:avLst/>
            <a:gdLst/>
            <a:ahLst/>
            <a:rect l="l" t="t" r="r" b="b"/>
            <a:pathLst>
              <a:path w="299" h="900">
                <a:moveTo>
                  <a:pt x="299" y="0"/>
                </a:moveTo>
                <a:lnTo>
                  <a:pt x="155" y="146"/>
                </a:lnTo>
                <a:lnTo>
                  <a:pt x="0" y="285"/>
                </a:lnTo>
                <a:lnTo>
                  <a:pt x="0" y="900"/>
                </a:lnTo>
                <a:lnTo>
                  <a:pt x="155" y="761"/>
                </a:lnTo>
                <a:lnTo>
                  <a:pt x="299" y="615"/>
                </a:lnTo>
                <a:lnTo>
                  <a:pt x="29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17920" y="3833640"/>
            <a:ext cx="522360" cy="1905120"/>
          </a:xfrm>
          <a:custGeom>
            <a:avLst/>
            <a:gdLst/>
            <a:ahLst/>
            <a:rect l="l" t="t" r="r" b="b"/>
            <a:pathLst>
              <a:path w="987" h="3602">
                <a:moveTo>
                  <a:pt x="987" y="2988"/>
                </a:moveTo>
                <a:lnTo>
                  <a:pt x="987" y="3602"/>
                </a:lnTo>
                <a:lnTo>
                  <a:pt x="0" y="614"/>
                </a:lnTo>
                <a:lnTo>
                  <a:pt x="0" y="0"/>
                </a:lnTo>
                <a:lnTo>
                  <a:pt x="987" y="298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417920" y="3833640"/>
            <a:ext cx="522360" cy="1905120"/>
          </a:xfrm>
          <a:custGeom>
            <a:avLst/>
            <a:gdLst/>
            <a:ahLst/>
            <a:rect l="l" t="t" r="r" b="b"/>
            <a:pathLst>
              <a:path w="987" h="3602">
                <a:moveTo>
                  <a:pt x="987" y="2988"/>
                </a:moveTo>
                <a:lnTo>
                  <a:pt x="987" y="3602"/>
                </a:lnTo>
                <a:lnTo>
                  <a:pt x="0" y="614"/>
                </a:lnTo>
                <a:lnTo>
                  <a:pt x="0" y="0"/>
                </a:lnTo>
                <a:lnTo>
                  <a:pt x="987" y="298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56120" y="4913280"/>
            <a:ext cx="1087560" cy="824040"/>
          </a:xfrm>
          <a:custGeom>
            <a:avLst/>
            <a:gdLst/>
            <a:ahLst/>
            <a:rect l="l" t="t" r="r" b="b"/>
            <a:pathLst>
              <a:path w="2056" h="1556">
                <a:moveTo>
                  <a:pt x="0" y="941"/>
                </a:moveTo>
                <a:lnTo>
                  <a:pt x="298" y="875"/>
                </a:lnTo>
                <a:lnTo>
                  <a:pt x="586" y="793"/>
                </a:lnTo>
                <a:lnTo>
                  <a:pt x="864" y="695"/>
                </a:lnTo>
                <a:lnTo>
                  <a:pt x="1129" y="583"/>
                </a:lnTo>
                <a:lnTo>
                  <a:pt x="1382" y="456"/>
                </a:lnTo>
                <a:lnTo>
                  <a:pt x="1622" y="317"/>
                </a:lnTo>
                <a:lnTo>
                  <a:pt x="1847" y="165"/>
                </a:lnTo>
                <a:lnTo>
                  <a:pt x="2056" y="0"/>
                </a:lnTo>
                <a:lnTo>
                  <a:pt x="2056" y="615"/>
                </a:lnTo>
                <a:lnTo>
                  <a:pt x="1847" y="779"/>
                </a:lnTo>
                <a:lnTo>
                  <a:pt x="1622" y="931"/>
                </a:lnTo>
                <a:lnTo>
                  <a:pt x="1382" y="1071"/>
                </a:lnTo>
                <a:lnTo>
                  <a:pt x="1129" y="1197"/>
                </a:lnTo>
                <a:lnTo>
                  <a:pt x="864" y="1310"/>
                </a:lnTo>
                <a:lnTo>
                  <a:pt x="586" y="1408"/>
                </a:lnTo>
                <a:lnTo>
                  <a:pt x="298" y="1490"/>
                </a:lnTo>
                <a:lnTo>
                  <a:pt x="0" y="1556"/>
                </a:lnTo>
                <a:lnTo>
                  <a:pt x="0" y="9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6120" y="4913280"/>
            <a:ext cx="1087560" cy="824040"/>
          </a:xfrm>
          <a:custGeom>
            <a:avLst/>
            <a:gdLst/>
            <a:ahLst/>
            <a:rect l="l" t="t" r="r" b="b"/>
            <a:pathLst>
              <a:path w="2056" h="1556">
                <a:moveTo>
                  <a:pt x="0" y="941"/>
                </a:moveTo>
                <a:lnTo>
                  <a:pt x="298" y="875"/>
                </a:lnTo>
                <a:lnTo>
                  <a:pt x="586" y="793"/>
                </a:lnTo>
                <a:lnTo>
                  <a:pt x="864" y="695"/>
                </a:lnTo>
                <a:lnTo>
                  <a:pt x="1129" y="583"/>
                </a:lnTo>
                <a:lnTo>
                  <a:pt x="1382" y="456"/>
                </a:lnTo>
                <a:lnTo>
                  <a:pt x="1622" y="317"/>
                </a:lnTo>
                <a:lnTo>
                  <a:pt x="1847" y="165"/>
                </a:lnTo>
                <a:lnTo>
                  <a:pt x="2056" y="0"/>
                </a:lnTo>
                <a:lnTo>
                  <a:pt x="2056" y="615"/>
                </a:lnTo>
                <a:lnTo>
                  <a:pt x="1847" y="779"/>
                </a:lnTo>
                <a:lnTo>
                  <a:pt x="1622" y="931"/>
                </a:lnTo>
                <a:lnTo>
                  <a:pt x="1382" y="1071"/>
                </a:lnTo>
                <a:lnTo>
                  <a:pt x="1129" y="1197"/>
                </a:lnTo>
                <a:lnTo>
                  <a:pt x="864" y="1310"/>
                </a:lnTo>
                <a:lnTo>
                  <a:pt x="586" y="1408"/>
                </a:lnTo>
                <a:lnTo>
                  <a:pt x="298" y="1490"/>
                </a:lnTo>
                <a:lnTo>
                  <a:pt x="0" y="1556"/>
                </a:lnTo>
                <a:lnTo>
                  <a:pt x="0" y="94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56120" y="4913280"/>
            <a:ext cx="1087560" cy="824040"/>
          </a:xfrm>
          <a:custGeom>
            <a:avLst/>
            <a:gdLst/>
            <a:ahLst/>
            <a:rect l="l" t="t" r="r" b="b"/>
            <a:pathLst>
              <a:path w="2056" h="1556">
                <a:moveTo>
                  <a:pt x="2056" y="0"/>
                </a:moveTo>
                <a:lnTo>
                  <a:pt x="1847" y="165"/>
                </a:lnTo>
                <a:lnTo>
                  <a:pt x="1622" y="317"/>
                </a:lnTo>
                <a:lnTo>
                  <a:pt x="1382" y="456"/>
                </a:lnTo>
                <a:lnTo>
                  <a:pt x="1129" y="583"/>
                </a:lnTo>
                <a:lnTo>
                  <a:pt x="864" y="695"/>
                </a:lnTo>
                <a:lnTo>
                  <a:pt x="586" y="793"/>
                </a:lnTo>
                <a:lnTo>
                  <a:pt x="298" y="875"/>
                </a:lnTo>
                <a:lnTo>
                  <a:pt x="0" y="941"/>
                </a:lnTo>
                <a:lnTo>
                  <a:pt x="0" y="1556"/>
                </a:lnTo>
                <a:lnTo>
                  <a:pt x="298" y="1490"/>
                </a:lnTo>
                <a:lnTo>
                  <a:pt x="586" y="1408"/>
                </a:lnTo>
                <a:lnTo>
                  <a:pt x="864" y="1310"/>
                </a:lnTo>
                <a:lnTo>
                  <a:pt x="1129" y="1197"/>
                </a:lnTo>
                <a:lnTo>
                  <a:pt x="1382" y="1071"/>
                </a:lnTo>
                <a:lnTo>
                  <a:pt x="1622" y="931"/>
                </a:lnTo>
                <a:lnTo>
                  <a:pt x="1847" y="779"/>
                </a:lnTo>
                <a:lnTo>
                  <a:pt x="2056" y="615"/>
                </a:lnTo>
                <a:lnTo>
                  <a:pt x="2056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56120" y="4913280"/>
            <a:ext cx="1087560" cy="824040"/>
          </a:xfrm>
          <a:custGeom>
            <a:avLst/>
            <a:gdLst/>
            <a:ahLst/>
            <a:rect l="l" t="t" r="r" b="b"/>
            <a:pathLst>
              <a:path w="2056" h="1556">
                <a:moveTo>
                  <a:pt x="2056" y="0"/>
                </a:moveTo>
                <a:lnTo>
                  <a:pt x="1847" y="165"/>
                </a:lnTo>
                <a:lnTo>
                  <a:pt x="1622" y="317"/>
                </a:lnTo>
                <a:lnTo>
                  <a:pt x="1382" y="456"/>
                </a:lnTo>
                <a:lnTo>
                  <a:pt x="1129" y="583"/>
                </a:lnTo>
                <a:lnTo>
                  <a:pt x="864" y="695"/>
                </a:lnTo>
                <a:lnTo>
                  <a:pt x="586" y="793"/>
                </a:lnTo>
                <a:lnTo>
                  <a:pt x="298" y="875"/>
                </a:lnTo>
                <a:lnTo>
                  <a:pt x="0" y="941"/>
                </a:lnTo>
                <a:lnTo>
                  <a:pt x="0" y="1556"/>
                </a:lnTo>
                <a:lnTo>
                  <a:pt x="298" y="1490"/>
                </a:lnTo>
                <a:lnTo>
                  <a:pt x="586" y="1408"/>
                </a:lnTo>
                <a:lnTo>
                  <a:pt x="864" y="1310"/>
                </a:lnTo>
                <a:lnTo>
                  <a:pt x="1129" y="1197"/>
                </a:lnTo>
                <a:lnTo>
                  <a:pt x="1382" y="1071"/>
                </a:lnTo>
                <a:lnTo>
                  <a:pt x="1622" y="931"/>
                </a:lnTo>
                <a:lnTo>
                  <a:pt x="1847" y="779"/>
                </a:lnTo>
                <a:lnTo>
                  <a:pt x="2056" y="615"/>
                </a:lnTo>
                <a:lnTo>
                  <a:pt x="205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63680" y="3833640"/>
            <a:ext cx="2154240" cy="522360"/>
          </a:xfrm>
          <a:custGeom>
            <a:avLst/>
            <a:gdLst/>
            <a:ahLst/>
            <a:rect l="l" t="t" r="r" b="b"/>
            <a:pathLst>
              <a:path w="4073" h="989">
                <a:moveTo>
                  <a:pt x="0" y="375"/>
                </a:moveTo>
                <a:lnTo>
                  <a:pt x="0" y="989"/>
                </a:lnTo>
                <a:lnTo>
                  <a:pt x="4073" y="614"/>
                </a:lnTo>
                <a:lnTo>
                  <a:pt x="4073" y="0"/>
                </a:lnTo>
                <a:lnTo>
                  <a:pt x="0" y="375"/>
                </a:lnTo>
                <a:close/>
              </a:path>
            </a:pathLst>
          </a:custGeom>
          <a:solidFill>
            <a:srgbClr val="5f0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63680" y="3833640"/>
            <a:ext cx="2154240" cy="522360"/>
          </a:xfrm>
          <a:custGeom>
            <a:avLst/>
            <a:gdLst/>
            <a:ahLst/>
            <a:rect l="l" t="t" r="r" b="b"/>
            <a:pathLst>
              <a:path w="4073" h="989">
                <a:moveTo>
                  <a:pt x="0" y="375"/>
                </a:moveTo>
                <a:lnTo>
                  <a:pt x="0" y="989"/>
                </a:lnTo>
                <a:lnTo>
                  <a:pt x="4073" y="614"/>
                </a:lnTo>
                <a:lnTo>
                  <a:pt x="4073" y="0"/>
                </a:lnTo>
                <a:lnTo>
                  <a:pt x="0" y="37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46400" y="3833640"/>
            <a:ext cx="17280" cy="530280"/>
          </a:xfrm>
          <a:custGeom>
            <a:avLst/>
            <a:gdLst/>
            <a:ahLst/>
            <a:rect l="l" t="t" r="r" b="b"/>
            <a:pathLst>
              <a:path w="32" h="1004">
                <a:moveTo>
                  <a:pt x="32" y="390"/>
                </a:moveTo>
                <a:lnTo>
                  <a:pt x="7" y="196"/>
                </a:lnTo>
                <a:lnTo>
                  <a:pt x="0" y="0"/>
                </a:lnTo>
                <a:lnTo>
                  <a:pt x="0" y="614"/>
                </a:lnTo>
                <a:lnTo>
                  <a:pt x="7" y="811"/>
                </a:lnTo>
                <a:lnTo>
                  <a:pt x="32" y="1004"/>
                </a:lnTo>
                <a:lnTo>
                  <a:pt x="32" y="390"/>
                </a:lnTo>
                <a:close/>
              </a:path>
            </a:pathLst>
          </a:custGeom>
          <a:solidFill>
            <a:srgbClr val="5f0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46400" y="3833640"/>
            <a:ext cx="17280" cy="530280"/>
          </a:xfrm>
          <a:custGeom>
            <a:avLst/>
            <a:gdLst/>
            <a:ahLst/>
            <a:rect l="l" t="t" r="r" b="b"/>
            <a:pathLst>
              <a:path w="32" h="1004">
                <a:moveTo>
                  <a:pt x="32" y="390"/>
                </a:moveTo>
                <a:lnTo>
                  <a:pt x="7" y="196"/>
                </a:lnTo>
                <a:lnTo>
                  <a:pt x="0" y="0"/>
                </a:lnTo>
                <a:lnTo>
                  <a:pt x="0" y="614"/>
                </a:lnTo>
                <a:lnTo>
                  <a:pt x="7" y="811"/>
                </a:lnTo>
                <a:lnTo>
                  <a:pt x="32" y="1004"/>
                </a:lnTo>
                <a:lnTo>
                  <a:pt x="32" y="3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263680" y="4040280"/>
            <a:ext cx="2692440" cy="1746000"/>
          </a:xfrm>
          <a:custGeom>
            <a:avLst/>
            <a:gdLst/>
            <a:ahLst/>
            <a:rect l="l" t="t" r="r" b="b"/>
            <a:pathLst>
              <a:path w="5087" h="3302">
                <a:moveTo>
                  <a:pt x="0" y="0"/>
                </a:moveTo>
                <a:lnTo>
                  <a:pt x="28" y="140"/>
                </a:lnTo>
                <a:lnTo>
                  <a:pt x="65" y="280"/>
                </a:lnTo>
                <a:lnTo>
                  <a:pt x="109" y="416"/>
                </a:lnTo>
                <a:lnTo>
                  <a:pt x="162" y="550"/>
                </a:lnTo>
                <a:lnTo>
                  <a:pt x="223" y="681"/>
                </a:lnTo>
                <a:lnTo>
                  <a:pt x="292" y="810"/>
                </a:lnTo>
                <a:lnTo>
                  <a:pt x="368" y="936"/>
                </a:lnTo>
                <a:lnTo>
                  <a:pt x="450" y="1058"/>
                </a:lnTo>
                <a:lnTo>
                  <a:pt x="636" y="1294"/>
                </a:lnTo>
                <a:lnTo>
                  <a:pt x="849" y="1515"/>
                </a:lnTo>
                <a:lnTo>
                  <a:pt x="965" y="1621"/>
                </a:lnTo>
                <a:lnTo>
                  <a:pt x="1087" y="1722"/>
                </a:lnTo>
                <a:lnTo>
                  <a:pt x="1214" y="1819"/>
                </a:lnTo>
                <a:lnTo>
                  <a:pt x="1347" y="1912"/>
                </a:lnTo>
                <a:lnTo>
                  <a:pt x="1630" y="2083"/>
                </a:lnTo>
                <a:lnTo>
                  <a:pt x="1932" y="2236"/>
                </a:lnTo>
                <a:lnTo>
                  <a:pt x="2090" y="2305"/>
                </a:lnTo>
                <a:lnTo>
                  <a:pt x="2252" y="2369"/>
                </a:lnTo>
                <a:lnTo>
                  <a:pt x="2419" y="2427"/>
                </a:lnTo>
                <a:lnTo>
                  <a:pt x="2589" y="2480"/>
                </a:lnTo>
                <a:lnTo>
                  <a:pt x="2763" y="2527"/>
                </a:lnTo>
                <a:lnTo>
                  <a:pt x="2941" y="2568"/>
                </a:lnTo>
                <a:lnTo>
                  <a:pt x="3123" y="2604"/>
                </a:lnTo>
                <a:lnTo>
                  <a:pt x="3307" y="2633"/>
                </a:lnTo>
                <a:lnTo>
                  <a:pt x="3495" y="2657"/>
                </a:lnTo>
                <a:lnTo>
                  <a:pt x="3685" y="2673"/>
                </a:lnTo>
                <a:lnTo>
                  <a:pt x="3877" y="2683"/>
                </a:lnTo>
                <a:lnTo>
                  <a:pt x="4072" y="2687"/>
                </a:lnTo>
                <a:lnTo>
                  <a:pt x="4333" y="2681"/>
                </a:lnTo>
                <a:lnTo>
                  <a:pt x="4589" y="2662"/>
                </a:lnTo>
                <a:lnTo>
                  <a:pt x="4840" y="2632"/>
                </a:lnTo>
                <a:lnTo>
                  <a:pt x="5087" y="2592"/>
                </a:lnTo>
                <a:lnTo>
                  <a:pt x="5087" y="3207"/>
                </a:lnTo>
                <a:lnTo>
                  <a:pt x="4840" y="3247"/>
                </a:lnTo>
                <a:lnTo>
                  <a:pt x="4589" y="3277"/>
                </a:lnTo>
                <a:lnTo>
                  <a:pt x="4333" y="3295"/>
                </a:lnTo>
                <a:lnTo>
                  <a:pt x="4072" y="3302"/>
                </a:lnTo>
                <a:lnTo>
                  <a:pt x="3877" y="3298"/>
                </a:lnTo>
                <a:lnTo>
                  <a:pt x="3685" y="3288"/>
                </a:lnTo>
                <a:lnTo>
                  <a:pt x="3495" y="3272"/>
                </a:lnTo>
                <a:lnTo>
                  <a:pt x="3307" y="3248"/>
                </a:lnTo>
                <a:lnTo>
                  <a:pt x="3123" y="3219"/>
                </a:lnTo>
                <a:lnTo>
                  <a:pt x="2941" y="3183"/>
                </a:lnTo>
                <a:lnTo>
                  <a:pt x="2763" y="3142"/>
                </a:lnTo>
                <a:lnTo>
                  <a:pt x="2589" y="3094"/>
                </a:lnTo>
                <a:lnTo>
                  <a:pt x="2419" y="3042"/>
                </a:lnTo>
                <a:lnTo>
                  <a:pt x="2252" y="2983"/>
                </a:lnTo>
                <a:lnTo>
                  <a:pt x="2090" y="2919"/>
                </a:lnTo>
                <a:lnTo>
                  <a:pt x="1932" y="2850"/>
                </a:lnTo>
                <a:lnTo>
                  <a:pt x="1630" y="2698"/>
                </a:lnTo>
                <a:lnTo>
                  <a:pt x="1347" y="2526"/>
                </a:lnTo>
                <a:lnTo>
                  <a:pt x="1214" y="2433"/>
                </a:lnTo>
                <a:lnTo>
                  <a:pt x="1087" y="2336"/>
                </a:lnTo>
                <a:lnTo>
                  <a:pt x="965" y="2236"/>
                </a:lnTo>
                <a:lnTo>
                  <a:pt x="849" y="2130"/>
                </a:lnTo>
                <a:lnTo>
                  <a:pt x="636" y="1908"/>
                </a:lnTo>
                <a:lnTo>
                  <a:pt x="450" y="1673"/>
                </a:lnTo>
                <a:lnTo>
                  <a:pt x="368" y="1551"/>
                </a:lnTo>
                <a:lnTo>
                  <a:pt x="292" y="1425"/>
                </a:lnTo>
                <a:lnTo>
                  <a:pt x="223" y="1296"/>
                </a:lnTo>
                <a:lnTo>
                  <a:pt x="162" y="1164"/>
                </a:lnTo>
                <a:lnTo>
                  <a:pt x="109" y="1030"/>
                </a:lnTo>
                <a:lnTo>
                  <a:pt x="65" y="894"/>
                </a:lnTo>
                <a:lnTo>
                  <a:pt x="28" y="755"/>
                </a:lnTo>
                <a:lnTo>
                  <a:pt x="0" y="614"/>
                </a:lnTo>
                <a:lnTo>
                  <a:pt x="0" y="0"/>
                </a:lnTo>
                <a:close/>
              </a:path>
            </a:pathLst>
          </a:custGeom>
          <a:solidFill>
            <a:srgbClr val="7f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263680" y="4040280"/>
            <a:ext cx="2692440" cy="1746000"/>
          </a:xfrm>
          <a:custGeom>
            <a:avLst/>
            <a:gdLst/>
            <a:ahLst/>
            <a:rect l="l" t="t" r="r" b="b"/>
            <a:pathLst>
              <a:path w="5087" h="3302">
                <a:moveTo>
                  <a:pt x="0" y="0"/>
                </a:moveTo>
                <a:lnTo>
                  <a:pt x="28" y="140"/>
                </a:lnTo>
                <a:lnTo>
                  <a:pt x="65" y="280"/>
                </a:lnTo>
                <a:lnTo>
                  <a:pt x="109" y="416"/>
                </a:lnTo>
                <a:lnTo>
                  <a:pt x="162" y="550"/>
                </a:lnTo>
                <a:lnTo>
                  <a:pt x="223" y="681"/>
                </a:lnTo>
                <a:lnTo>
                  <a:pt x="292" y="810"/>
                </a:lnTo>
                <a:lnTo>
                  <a:pt x="368" y="936"/>
                </a:lnTo>
                <a:lnTo>
                  <a:pt x="450" y="1058"/>
                </a:lnTo>
                <a:lnTo>
                  <a:pt x="636" y="1294"/>
                </a:lnTo>
                <a:lnTo>
                  <a:pt x="849" y="1515"/>
                </a:lnTo>
                <a:lnTo>
                  <a:pt x="965" y="1621"/>
                </a:lnTo>
                <a:lnTo>
                  <a:pt x="1087" y="1722"/>
                </a:lnTo>
                <a:lnTo>
                  <a:pt x="1214" y="1819"/>
                </a:lnTo>
                <a:lnTo>
                  <a:pt x="1347" y="1912"/>
                </a:lnTo>
                <a:lnTo>
                  <a:pt x="1630" y="2083"/>
                </a:lnTo>
                <a:lnTo>
                  <a:pt x="1932" y="2236"/>
                </a:lnTo>
                <a:lnTo>
                  <a:pt x="2090" y="2305"/>
                </a:lnTo>
                <a:lnTo>
                  <a:pt x="2252" y="2369"/>
                </a:lnTo>
                <a:lnTo>
                  <a:pt x="2419" y="2427"/>
                </a:lnTo>
                <a:lnTo>
                  <a:pt x="2589" y="2480"/>
                </a:lnTo>
                <a:lnTo>
                  <a:pt x="2763" y="2527"/>
                </a:lnTo>
                <a:lnTo>
                  <a:pt x="2941" y="2568"/>
                </a:lnTo>
                <a:lnTo>
                  <a:pt x="3123" y="2604"/>
                </a:lnTo>
                <a:lnTo>
                  <a:pt x="3307" y="2633"/>
                </a:lnTo>
                <a:lnTo>
                  <a:pt x="3495" y="2657"/>
                </a:lnTo>
                <a:lnTo>
                  <a:pt x="3685" y="2673"/>
                </a:lnTo>
                <a:lnTo>
                  <a:pt x="3877" y="2683"/>
                </a:lnTo>
                <a:lnTo>
                  <a:pt x="4072" y="2687"/>
                </a:lnTo>
                <a:lnTo>
                  <a:pt x="4333" y="2681"/>
                </a:lnTo>
                <a:lnTo>
                  <a:pt x="4589" y="2662"/>
                </a:lnTo>
                <a:lnTo>
                  <a:pt x="4840" y="2632"/>
                </a:lnTo>
                <a:lnTo>
                  <a:pt x="5087" y="2592"/>
                </a:lnTo>
                <a:lnTo>
                  <a:pt x="5087" y="3207"/>
                </a:lnTo>
                <a:lnTo>
                  <a:pt x="4840" y="3247"/>
                </a:lnTo>
                <a:lnTo>
                  <a:pt x="4589" y="3277"/>
                </a:lnTo>
                <a:lnTo>
                  <a:pt x="4333" y="3295"/>
                </a:lnTo>
                <a:lnTo>
                  <a:pt x="4072" y="3302"/>
                </a:lnTo>
                <a:lnTo>
                  <a:pt x="3877" y="3298"/>
                </a:lnTo>
                <a:lnTo>
                  <a:pt x="3685" y="3288"/>
                </a:lnTo>
                <a:lnTo>
                  <a:pt x="3495" y="3272"/>
                </a:lnTo>
                <a:lnTo>
                  <a:pt x="3307" y="3248"/>
                </a:lnTo>
                <a:lnTo>
                  <a:pt x="3123" y="3219"/>
                </a:lnTo>
                <a:lnTo>
                  <a:pt x="2941" y="3183"/>
                </a:lnTo>
                <a:lnTo>
                  <a:pt x="2763" y="3142"/>
                </a:lnTo>
                <a:lnTo>
                  <a:pt x="2589" y="3094"/>
                </a:lnTo>
                <a:lnTo>
                  <a:pt x="2419" y="3042"/>
                </a:lnTo>
                <a:lnTo>
                  <a:pt x="2252" y="2983"/>
                </a:lnTo>
                <a:lnTo>
                  <a:pt x="2090" y="2919"/>
                </a:lnTo>
                <a:lnTo>
                  <a:pt x="1932" y="2850"/>
                </a:lnTo>
                <a:lnTo>
                  <a:pt x="1630" y="2698"/>
                </a:lnTo>
                <a:lnTo>
                  <a:pt x="1347" y="2526"/>
                </a:lnTo>
                <a:lnTo>
                  <a:pt x="1214" y="2433"/>
                </a:lnTo>
                <a:lnTo>
                  <a:pt x="1087" y="2336"/>
                </a:lnTo>
                <a:lnTo>
                  <a:pt x="965" y="2236"/>
                </a:lnTo>
                <a:lnTo>
                  <a:pt x="849" y="2130"/>
                </a:lnTo>
                <a:lnTo>
                  <a:pt x="636" y="1908"/>
                </a:lnTo>
                <a:lnTo>
                  <a:pt x="450" y="1673"/>
                </a:lnTo>
                <a:lnTo>
                  <a:pt x="368" y="1551"/>
                </a:lnTo>
                <a:lnTo>
                  <a:pt x="292" y="1425"/>
                </a:lnTo>
                <a:lnTo>
                  <a:pt x="223" y="1296"/>
                </a:lnTo>
                <a:lnTo>
                  <a:pt x="162" y="1164"/>
                </a:lnTo>
                <a:lnTo>
                  <a:pt x="109" y="1030"/>
                </a:lnTo>
                <a:lnTo>
                  <a:pt x="65" y="894"/>
                </a:lnTo>
                <a:lnTo>
                  <a:pt x="28" y="755"/>
                </a:lnTo>
                <a:lnTo>
                  <a:pt x="0" y="614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263680" y="4040280"/>
            <a:ext cx="2692440" cy="1746000"/>
          </a:xfrm>
          <a:custGeom>
            <a:avLst/>
            <a:gdLst/>
            <a:ahLst/>
            <a:rect l="l" t="t" r="r" b="b"/>
            <a:pathLst>
              <a:path w="5087" h="3302">
                <a:moveTo>
                  <a:pt x="5087" y="2592"/>
                </a:moveTo>
                <a:lnTo>
                  <a:pt x="4840" y="2632"/>
                </a:lnTo>
                <a:lnTo>
                  <a:pt x="4589" y="2662"/>
                </a:lnTo>
                <a:lnTo>
                  <a:pt x="4333" y="2681"/>
                </a:lnTo>
                <a:lnTo>
                  <a:pt x="4072" y="2687"/>
                </a:lnTo>
                <a:lnTo>
                  <a:pt x="3877" y="2683"/>
                </a:lnTo>
                <a:lnTo>
                  <a:pt x="3685" y="2673"/>
                </a:lnTo>
                <a:lnTo>
                  <a:pt x="3495" y="2657"/>
                </a:lnTo>
                <a:lnTo>
                  <a:pt x="3307" y="2633"/>
                </a:lnTo>
                <a:lnTo>
                  <a:pt x="3123" y="2604"/>
                </a:lnTo>
                <a:lnTo>
                  <a:pt x="2941" y="2568"/>
                </a:lnTo>
                <a:lnTo>
                  <a:pt x="2763" y="2527"/>
                </a:lnTo>
                <a:lnTo>
                  <a:pt x="2589" y="2480"/>
                </a:lnTo>
                <a:lnTo>
                  <a:pt x="2419" y="2427"/>
                </a:lnTo>
                <a:lnTo>
                  <a:pt x="2252" y="2369"/>
                </a:lnTo>
                <a:lnTo>
                  <a:pt x="2090" y="2305"/>
                </a:lnTo>
                <a:lnTo>
                  <a:pt x="1932" y="2236"/>
                </a:lnTo>
                <a:lnTo>
                  <a:pt x="1778" y="2162"/>
                </a:lnTo>
                <a:lnTo>
                  <a:pt x="1630" y="2083"/>
                </a:lnTo>
                <a:lnTo>
                  <a:pt x="1487" y="1999"/>
                </a:lnTo>
                <a:lnTo>
                  <a:pt x="1347" y="1912"/>
                </a:lnTo>
                <a:lnTo>
                  <a:pt x="1214" y="1819"/>
                </a:lnTo>
                <a:lnTo>
                  <a:pt x="1087" y="1722"/>
                </a:lnTo>
                <a:lnTo>
                  <a:pt x="965" y="1621"/>
                </a:lnTo>
                <a:lnTo>
                  <a:pt x="849" y="1515"/>
                </a:lnTo>
                <a:lnTo>
                  <a:pt x="636" y="1294"/>
                </a:lnTo>
                <a:lnTo>
                  <a:pt x="450" y="1058"/>
                </a:lnTo>
                <a:lnTo>
                  <a:pt x="368" y="936"/>
                </a:lnTo>
                <a:lnTo>
                  <a:pt x="292" y="810"/>
                </a:lnTo>
                <a:lnTo>
                  <a:pt x="223" y="681"/>
                </a:lnTo>
                <a:lnTo>
                  <a:pt x="162" y="550"/>
                </a:lnTo>
                <a:lnTo>
                  <a:pt x="109" y="416"/>
                </a:lnTo>
                <a:lnTo>
                  <a:pt x="65" y="280"/>
                </a:lnTo>
                <a:lnTo>
                  <a:pt x="28" y="140"/>
                </a:lnTo>
                <a:lnTo>
                  <a:pt x="0" y="0"/>
                </a:lnTo>
                <a:lnTo>
                  <a:pt x="0" y="614"/>
                </a:lnTo>
                <a:lnTo>
                  <a:pt x="28" y="755"/>
                </a:lnTo>
                <a:lnTo>
                  <a:pt x="65" y="894"/>
                </a:lnTo>
                <a:lnTo>
                  <a:pt x="109" y="1030"/>
                </a:lnTo>
                <a:lnTo>
                  <a:pt x="162" y="1164"/>
                </a:lnTo>
                <a:lnTo>
                  <a:pt x="223" y="1296"/>
                </a:lnTo>
                <a:lnTo>
                  <a:pt x="292" y="1425"/>
                </a:lnTo>
                <a:lnTo>
                  <a:pt x="368" y="1551"/>
                </a:lnTo>
                <a:lnTo>
                  <a:pt x="450" y="1673"/>
                </a:lnTo>
                <a:lnTo>
                  <a:pt x="636" y="1908"/>
                </a:lnTo>
                <a:lnTo>
                  <a:pt x="849" y="2130"/>
                </a:lnTo>
                <a:lnTo>
                  <a:pt x="965" y="2236"/>
                </a:lnTo>
                <a:lnTo>
                  <a:pt x="1087" y="2336"/>
                </a:lnTo>
                <a:lnTo>
                  <a:pt x="1214" y="2433"/>
                </a:lnTo>
                <a:lnTo>
                  <a:pt x="1347" y="2526"/>
                </a:lnTo>
                <a:lnTo>
                  <a:pt x="1487" y="2614"/>
                </a:lnTo>
                <a:lnTo>
                  <a:pt x="1630" y="2698"/>
                </a:lnTo>
                <a:lnTo>
                  <a:pt x="1778" y="2777"/>
                </a:lnTo>
                <a:lnTo>
                  <a:pt x="1932" y="2850"/>
                </a:lnTo>
                <a:lnTo>
                  <a:pt x="2090" y="2919"/>
                </a:lnTo>
                <a:lnTo>
                  <a:pt x="2252" y="2983"/>
                </a:lnTo>
                <a:lnTo>
                  <a:pt x="2419" y="3042"/>
                </a:lnTo>
                <a:lnTo>
                  <a:pt x="2589" y="3094"/>
                </a:lnTo>
                <a:lnTo>
                  <a:pt x="2763" y="3142"/>
                </a:lnTo>
                <a:lnTo>
                  <a:pt x="2941" y="3183"/>
                </a:lnTo>
                <a:lnTo>
                  <a:pt x="3123" y="3219"/>
                </a:lnTo>
                <a:lnTo>
                  <a:pt x="3307" y="3248"/>
                </a:lnTo>
                <a:lnTo>
                  <a:pt x="3495" y="3272"/>
                </a:lnTo>
                <a:lnTo>
                  <a:pt x="3685" y="3288"/>
                </a:lnTo>
                <a:lnTo>
                  <a:pt x="3877" y="3298"/>
                </a:lnTo>
                <a:lnTo>
                  <a:pt x="4072" y="3302"/>
                </a:lnTo>
                <a:lnTo>
                  <a:pt x="4333" y="3295"/>
                </a:lnTo>
                <a:lnTo>
                  <a:pt x="4589" y="3277"/>
                </a:lnTo>
                <a:lnTo>
                  <a:pt x="4840" y="3247"/>
                </a:lnTo>
                <a:lnTo>
                  <a:pt x="5087" y="3207"/>
                </a:lnTo>
                <a:lnTo>
                  <a:pt x="5087" y="2592"/>
                </a:lnTo>
                <a:close/>
              </a:path>
            </a:pathLst>
          </a:custGeom>
          <a:solidFill>
            <a:srgbClr val="7f3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263680" y="4040280"/>
            <a:ext cx="2692440" cy="1746000"/>
          </a:xfrm>
          <a:custGeom>
            <a:avLst/>
            <a:gdLst/>
            <a:ahLst/>
            <a:rect l="l" t="t" r="r" b="b"/>
            <a:pathLst>
              <a:path w="5087" h="3302">
                <a:moveTo>
                  <a:pt x="5087" y="2592"/>
                </a:moveTo>
                <a:lnTo>
                  <a:pt x="4840" y="2632"/>
                </a:lnTo>
                <a:lnTo>
                  <a:pt x="4589" y="2662"/>
                </a:lnTo>
                <a:lnTo>
                  <a:pt x="4333" y="2681"/>
                </a:lnTo>
                <a:lnTo>
                  <a:pt x="4072" y="2687"/>
                </a:lnTo>
                <a:lnTo>
                  <a:pt x="3877" y="2683"/>
                </a:lnTo>
                <a:lnTo>
                  <a:pt x="3685" y="2673"/>
                </a:lnTo>
                <a:lnTo>
                  <a:pt x="3495" y="2657"/>
                </a:lnTo>
                <a:lnTo>
                  <a:pt x="3307" y="2633"/>
                </a:lnTo>
                <a:lnTo>
                  <a:pt x="3123" y="2604"/>
                </a:lnTo>
                <a:lnTo>
                  <a:pt x="2941" y="2568"/>
                </a:lnTo>
                <a:lnTo>
                  <a:pt x="2763" y="2527"/>
                </a:lnTo>
                <a:lnTo>
                  <a:pt x="2589" y="2480"/>
                </a:lnTo>
                <a:lnTo>
                  <a:pt x="2419" y="2427"/>
                </a:lnTo>
                <a:lnTo>
                  <a:pt x="2252" y="2369"/>
                </a:lnTo>
                <a:lnTo>
                  <a:pt x="2090" y="2305"/>
                </a:lnTo>
                <a:lnTo>
                  <a:pt x="1932" y="2236"/>
                </a:lnTo>
                <a:lnTo>
                  <a:pt x="1778" y="2162"/>
                </a:lnTo>
                <a:lnTo>
                  <a:pt x="1630" y="2083"/>
                </a:lnTo>
                <a:lnTo>
                  <a:pt x="1487" y="1999"/>
                </a:lnTo>
                <a:lnTo>
                  <a:pt x="1347" y="1912"/>
                </a:lnTo>
                <a:lnTo>
                  <a:pt x="1214" y="1819"/>
                </a:lnTo>
                <a:lnTo>
                  <a:pt x="1087" y="1722"/>
                </a:lnTo>
                <a:lnTo>
                  <a:pt x="965" y="1621"/>
                </a:lnTo>
                <a:lnTo>
                  <a:pt x="849" y="1515"/>
                </a:lnTo>
                <a:lnTo>
                  <a:pt x="636" y="1294"/>
                </a:lnTo>
                <a:lnTo>
                  <a:pt x="450" y="1058"/>
                </a:lnTo>
                <a:lnTo>
                  <a:pt x="368" y="936"/>
                </a:lnTo>
                <a:lnTo>
                  <a:pt x="292" y="810"/>
                </a:lnTo>
                <a:lnTo>
                  <a:pt x="223" y="681"/>
                </a:lnTo>
                <a:lnTo>
                  <a:pt x="162" y="550"/>
                </a:lnTo>
                <a:lnTo>
                  <a:pt x="109" y="416"/>
                </a:lnTo>
                <a:lnTo>
                  <a:pt x="65" y="280"/>
                </a:lnTo>
                <a:lnTo>
                  <a:pt x="28" y="140"/>
                </a:lnTo>
                <a:lnTo>
                  <a:pt x="0" y="0"/>
                </a:lnTo>
                <a:lnTo>
                  <a:pt x="0" y="614"/>
                </a:lnTo>
                <a:lnTo>
                  <a:pt x="28" y="755"/>
                </a:lnTo>
                <a:lnTo>
                  <a:pt x="65" y="894"/>
                </a:lnTo>
                <a:lnTo>
                  <a:pt x="109" y="1030"/>
                </a:lnTo>
                <a:lnTo>
                  <a:pt x="162" y="1164"/>
                </a:lnTo>
                <a:lnTo>
                  <a:pt x="223" y="1296"/>
                </a:lnTo>
                <a:lnTo>
                  <a:pt x="292" y="1425"/>
                </a:lnTo>
                <a:lnTo>
                  <a:pt x="368" y="1551"/>
                </a:lnTo>
                <a:lnTo>
                  <a:pt x="450" y="1673"/>
                </a:lnTo>
                <a:lnTo>
                  <a:pt x="636" y="1908"/>
                </a:lnTo>
                <a:lnTo>
                  <a:pt x="849" y="2130"/>
                </a:lnTo>
                <a:lnTo>
                  <a:pt x="965" y="2236"/>
                </a:lnTo>
                <a:lnTo>
                  <a:pt x="1087" y="2336"/>
                </a:lnTo>
                <a:lnTo>
                  <a:pt x="1214" y="2433"/>
                </a:lnTo>
                <a:lnTo>
                  <a:pt x="1347" y="2526"/>
                </a:lnTo>
                <a:lnTo>
                  <a:pt x="1487" y="2614"/>
                </a:lnTo>
                <a:lnTo>
                  <a:pt x="1630" y="2698"/>
                </a:lnTo>
                <a:lnTo>
                  <a:pt x="1778" y="2777"/>
                </a:lnTo>
                <a:lnTo>
                  <a:pt x="1932" y="2850"/>
                </a:lnTo>
                <a:lnTo>
                  <a:pt x="2090" y="2919"/>
                </a:lnTo>
                <a:lnTo>
                  <a:pt x="2252" y="2983"/>
                </a:lnTo>
                <a:lnTo>
                  <a:pt x="2419" y="3042"/>
                </a:lnTo>
                <a:lnTo>
                  <a:pt x="2589" y="3094"/>
                </a:lnTo>
                <a:lnTo>
                  <a:pt x="2763" y="3142"/>
                </a:lnTo>
                <a:lnTo>
                  <a:pt x="2941" y="3183"/>
                </a:lnTo>
                <a:lnTo>
                  <a:pt x="3123" y="3219"/>
                </a:lnTo>
                <a:lnTo>
                  <a:pt x="3307" y="3248"/>
                </a:lnTo>
                <a:lnTo>
                  <a:pt x="3495" y="3272"/>
                </a:lnTo>
                <a:lnTo>
                  <a:pt x="3685" y="3288"/>
                </a:lnTo>
                <a:lnTo>
                  <a:pt x="3877" y="3298"/>
                </a:lnTo>
                <a:lnTo>
                  <a:pt x="4072" y="3302"/>
                </a:lnTo>
                <a:lnTo>
                  <a:pt x="4333" y="3295"/>
                </a:lnTo>
                <a:lnTo>
                  <a:pt x="4589" y="3277"/>
                </a:lnTo>
                <a:lnTo>
                  <a:pt x="4840" y="3247"/>
                </a:lnTo>
                <a:lnTo>
                  <a:pt x="5087" y="3207"/>
                </a:lnTo>
                <a:lnTo>
                  <a:pt x="5087" y="259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79760" y="1727280"/>
            <a:ext cx="4146480" cy="1628640"/>
          </a:xfrm>
          <a:custGeom>
            <a:avLst/>
            <a:gdLst/>
            <a:ahLst/>
            <a:rect l="l" t="t" r="r" b="b"/>
            <a:pathLst>
              <a:path w="7838" h="3077">
                <a:moveTo>
                  <a:pt x="7838" y="3077"/>
                </a:moveTo>
                <a:lnTo>
                  <a:pt x="7833" y="2918"/>
                </a:lnTo>
                <a:lnTo>
                  <a:pt x="7816" y="2761"/>
                </a:lnTo>
                <a:lnTo>
                  <a:pt x="7790" y="2608"/>
                </a:lnTo>
                <a:lnTo>
                  <a:pt x="7754" y="2456"/>
                </a:lnTo>
                <a:lnTo>
                  <a:pt x="7708" y="2308"/>
                </a:lnTo>
                <a:lnTo>
                  <a:pt x="7653" y="2161"/>
                </a:lnTo>
                <a:lnTo>
                  <a:pt x="7588" y="2018"/>
                </a:lnTo>
                <a:lnTo>
                  <a:pt x="7515" y="1879"/>
                </a:lnTo>
                <a:lnTo>
                  <a:pt x="7433" y="1743"/>
                </a:lnTo>
                <a:lnTo>
                  <a:pt x="7342" y="1610"/>
                </a:lnTo>
                <a:lnTo>
                  <a:pt x="7243" y="1480"/>
                </a:lnTo>
                <a:lnTo>
                  <a:pt x="7137" y="1356"/>
                </a:lnTo>
                <a:lnTo>
                  <a:pt x="7022" y="1235"/>
                </a:lnTo>
                <a:lnTo>
                  <a:pt x="6900" y="1119"/>
                </a:lnTo>
                <a:lnTo>
                  <a:pt x="6771" y="1007"/>
                </a:lnTo>
                <a:lnTo>
                  <a:pt x="6636" y="900"/>
                </a:lnTo>
                <a:lnTo>
                  <a:pt x="6493" y="799"/>
                </a:lnTo>
                <a:lnTo>
                  <a:pt x="6344" y="702"/>
                </a:lnTo>
                <a:lnTo>
                  <a:pt x="6189" y="611"/>
                </a:lnTo>
                <a:lnTo>
                  <a:pt x="6028" y="524"/>
                </a:lnTo>
                <a:lnTo>
                  <a:pt x="5861" y="445"/>
                </a:lnTo>
                <a:lnTo>
                  <a:pt x="5690" y="370"/>
                </a:lnTo>
                <a:lnTo>
                  <a:pt x="5512" y="303"/>
                </a:lnTo>
                <a:lnTo>
                  <a:pt x="5331" y="240"/>
                </a:lnTo>
                <a:lnTo>
                  <a:pt x="5144" y="185"/>
                </a:lnTo>
                <a:lnTo>
                  <a:pt x="4954" y="138"/>
                </a:lnTo>
                <a:lnTo>
                  <a:pt x="4759" y="96"/>
                </a:lnTo>
                <a:lnTo>
                  <a:pt x="4560" y="61"/>
                </a:lnTo>
                <a:lnTo>
                  <a:pt x="4358" y="34"/>
                </a:lnTo>
                <a:lnTo>
                  <a:pt x="4153" y="15"/>
                </a:lnTo>
                <a:lnTo>
                  <a:pt x="3944" y="3"/>
                </a:lnTo>
                <a:lnTo>
                  <a:pt x="3733" y="0"/>
                </a:lnTo>
                <a:lnTo>
                  <a:pt x="3425" y="7"/>
                </a:lnTo>
                <a:lnTo>
                  <a:pt x="3123" y="33"/>
                </a:lnTo>
                <a:lnTo>
                  <a:pt x="2828" y="74"/>
                </a:lnTo>
                <a:lnTo>
                  <a:pt x="2541" y="130"/>
                </a:lnTo>
                <a:lnTo>
                  <a:pt x="2263" y="203"/>
                </a:lnTo>
                <a:lnTo>
                  <a:pt x="1994" y="288"/>
                </a:lnTo>
                <a:lnTo>
                  <a:pt x="1735" y="387"/>
                </a:lnTo>
                <a:lnTo>
                  <a:pt x="1488" y="500"/>
                </a:lnTo>
                <a:lnTo>
                  <a:pt x="1252" y="625"/>
                </a:lnTo>
                <a:lnTo>
                  <a:pt x="1029" y="761"/>
                </a:lnTo>
                <a:lnTo>
                  <a:pt x="819" y="909"/>
                </a:lnTo>
                <a:lnTo>
                  <a:pt x="624" y="1068"/>
                </a:lnTo>
                <a:lnTo>
                  <a:pt x="443" y="1236"/>
                </a:lnTo>
                <a:lnTo>
                  <a:pt x="278" y="1415"/>
                </a:lnTo>
                <a:lnTo>
                  <a:pt x="130" y="1601"/>
                </a:lnTo>
                <a:lnTo>
                  <a:pt x="0" y="1797"/>
                </a:lnTo>
                <a:lnTo>
                  <a:pt x="3733" y="3077"/>
                </a:lnTo>
                <a:lnTo>
                  <a:pt x="7838" y="3077"/>
                </a:lnTo>
                <a:close/>
              </a:path>
            </a:pathLst>
          </a:custGeom>
          <a:solidFill>
            <a:srgbClr val="004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79760" y="1727280"/>
            <a:ext cx="4146480" cy="1628640"/>
          </a:xfrm>
          <a:custGeom>
            <a:avLst/>
            <a:gdLst/>
            <a:ahLst/>
            <a:rect l="l" t="t" r="r" b="b"/>
            <a:pathLst>
              <a:path w="7838" h="3077">
                <a:moveTo>
                  <a:pt x="7838" y="3077"/>
                </a:moveTo>
                <a:lnTo>
                  <a:pt x="7833" y="2918"/>
                </a:lnTo>
                <a:lnTo>
                  <a:pt x="7816" y="2761"/>
                </a:lnTo>
                <a:lnTo>
                  <a:pt x="7790" y="2608"/>
                </a:lnTo>
                <a:lnTo>
                  <a:pt x="7754" y="2456"/>
                </a:lnTo>
                <a:lnTo>
                  <a:pt x="7708" y="2308"/>
                </a:lnTo>
                <a:lnTo>
                  <a:pt x="7653" y="2161"/>
                </a:lnTo>
                <a:lnTo>
                  <a:pt x="7588" y="2018"/>
                </a:lnTo>
                <a:lnTo>
                  <a:pt x="7515" y="1879"/>
                </a:lnTo>
                <a:lnTo>
                  <a:pt x="7433" y="1743"/>
                </a:lnTo>
                <a:lnTo>
                  <a:pt x="7342" y="1610"/>
                </a:lnTo>
                <a:lnTo>
                  <a:pt x="7243" y="1480"/>
                </a:lnTo>
                <a:lnTo>
                  <a:pt x="7137" y="1356"/>
                </a:lnTo>
                <a:lnTo>
                  <a:pt x="7022" y="1235"/>
                </a:lnTo>
                <a:lnTo>
                  <a:pt x="6900" y="1119"/>
                </a:lnTo>
                <a:lnTo>
                  <a:pt x="6771" y="1007"/>
                </a:lnTo>
                <a:lnTo>
                  <a:pt x="6636" y="900"/>
                </a:lnTo>
                <a:lnTo>
                  <a:pt x="6493" y="799"/>
                </a:lnTo>
                <a:lnTo>
                  <a:pt x="6344" y="702"/>
                </a:lnTo>
                <a:lnTo>
                  <a:pt x="6189" y="611"/>
                </a:lnTo>
                <a:lnTo>
                  <a:pt x="6028" y="524"/>
                </a:lnTo>
                <a:lnTo>
                  <a:pt x="5861" y="445"/>
                </a:lnTo>
                <a:lnTo>
                  <a:pt x="5690" y="370"/>
                </a:lnTo>
                <a:lnTo>
                  <a:pt x="5512" y="303"/>
                </a:lnTo>
                <a:lnTo>
                  <a:pt x="5331" y="240"/>
                </a:lnTo>
                <a:lnTo>
                  <a:pt x="5144" y="185"/>
                </a:lnTo>
                <a:lnTo>
                  <a:pt x="4954" y="138"/>
                </a:lnTo>
                <a:lnTo>
                  <a:pt x="4759" y="96"/>
                </a:lnTo>
                <a:lnTo>
                  <a:pt x="4560" y="61"/>
                </a:lnTo>
                <a:lnTo>
                  <a:pt x="4358" y="34"/>
                </a:lnTo>
                <a:lnTo>
                  <a:pt x="4153" y="15"/>
                </a:lnTo>
                <a:lnTo>
                  <a:pt x="3944" y="3"/>
                </a:lnTo>
                <a:lnTo>
                  <a:pt x="3733" y="0"/>
                </a:lnTo>
                <a:lnTo>
                  <a:pt x="3425" y="7"/>
                </a:lnTo>
                <a:lnTo>
                  <a:pt x="3123" y="33"/>
                </a:lnTo>
                <a:lnTo>
                  <a:pt x="2828" y="74"/>
                </a:lnTo>
                <a:lnTo>
                  <a:pt x="2541" y="130"/>
                </a:lnTo>
                <a:lnTo>
                  <a:pt x="2263" y="203"/>
                </a:lnTo>
                <a:lnTo>
                  <a:pt x="1994" y="288"/>
                </a:lnTo>
                <a:lnTo>
                  <a:pt x="1735" y="387"/>
                </a:lnTo>
                <a:lnTo>
                  <a:pt x="1488" y="500"/>
                </a:lnTo>
                <a:lnTo>
                  <a:pt x="1252" y="625"/>
                </a:lnTo>
                <a:lnTo>
                  <a:pt x="1029" y="761"/>
                </a:lnTo>
                <a:lnTo>
                  <a:pt x="819" y="909"/>
                </a:lnTo>
                <a:lnTo>
                  <a:pt x="624" y="1068"/>
                </a:lnTo>
                <a:lnTo>
                  <a:pt x="443" y="1236"/>
                </a:lnTo>
                <a:lnTo>
                  <a:pt x="278" y="1415"/>
                </a:lnTo>
                <a:lnTo>
                  <a:pt x="130" y="1601"/>
                </a:lnTo>
                <a:lnTo>
                  <a:pt x="0" y="1797"/>
                </a:lnTo>
                <a:lnTo>
                  <a:pt x="3733" y="3077"/>
                </a:lnTo>
                <a:lnTo>
                  <a:pt x="7838" y="3077"/>
                </a:lnTo>
                <a:lnTo>
                  <a:pt x="7838" y="307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010120" y="1554120"/>
            <a:ext cx="60480" cy="20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920" y="3833640"/>
            <a:ext cx="2173320" cy="495360"/>
          </a:xfrm>
          <a:custGeom>
            <a:avLst/>
            <a:gdLst/>
            <a:ahLst/>
            <a:rect l="l" t="t" r="r" b="b"/>
            <a:pathLst>
              <a:path w="4105" h="936">
                <a:moveTo>
                  <a:pt x="3910" y="936"/>
                </a:moveTo>
                <a:lnTo>
                  <a:pt x="3994" y="711"/>
                </a:lnTo>
                <a:lnTo>
                  <a:pt x="4054" y="479"/>
                </a:lnTo>
                <a:lnTo>
                  <a:pt x="4092" y="242"/>
                </a:lnTo>
                <a:lnTo>
                  <a:pt x="4105" y="0"/>
                </a:lnTo>
                <a:lnTo>
                  <a:pt x="0" y="0"/>
                </a:lnTo>
                <a:lnTo>
                  <a:pt x="3910" y="936"/>
                </a:lnTo>
                <a:close/>
              </a:path>
            </a:pathLst>
          </a:custGeom>
          <a:solidFill>
            <a:srgbClr val="004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17920" y="3833640"/>
            <a:ext cx="2173320" cy="495360"/>
          </a:xfrm>
          <a:custGeom>
            <a:avLst/>
            <a:gdLst/>
            <a:ahLst/>
            <a:rect l="l" t="t" r="r" b="b"/>
            <a:pathLst>
              <a:path w="4105" h="936">
                <a:moveTo>
                  <a:pt x="3910" y="936"/>
                </a:moveTo>
                <a:lnTo>
                  <a:pt x="3994" y="711"/>
                </a:lnTo>
                <a:lnTo>
                  <a:pt x="4054" y="479"/>
                </a:lnTo>
                <a:lnTo>
                  <a:pt x="4092" y="242"/>
                </a:lnTo>
                <a:lnTo>
                  <a:pt x="4105" y="0"/>
                </a:lnTo>
                <a:lnTo>
                  <a:pt x="0" y="0"/>
                </a:lnTo>
                <a:lnTo>
                  <a:pt x="3910" y="936"/>
                </a:lnTo>
                <a:lnTo>
                  <a:pt x="3910" y="93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6040" y="4403880"/>
            <a:ext cx="2142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417920" y="3833640"/>
            <a:ext cx="2070360" cy="928800"/>
          </a:xfrm>
          <a:custGeom>
            <a:avLst/>
            <a:gdLst/>
            <a:ahLst/>
            <a:rect l="l" t="t" r="r" b="b"/>
            <a:pathLst>
              <a:path w="3910" h="1757">
                <a:moveTo>
                  <a:pt x="3370" y="1757"/>
                </a:moveTo>
                <a:lnTo>
                  <a:pt x="3535" y="1565"/>
                </a:lnTo>
                <a:lnTo>
                  <a:pt x="3679" y="1363"/>
                </a:lnTo>
                <a:lnTo>
                  <a:pt x="3806" y="1153"/>
                </a:lnTo>
                <a:lnTo>
                  <a:pt x="3910" y="936"/>
                </a:lnTo>
                <a:lnTo>
                  <a:pt x="0" y="0"/>
                </a:lnTo>
                <a:lnTo>
                  <a:pt x="3370" y="1757"/>
                </a:lnTo>
                <a:close/>
              </a:path>
            </a:pathLst>
          </a:cu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7920" y="3833640"/>
            <a:ext cx="2070360" cy="928800"/>
          </a:xfrm>
          <a:custGeom>
            <a:avLst/>
            <a:gdLst/>
            <a:ahLst/>
            <a:rect l="l" t="t" r="r" b="b"/>
            <a:pathLst>
              <a:path w="3910" h="1757">
                <a:moveTo>
                  <a:pt x="3370" y="1757"/>
                </a:moveTo>
                <a:lnTo>
                  <a:pt x="3535" y="1565"/>
                </a:lnTo>
                <a:lnTo>
                  <a:pt x="3679" y="1363"/>
                </a:lnTo>
                <a:lnTo>
                  <a:pt x="3806" y="1153"/>
                </a:lnTo>
                <a:lnTo>
                  <a:pt x="3910" y="936"/>
                </a:lnTo>
                <a:lnTo>
                  <a:pt x="0" y="0"/>
                </a:lnTo>
                <a:lnTo>
                  <a:pt x="3370" y="1757"/>
                </a:lnTo>
                <a:lnTo>
                  <a:pt x="3370" y="17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370560" y="4871880"/>
            <a:ext cx="203400" cy="7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17920" y="3833640"/>
            <a:ext cx="1784520" cy="1079640"/>
          </a:xfrm>
          <a:custGeom>
            <a:avLst/>
            <a:gdLst/>
            <a:ahLst/>
            <a:rect l="l" t="t" r="r" b="b"/>
            <a:pathLst>
              <a:path w="3370" h="2041">
                <a:moveTo>
                  <a:pt x="3071" y="2041"/>
                </a:moveTo>
                <a:lnTo>
                  <a:pt x="3226" y="1902"/>
                </a:lnTo>
                <a:lnTo>
                  <a:pt x="3370" y="1756"/>
                </a:lnTo>
                <a:lnTo>
                  <a:pt x="0" y="0"/>
                </a:lnTo>
                <a:lnTo>
                  <a:pt x="3071" y="2041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7920" y="3833640"/>
            <a:ext cx="1784520" cy="1079640"/>
          </a:xfrm>
          <a:custGeom>
            <a:avLst/>
            <a:gdLst/>
            <a:ahLst/>
            <a:rect l="l" t="t" r="r" b="b"/>
            <a:pathLst>
              <a:path w="3370" h="2041">
                <a:moveTo>
                  <a:pt x="3071" y="2041"/>
                </a:moveTo>
                <a:lnTo>
                  <a:pt x="3226" y="1902"/>
                </a:lnTo>
                <a:lnTo>
                  <a:pt x="3370" y="1756"/>
                </a:lnTo>
                <a:lnTo>
                  <a:pt x="0" y="0"/>
                </a:lnTo>
                <a:lnTo>
                  <a:pt x="3071" y="2041"/>
                </a:lnTo>
                <a:lnTo>
                  <a:pt x="3071" y="204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127920" y="5162400"/>
            <a:ext cx="18720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17920" y="3833640"/>
            <a:ext cx="1625760" cy="1578240"/>
          </a:xfrm>
          <a:custGeom>
            <a:avLst/>
            <a:gdLst/>
            <a:ahLst/>
            <a:rect l="l" t="t" r="r" b="b"/>
            <a:pathLst>
              <a:path w="3071" h="2982">
                <a:moveTo>
                  <a:pt x="1015" y="2982"/>
                </a:moveTo>
                <a:lnTo>
                  <a:pt x="1313" y="2916"/>
                </a:lnTo>
                <a:lnTo>
                  <a:pt x="1601" y="2834"/>
                </a:lnTo>
                <a:lnTo>
                  <a:pt x="1879" y="2736"/>
                </a:lnTo>
                <a:lnTo>
                  <a:pt x="2144" y="2624"/>
                </a:lnTo>
                <a:lnTo>
                  <a:pt x="2397" y="2497"/>
                </a:lnTo>
                <a:lnTo>
                  <a:pt x="2637" y="2358"/>
                </a:lnTo>
                <a:lnTo>
                  <a:pt x="2862" y="2206"/>
                </a:lnTo>
                <a:lnTo>
                  <a:pt x="3071" y="2041"/>
                </a:lnTo>
                <a:lnTo>
                  <a:pt x="0" y="0"/>
                </a:lnTo>
                <a:lnTo>
                  <a:pt x="1015" y="298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7920" y="3833640"/>
            <a:ext cx="1625760" cy="1578240"/>
          </a:xfrm>
          <a:custGeom>
            <a:avLst/>
            <a:gdLst/>
            <a:ahLst/>
            <a:rect l="l" t="t" r="r" b="b"/>
            <a:pathLst>
              <a:path w="3071" h="2982">
                <a:moveTo>
                  <a:pt x="1015" y="2982"/>
                </a:moveTo>
                <a:lnTo>
                  <a:pt x="1313" y="2916"/>
                </a:lnTo>
                <a:lnTo>
                  <a:pt x="1601" y="2834"/>
                </a:lnTo>
                <a:lnTo>
                  <a:pt x="1879" y="2736"/>
                </a:lnTo>
                <a:lnTo>
                  <a:pt x="2144" y="2624"/>
                </a:lnTo>
                <a:lnTo>
                  <a:pt x="2397" y="2497"/>
                </a:lnTo>
                <a:lnTo>
                  <a:pt x="2637" y="2358"/>
                </a:lnTo>
                <a:lnTo>
                  <a:pt x="2862" y="2206"/>
                </a:lnTo>
                <a:lnTo>
                  <a:pt x="3071" y="2041"/>
                </a:lnTo>
                <a:lnTo>
                  <a:pt x="0" y="0"/>
                </a:lnTo>
                <a:lnTo>
                  <a:pt x="1015" y="2982"/>
                </a:lnTo>
                <a:lnTo>
                  <a:pt x="1015" y="29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43640" y="5551560"/>
            <a:ext cx="136440" cy="16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46400" y="3156120"/>
            <a:ext cx="2171520" cy="884160"/>
          </a:xfrm>
          <a:custGeom>
            <a:avLst/>
            <a:gdLst/>
            <a:ahLst/>
            <a:rect l="l" t="t" r="r" b="b"/>
            <a:pathLst>
              <a:path w="4104" h="1670">
                <a:moveTo>
                  <a:pt x="371" y="0"/>
                </a:moveTo>
                <a:lnTo>
                  <a:pt x="286" y="148"/>
                </a:lnTo>
                <a:lnTo>
                  <a:pt x="213" y="299"/>
                </a:lnTo>
                <a:lnTo>
                  <a:pt x="149" y="456"/>
                </a:lnTo>
                <a:lnTo>
                  <a:pt x="96" y="615"/>
                </a:lnTo>
                <a:lnTo>
                  <a:pt x="54" y="777"/>
                </a:lnTo>
                <a:lnTo>
                  <a:pt x="24" y="942"/>
                </a:lnTo>
                <a:lnTo>
                  <a:pt x="5" y="1109"/>
                </a:lnTo>
                <a:lnTo>
                  <a:pt x="0" y="1280"/>
                </a:lnTo>
                <a:lnTo>
                  <a:pt x="7" y="1476"/>
                </a:lnTo>
                <a:lnTo>
                  <a:pt x="32" y="1670"/>
                </a:lnTo>
                <a:lnTo>
                  <a:pt x="4104" y="1280"/>
                </a:lnTo>
                <a:lnTo>
                  <a:pt x="371" y="0"/>
                </a:lnTo>
                <a:close/>
              </a:path>
            </a:pathLst>
          </a:custGeom>
          <a:solidFill>
            <a:srgbClr val="bf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46400" y="3156120"/>
            <a:ext cx="2171520" cy="884160"/>
          </a:xfrm>
          <a:custGeom>
            <a:avLst/>
            <a:gdLst/>
            <a:ahLst/>
            <a:rect l="l" t="t" r="r" b="b"/>
            <a:pathLst>
              <a:path w="4104" h="1670">
                <a:moveTo>
                  <a:pt x="371" y="0"/>
                </a:moveTo>
                <a:lnTo>
                  <a:pt x="286" y="148"/>
                </a:lnTo>
                <a:lnTo>
                  <a:pt x="213" y="299"/>
                </a:lnTo>
                <a:lnTo>
                  <a:pt x="149" y="456"/>
                </a:lnTo>
                <a:lnTo>
                  <a:pt x="96" y="615"/>
                </a:lnTo>
                <a:lnTo>
                  <a:pt x="54" y="777"/>
                </a:lnTo>
                <a:lnTo>
                  <a:pt x="24" y="942"/>
                </a:lnTo>
                <a:lnTo>
                  <a:pt x="5" y="1109"/>
                </a:lnTo>
                <a:lnTo>
                  <a:pt x="0" y="1280"/>
                </a:lnTo>
                <a:lnTo>
                  <a:pt x="7" y="1476"/>
                </a:lnTo>
                <a:lnTo>
                  <a:pt x="32" y="1670"/>
                </a:lnTo>
                <a:lnTo>
                  <a:pt x="4104" y="1280"/>
                </a:lnTo>
                <a:lnTo>
                  <a:pt x="371" y="0"/>
                </a:lnTo>
                <a:lnTo>
                  <a:pt x="37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2055600" y="3565440"/>
            <a:ext cx="2156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63680" y="3833640"/>
            <a:ext cx="2692440" cy="1627200"/>
          </a:xfrm>
          <a:custGeom>
            <a:avLst/>
            <a:gdLst/>
            <a:ahLst/>
            <a:rect l="l" t="t" r="r" b="b"/>
            <a:pathLst>
              <a:path w="5087" h="3077">
                <a:moveTo>
                  <a:pt x="0" y="390"/>
                </a:moveTo>
                <a:lnTo>
                  <a:pt x="28" y="530"/>
                </a:lnTo>
                <a:lnTo>
                  <a:pt x="65" y="670"/>
                </a:lnTo>
                <a:lnTo>
                  <a:pt x="109" y="806"/>
                </a:lnTo>
                <a:lnTo>
                  <a:pt x="162" y="940"/>
                </a:lnTo>
                <a:lnTo>
                  <a:pt x="223" y="1071"/>
                </a:lnTo>
                <a:lnTo>
                  <a:pt x="292" y="1200"/>
                </a:lnTo>
                <a:lnTo>
                  <a:pt x="368" y="1326"/>
                </a:lnTo>
                <a:lnTo>
                  <a:pt x="450" y="1448"/>
                </a:lnTo>
                <a:lnTo>
                  <a:pt x="636" y="1684"/>
                </a:lnTo>
                <a:lnTo>
                  <a:pt x="849" y="1905"/>
                </a:lnTo>
                <a:lnTo>
                  <a:pt x="965" y="2011"/>
                </a:lnTo>
                <a:lnTo>
                  <a:pt x="1087" y="2112"/>
                </a:lnTo>
                <a:lnTo>
                  <a:pt x="1214" y="2209"/>
                </a:lnTo>
                <a:lnTo>
                  <a:pt x="1347" y="2302"/>
                </a:lnTo>
                <a:lnTo>
                  <a:pt x="1630" y="2473"/>
                </a:lnTo>
                <a:lnTo>
                  <a:pt x="1932" y="2626"/>
                </a:lnTo>
                <a:lnTo>
                  <a:pt x="2090" y="2695"/>
                </a:lnTo>
                <a:lnTo>
                  <a:pt x="2252" y="2759"/>
                </a:lnTo>
                <a:lnTo>
                  <a:pt x="2419" y="2817"/>
                </a:lnTo>
                <a:lnTo>
                  <a:pt x="2589" y="2870"/>
                </a:lnTo>
                <a:lnTo>
                  <a:pt x="2763" y="2917"/>
                </a:lnTo>
                <a:lnTo>
                  <a:pt x="2941" y="2958"/>
                </a:lnTo>
                <a:lnTo>
                  <a:pt x="3123" y="2994"/>
                </a:lnTo>
                <a:lnTo>
                  <a:pt x="3307" y="3023"/>
                </a:lnTo>
                <a:lnTo>
                  <a:pt x="3495" y="3047"/>
                </a:lnTo>
                <a:lnTo>
                  <a:pt x="3685" y="3063"/>
                </a:lnTo>
                <a:lnTo>
                  <a:pt x="3877" y="3073"/>
                </a:lnTo>
                <a:lnTo>
                  <a:pt x="4072" y="3077"/>
                </a:lnTo>
                <a:lnTo>
                  <a:pt x="4333" y="3071"/>
                </a:lnTo>
                <a:lnTo>
                  <a:pt x="4589" y="3052"/>
                </a:lnTo>
                <a:lnTo>
                  <a:pt x="4840" y="3022"/>
                </a:lnTo>
                <a:lnTo>
                  <a:pt x="5087" y="2982"/>
                </a:lnTo>
                <a:lnTo>
                  <a:pt x="4072" y="0"/>
                </a:lnTo>
                <a:lnTo>
                  <a:pt x="0" y="39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63680" y="3833640"/>
            <a:ext cx="2692440" cy="1627200"/>
          </a:xfrm>
          <a:custGeom>
            <a:avLst/>
            <a:gdLst/>
            <a:ahLst/>
            <a:rect l="l" t="t" r="r" b="b"/>
            <a:pathLst>
              <a:path w="5087" h="3077">
                <a:moveTo>
                  <a:pt x="0" y="390"/>
                </a:moveTo>
                <a:lnTo>
                  <a:pt x="28" y="530"/>
                </a:lnTo>
                <a:lnTo>
                  <a:pt x="65" y="670"/>
                </a:lnTo>
                <a:lnTo>
                  <a:pt x="109" y="806"/>
                </a:lnTo>
                <a:lnTo>
                  <a:pt x="162" y="940"/>
                </a:lnTo>
                <a:lnTo>
                  <a:pt x="223" y="1071"/>
                </a:lnTo>
                <a:lnTo>
                  <a:pt x="292" y="1200"/>
                </a:lnTo>
                <a:lnTo>
                  <a:pt x="368" y="1326"/>
                </a:lnTo>
                <a:lnTo>
                  <a:pt x="450" y="1448"/>
                </a:lnTo>
                <a:lnTo>
                  <a:pt x="636" y="1684"/>
                </a:lnTo>
                <a:lnTo>
                  <a:pt x="849" y="1905"/>
                </a:lnTo>
                <a:lnTo>
                  <a:pt x="965" y="2011"/>
                </a:lnTo>
                <a:lnTo>
                  <a:pt x="1087" y="2112"/>
                </a:lnTo>
                <a:lnTo>
                  <a:pt x="1214" y="2209"/>
                </a:lnTo>
                <a:lnTo>
                  <a:pt x="1347" y="2302"/>
                </a:lnTo>
                <a:lnTo>
                  <a:pt x="1630" y="2473"/>
                </a:lnTo>
                <a:lnTo>
                  <a:pt x="1932" y="2626"/>
                </a:lnTo>
                <a:lnTo>
                  <a:pt x="2090" y="2695"/>
                </a:lnTo>
                <a:lnTo>
                  <a:pt x="2252" y="2759"/>
                </a:lnTo>
                <a:lnTo>
                  <a:pt x="2419" y="2817"/>
                </a:lnTo>
                <a:lnTo>
                  <a:pt x="2589" y="2870"/>
                </a:lnTo>
                <a:lnTo>
                  <a:pt x="2763" y="2917"/>
                </a:lnTo>
                <a:lnTo>
                  <a:pt x="2941" y="2958"/>
                </a:lnTo>
                <a:lnTo>
                  <a:pt x="3123" y="2994"/>
                </a:lnTo>
                <a:lnTo>
                  <a:pt x="3307" y="3023"/>
                </a:lnTo>
                <a:lnTo>
                  <a:pt x="3495" y="3047"/>
                </a:lnTo>
                <a:lnTo>
                  <a:pt x="3685" y="3063"/>
                </a:lnTo>
                <a:lnTo>
                  <a:pt x="3877" y="3073"/>
                </a:lnTo>
                <a:lnTo>
                  <a:pt x="4072" y="3077"/>
                </a:lnTo>
                <a:lnTo>
                  <a:pt x="4333" y="3071"/>
                </a:lnTo>
                <a:lnTo>
                  <a:pt x="4589" y="3052"/>
                </a:lnTo>
                <a:lnTo>
                  <a:pt x="4840" y="3022"/>
                </a:lnTo>
                <a:lnTo>
                  <a:pt x="5087" y="2982"/>
                </a:lnTo>
                <a:lnTo>
                  <a:pt x="4072" y="0"/>
                </a:lnTo>
                <a:lnTo>
                  <a:pt x="0" y="390"/>
                </a:lnTo>
                <a:lnTo>
                  <a:pt x="0" y="3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038400" y="5499000"/>
            <a:ext cx="147600" cy="16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376880" y="1309680"/>
            <a:ext cx="148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S.pneumonia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4440" y="3446640"/>
            <a:ext cx="127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H.influenza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19640" y="566748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M.pneumonia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78280" y="5729400"/>
            <a:ext cx="149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C.pneumonia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314040" y="5281560"/>
            <a:ext cx="159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L.pneumophil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572160" y="495468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naerob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781680" y="4311720"/>
            <a:ext cx="5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770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lationship Between Patient Types, Pulmonary Function, and Likely Pathog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3081240" y="5713560"/>
            <a:ext cx="695520" cy="6120"/>
          </a:xfrm>
          <a:custGeom>
            <a:avLst/>
            <a:gdLst/>
            <a:ahLst/>
            <a:rect l="l" t="t" r="r" b="b"/>
            <a:pathLst>
              <a:path w="438" h="4">
                <a:moveTo>
                  <a:pt x="0" y="0"/>
                </a:moveTo>
                <a:lnTo>
                  <a:pt x="437" y="3"/>
                </a:ln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6400" y="2187720"/>
            <a:ext cx="7658280" cy="3352680"/>
          </a:xfrm>
          <a:prstGeom prst="rect">
            <a:avLst/>
          </a:prstGeom>
          <a:solidFill>
            <a:srgbClr val="ff0000"/>
          </a:solidFill>
          <a:ln w="12600">
            <a:solidFill>
              <a:srgbClr val="fe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31760" y="5538960"/>
            <a:ext cx="2024280" cy="334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e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55640" y="5489640"/>
            <a:ext cx="2133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anist Dm SWC"/>
              </a:rPr>
              <a:t>Acute Bronchitis</a:t>
            </a:r>
            <a:r>
              <a:rPr b="0" lang="en-US" sz="1600" spc="-1" strike="noStrike">
                <a:solidFill>
                  <a:srgbClr val="ffffff"/>
                </a:solidFill>
                <a:latin typeface="ZapfHumanist Dm SW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-1084680" y="3686400"/>
            <a:ext cx="3332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Humanist Dm SWC"/>
              </a:rPr>
              <a:t>FE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ZapfHumanist Dm SWC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ZapfHumanist Dm SWC"/>
              </a:rPr>
              <a:t>% 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27360" y="5870520"/>
            <a:ext cx="4710240" cy="609480"/>
          </a:xfrm>
          <a:prstGeom prst="rect">
            <a:avLst/>
          </a:prstGeom>
          <a:gradFill rotWithShape="0">
            <a:gsLst>
              <a:gs pos="0">
                <a:srgbClr val="321e00"/>
              </a:gs>
              <a:gs pos="100000">
                <a:srgbClr val="de8400"/>
              </a:gs>
            </a:gsLst>
            <a:lin ang="10800000"/>
          </a:gradFill>
          <a:ln w="12600">
            <a:solidFill>
              <a:srgbClr val="e28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651120" y="5537160"/>
            <a:ext cx="4710240" cy="333360"/>
          </a:xfrm>
          <a:prstGeom prst="rect">
            <a:avLst/>
          </a:prstGeom>
          <a:solidFill>
            <a:srgbClr val="ff0000"/>
          </a:solidFill>
          <a:ln w="12600">
            <a:solidFill>
              <a:srgbClr val="fe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888440" y="554688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anist Dm SWC"/>
              </a:rPr>
              <a:t>Chronic Bronch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29160" y="5883120"/>
            <a:ext cx="1143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anist Dm SWC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8520" y="5883120"/>
            <a:ext cx="1450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anist Dm SWC"/>
              </a:rPr>
              <a:t>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68000" y="5883120"/>
            <a:ext cx="1504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anist Dm SWC"/>
              </a:rPr>
              <a:t>Complic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ZapfHumanist Dm SWC"/>
              </a:rPr>
              <a:t>PLUS Ri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66680" y="2362320"/>
            <a:ext cx="7442280" cy="2904840"/>
          </a:xfrm>
          <a:custGeom>
            <a:avLst/>
            <a:gdLst/>
            <a:ahLst/>
            <a:rect l="l" t="t" r="r" b="b"/>
            <a:pathLst>
              <a:path w="4688" h="1830">
                <a:moveTo>
                  <a:pt x="0" y="0"/>
                </a:moveTo>
                <a:lnTo>
                  <a:pt x="585" y="0"/>
                </a:lnTo>
                <a:lnTo>
                  <a:pt x="1171" y="0"/>
                </a:lnTo>
                <a:lnTo>
                  <a:pt x="1757" y="0"/>
                </a:lnTo>
                <a:lnTo>
                  <a:pt x="2343" y="0"/>
                </a:lnTo>
                <a:lnTo>
                  <a:pt x="2929" y="0"/>
                </a:lnTo>
                <a:lnTo>
                  <a:pt x="3515" y="0"/>
                </a:lnTo>
                <a:lnTo>
                  <a:pt x="4101" y="0"/>
                </a:lnTo>
                <a:lnTo>
                  <a:pt x="4687" y="0"/>
                </a:lnTo>
                <a:lnTo>
                  <a:pt x="4687" y="457"/>
                </a:lnTo>
                <a:lnTo>
                  <a:pt x="4687" y="914"/>
                </a:lnTo>
                <a:lnTo>
                  <a:pt x="4687" y="1371"/>
                </a:lnTo>
                <a:lnTo>
                  <a:pt x="4687" y="1829"/>
                </a:lnTo>
                <a:lnTo>
                  <a:pt x="4069" y="1829"/>
                </a:lnTo>
                <a:lnTo>
                  <a:pt x="3451" y="1829"/>
                </a:lnTo>
                <a:lnTo>
                  <a:pt x="3451" y="1516"/>
                </a:lnTo>
                <a:lnTo>
                  <a:pt x="2700" y="1516"/>
                </a:lnTo>
                <a:lnTo>
                  <a:pt x="2700" y="1217"/>
                </a:lnTo>
                <a:lnTo>
                  <a:pt x="2169" y="1217"/>
                </a:lnTo>
                <a:lnTo>
                  <a:pt x="1639" y="1217"/>
                </a:lnTo>
                <a:lnTo>
                  <a:pt x="1639" y="918"/>
                </a:lnTo>
                <a:lnTo>
                  <a:pt x="1121" y="918"/>
                </a:lnTo>
                <a:lnTo>
                  <a:pt x="603" y="918"/>
                </a:lnTo>
                <a:lnTo>
                  <a:pt x="603" y="618"/>
                </a:lnTo>
                <a:lnTo>
                  <a:pt x="0" y="61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e8400"/>
              </a:gs>
              <a:gs pos="100000">
                <a:srgbClr val="321e00"/>
              </a:gs>
            </a:gsLst>
            <a:lin ang="5400000"/>
          </a:gradFill>
          <a:ln cap="rnd" w="12600">
            <a:solidFill>
              <a:srgbClr val="fe97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33720" y="3440160"/>
            <a:ext cx="695160" cy="6480"/>
          </a:xfrm>
          <a:custGeom>
            <a:avLst/>
            <a:gdLst/>
            <a:ahLst/>
            <a:rect l="l" t="t" r="r" b="b"/>
            <a:pathLst>
              <a:path w="438" h="4">
                <a:moveTo>
                  <a:pt x="0" y="0"/>
                </a:moveTo>
                <a:lnTo>
                  <a:pt x="437" y="3"/>
                </a:ln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79120" y="2405160"/>
            <a:ext cx="519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anist Dm SWC"/>
              </a:rPr>
              <a:t>Viral, allergens, pollutants, cigarette sm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98640" y="267012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ZapfHumanist Dm SWC"/>
              </a:rPr>
              <a:t>M.pneumoniae, C.pneumon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79720" y="3203640"/>
            <a:ext cx="363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ZapfHumanist Dm SWC"/>
              </a:rPr>
              <a:t>H.influenzae, S.pneumon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82880" y="2797200"/>
            <a:ext cx="6486480" cy="496800"/>
          </a:xfrm>
          <a:custGeom>
            <a:avLst/>
            <a:gdLst/>
            <a:ahLst/>
            <a:rect l="l" t="t" r="r" b="b"/>
            <a:pathLst>
              <a:path w="4086" h="313">
                <a:moveTo>
                  <a:pt x="0" y="312"/>
                </a:moveTo>
                <a:lnTo>
                  <a:pt x="0" y="0"/>
                </a:lnTo>
                <a:lnTo>
                  <a:pt x="40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3246480"/>
            <a:ext cx="4840200" cy="520560"/>
          </a:xfrm>
          <a:custGeom>
            <a:avLst/>
            <a:gdLst/>
            <a:ahLst/>
            <a:rect l="l" t="t" r="r" b="b"/>
            <a:pathLst>
              <a:path w="3049" h="328">
                <a:moveTo>
                  <a:pt x="0" y="327"/>
                </a:moveTo>
                <a:lnTo>
                  <a:pt x="0" y="0"/>
                </a:lnTo>
                <a:lnTo>
                  <a:pt x="30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11800" y="3772080"/>
            <a:ext cx="3157560" cy="474480"/>
          </a:xfrm>
          <a:custGeom>
            <a:avLst/>
            <a:gdLst/>
            <a:ahLst/>
            <a:rect l="l" t="t" r="r" b="b"/>
            <a:pathLst>
              <a:path w="1989" h="299">
                <a:moveTo>
                  <a:pt x="0" y="298"/>
                </a:moveTo>
                <a:lnTo>
                  <a:pt x="0" y="0"/>
                </a:lnTo>
                <a:lnTo>
                  <a:pt x="19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08800" y="4253040"/>
            <a:ext cx="1960560" cy="466560"/>
          </a:xfrm>
          <a:custGeom>
            <a:avLst/>
            <a:gdLst/>
            <a:ahLst/>
            <a:rect l="l" t="t" r="r" b="b"/>
            <a:pathLst>
              <a:path w="1235" h="294">
                <a:moveTo>
                  <a:pt x="0" y="293"/>
                </a:moveTo>
                <a:lnTo>
                  <a:pt x="0" y="0"/>
                </a:lnTo>
                <a:lnTo>
                  <a:pt x="12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1280" y="3276720"/>
            <a:ext cx="4772160" cy="1957320"/>
          </a:xfrm>
          <a:custGeom>
            <a:avLst/>
            <a:gdLst/>
            <a:ahLst/>
            <a:rect l="l" t="t" r="r" b="b"/>
            <a:pathLst>
              <a:path w="3006" h="1233">
                <a:moveTo>
                  <a:pt x="0" y="0"/>
                </a:moveTo>
                <a:lnTo>
                  <a:pt x="3005" y="1232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16120" y="3067200"/>
            <a:ext cx="2234880" cy="369720"/>
          </a:xfrm>
          <a:custGeom>
            <a:avLst/>
            <a:gdLst/>
            <a:ahLst/>
            <a:rect l="l" t="t" r="r" b="b"/>
            <a:pathLst>
              <a:path w="1408" h="233">
                <a:moveTo>
                  <a:pt x="0" y="1"/>
                </a:moveTo>
                <a:lnTo>
                  <a:pt x="786" y="0"/>
                </a:lnTo>
                <a:lnTo>
                  <a:pt x="1407" y="232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145200" y="3741840"/>
            <a:ext cx="23004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ZapfHumanist Dm SWC"/>
              </a:rPr>
              <a:t>Enterobacteriaceae Pseudomonas spp Gram-neg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ZapfHumanist Dm SWC"/>
              </a:rPr>
              <a:t>Resistant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75880" y="151920"/>
            <a:ext cx="648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Fattori da considerare  nella scelta della terapia antibio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6264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lezione del paziente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to della c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a di sommini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celta dell’antibio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osagg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umero di somministr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717200" y="263520"/>
            <a:ext cx="56610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so clinico degli antibiot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e9b03"/>
                </a:solidFill>
                <a:latin typeface="Comic Sans MS"/>
              </a:rPr>
              <a:t>Concetti Generali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Attività in vit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armacocinetica e farmacodinam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azioni av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Resisten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lin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s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58680" y="1828800"/>
            <a:ext cx="9026640" cy="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74800" y="263520"/>
            <a:ext cx="566424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so clinico degli antibiot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rmacocinetica e farmacodinam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Killing concentrazione-dipenden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Killing concentrazione-independen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ffetto post-antibio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netrazione tissu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a di escrezione / metaboli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cilità di 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58680" y="1752480"/>
            <a:ext cx="9026640" cy="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Uso clinico degli antibiot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76360" y="1905120"/>
            <a:ext cx="7991280" cy="440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e9b03"/>
                </a:solidFill>
                <a:latin typeface="Comic Sans MS"/>
              </a:rPr>
              <a:t>Approccio alla terapia empiric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to di infe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cro-organismo proba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mpio spettro se il p. è molto mal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difica la  terapia in base alle cultu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rmaco ottimale: lunga emi-vita, bassa tossicità, poco costo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58680" y="1600200"/>
            <a:ext cx="9026640" cy="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Figura7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479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4913280" y="5164200"/>
            <a:ext cx="24256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40000"/>
                </a:solidFill>
                <a:latin typeface="Bookman Old Style"/>
              </a:rPr>
              <a:t>Impeti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65080" y="213840"/>
            <a:ext cx="6631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Uso clinico degli antibiot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8059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e9b03"/>
                </a:solidFill>
                <a:latin typeface="Comic Sans MS"/>
              </a:rPr>
              <a:t>Classi di Antibiotic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- Lattam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nicilline, cefalosporine, carbapenemici, monolattamici 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ctamase inibit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copept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nol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rol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minoglicos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119160" y="1066680"/>
            <a:ext cx="9024840" cy="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03320" y="151920"/>
            <a:ext cx="629928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Empirical antibiotic therap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hoosing antimicrobial drugs i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The art of matching the probability of infection with a given pathogen with the probability that the drugs are active against that pathogen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t involves  a twofold gamb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- that the patient has a bacterial inf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- that appropriate antibiotics are sel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ndeed, a computer program is significantly more effective than physician in selecting antimicrobial regim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624852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(Cesedevall, CID, 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59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Possibile “equazione”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   della terapia antimicrobic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43256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ezione grave = via parente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ezione grave = ospedalizz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spedalizzazione = via parente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Criteri per scegliere la via parenteral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ssorbimento ridotto, vom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ncata disponibilità di antibiotici or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ravità della malatt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jectable antibiotic consumptions in some European countries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Public Market, 1998, Units (mil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143000" y="2362320"/>
          <a:ext cx="715968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71596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Riduzione dei fattori di rischio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ttamento al seno almeno per i primi 6 mesi di v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vita l’allattaento con il bambino supino (bottle propp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liminazione del “cicciotto” nel secondo semestre di v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liminazione della esposizione al fumo pas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1600200" y="1752480"/>
          <a:ext cx="6477120" cy="29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477120" cy="29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5715000" y="0"/>
            <a:ext cx="289548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ibiotico o 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019920" y="1143000"/>
            <a:ext cx="2590560" cy="838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e antibiot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0"/>
            <a:ext cx="2514600" cy="1143000"/>
          </a:xfrm>
          <a:prstGeom prst="cloudCallout">
            <a:avLst>
              <a:gd name="adj1" fmla="val 75819"/>
              <a:gd name="adj2" fmla="val 1036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 mando all’otori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7200" y="1219320"/>
            <a:ext cx="3124080" cy="1218960"/>
          </a:xfrm>
          <a:prstGeom prst="cloudCallout">
            <a:avLst>
              <a:gd name="adj1" fmla="val 85416"/>
              <a:gd name="adj2" fmla="val 65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se viene una complican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3886200"/>
            <a:ext cx="1600200" cy="762120"/>
          </a:xfrm>
          <a:prstGeom prst="smileyFace">
            <a:avLst>
              <a:gd name="adj" fmla="val -4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495680" y="4038480"/>
            <a:ext cx="26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stress ..ragazz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2743200" y="5943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diapositive sono disponibili sul sito internet www.mariolarosa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0" name="fleming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328920" cy="5029200"/>
          </a:xfrm>
          <a:prstGeom prst="rect">
            <a:avLst/>
          </a:prstGeom>
          <a:ln w="0">
            <a:noFill/>
          </a:ln>
        </p:spPr>
      </p:pic>
      <p:pic>
        <p:nvPicPr>
          <p:cNvPr id="841" name="Penicillium" descr="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 flipH="1">
            <a:off x="838080" y="0"/>
            <a:ext cx="4114800" cy="1371600"/>
          </a:xfrm>
          <a:prstGeom prst="cloudCallout">
            <a:avLst>
              <a:gd name="adj1" fmla="val -69949"/>
              <a:gd name="adj2" fmla="val 570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 che combin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 la mia penicill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Figura8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25495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75" name="Figura9" descr=""/>
          <p:cNvPicPr/>
          <p:nvPr/>
        </p:nvPicPr>
        <p:blipFill>
          <a:blip r:embed="rId2"/>
          <a:stretch/>
        </p:blipFill>
        <p:spPr>
          <a:xfrm>
            <a:off x="1203480" y="3352680"/>
            <a:ext cx="5197320" cy="34099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4876920" y="1295280"/>
            <a:ext cx="327636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Bookman Old Style"/>
              </a:rPr>
              <a:t>Impeti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Figura10" descr=""/>
          <p:cNvPicPr/>
          <p:nvPr/>
        </p:nvPicPr>
        <p:blipFill>
          <a:blip r:embed="rId1"/>
          <a:stretch/>
        </p:blipFill>
        <p:spPr>
          <a:xfrm>
            <a:off x="1295280" y="793800"/>
            <a:ext cx="6842160" cy="45403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4876920" y="5791320"/>
            <a:ext cx="32763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Ec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5791320"/>
            <a:ext cx="3276360" cy="581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ookman Old Style"/>
              </a:rPr>
              <a:t>Pioder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1000"/>
            <a:ext cx="77724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7819" dir="2700000" blurRad="0" rotWithShape="0">
              <a:srgbClr val="3c3c5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Streptococco </a:t>
            </a:r>
            <a:r>
              <a:rPr b="1" lang="it-IT" sz="2400" spc="-1" strike="noStrike">
                <a:solidFill>
                  <a:srgbClr val="ffff99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ff99"/>
                </a:solidFill>
                <a:latin typeface="Bookman Old Style"/>
              </a:rPr>
              <a:t>-emolitico di gruppo A (SB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143000"/>
            <a:ext cx="8534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Quadri Cl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Infezioni cuta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Infezioni sistem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Faringotonsillite ac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38098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Complic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Febbre reu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 algn="just">
              <a:lnSpc>
                <a:spcPct val="150000"/>
              </a:lnSpc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Bookman Old Style"/>
              </a:rPr>
              <a:t>Glomerulonefrite ac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45000" y="6070680"/>
            <a:ext cx="18511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Bookman Old Style"/>
              </a:rPr>
              <a:t>Da La Rosa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4:22:41Z</dcterms:created>
  <dc:creator>newtot</dc:creator>
  <dc:description/>
  <dc:language>en-US</dc:language>
  <cp:lastModifiedBy>mlarosa</cp:lastModifiedBy>
  <dcterms:modified xsi:type="dcterms:W3CDTF">2004-11-02T12:17:56Z</dcterms:modified>
  <cp:revision>43</cp:revision>
  <dc:subject/>
  <dc:title>Common Pediatric Inf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10514747</vt:r8>
  </property>
  <property fmtid="{D5CDD505-2E9C-101B-9397-08002B2CF9AE}" pid="3" name="_AuthorEmail">
    <vt:lpwstr>Thomas.Newton@Andrews.af.mil</vt:lpwstr>
  </property>
  <property fmtid="{D5CDD505-2E9C-101B-9397-08002B2CF9AE}" pid="4" name="_AuthorEmailDisplayName">
    <vt:lpwstr>Newton Thomas Maj 89 MDG/SGOCP</vt:lpwstr>
  </property>
  <property fmtid="{D5CDD505-2E9C-101B-9397-08002B2CF9AE}" pid="5" name="_EmailSubject">
    <vt:lpwstr>presentation</vt:lpwstr>
  </property>
</Properties>
</file>